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BBB-502C-4C43-9201-333ADCC3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A93-3974-4D80-81F5-870BCA79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73D-75BB-46BD-BC66-BB657F3B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472-9683-4739-9A1D-B5003CA7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AD55-78F1-4C9A-8483-8D41863F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23F4-3979-48AB-A1C0-FB10C6BC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EDFA-A7BF-4D99-8A01-8268B537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4563-309C-43EE-AD02-BBBA2D46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1F90-991A-4D29-9B1B-6808913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5298-4870-49C5-8E0B-079B331A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07EE-BEB7-4AA6-90C1-72DD617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B6D-A6C2-4988-8649-BE8D8523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990B-757D-45FD-A4F1-4878C3F4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DF4A-FA8C-41E4-8BCF-8F8AE60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C671-9222-47E9-AF89-DC9098BB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0D67-8D73-4B32-AD5E-CDF0A5CD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241B-3874-4F77-B570-AF75CB50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AF2-1C08-4110-90FF-29E0EE04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041-1CCB-4395-BB18-1A04F540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D99-21CD-48AD-9065-95C373BD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281-A25F-48D6-996E-41A81C0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D0A-03F9-4989-A234-CE73F525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0ED-CDF4-4845-9FA7-2E1BFC91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EBC-C655-47A6-8C58-BA9E7E98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115F-06BB-4B62-9A7F-851ECA5B7212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6680" y="176040"/>
            <a:ext cx="87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Campi magnetici ambientali in bassa frequenza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            Napoli, ottobre 2003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8E7D-E9CF-4344-9BD2-2767ADC00E36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482920"/>
            <a:ext cx="9144000" cy="224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Campi magnetici ambientali in bassa frequenza: </a:t>
            </a:r>
            <a:br>
              <a:rPr sz="4800"/>
            </a:br>
            <a:r>
              <a:rPr b="1" i="1" lang="it-IT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metodi di analisi e applicazioni</a:t>
            </a:r>
            <a:r>
              <a:rPr b="1" lang="it-IT" sz="4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92040" y="20772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Prof. Mario Chiamp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Dipartimento di Ingegneria Elettrica Industria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Politecnico di Torin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4840" y="171360"/>
          <a:ext cx="1600200" cy="15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171360"/>
                    <a:ext cx="160020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79280" y="5973840"/>
            <a:ext cx="43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ff"/>
                </a:solidFill>
                <a:latin typeface="Times New Roman"/>
              </a:rPr>
              <a:t>Napoli, ottobre 2003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4320" y="703080"/>
            <a:ext cx="6235560" cy="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Campo magnetico terrestre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8" name="Immagine" descr=""/>
          <p:cNvPicPr/>
          <p:nvPr/>
        </p:nvPicPr>
        <p:blipFill>
          <a:blip r:embed="rId1"/>
          <a:srcRect l="0" t="-476" r="52814" b="55376"/>
          <a:stretch/>
        </p:blipFill>
        <p:spPr>
          <a:xfrm>
            <a:off x="895320" y="1258920"/>
            <a:ext cx="7315200" cy="494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08040" y="61196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Linee isolivello del campo magnetico terrest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2880" y="704880"/>
            <a:ext cx="690084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Impianti di trazione tranviaria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9120" y="6340320"/>
            <a:ext cx="8755200" cy="5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Distribuzione di induzione magnetica relativa ad una linea tranviaria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Immagineg" descr=""/>
          <p:cNvPicPr/>
          <p:nvPr/>
        </p:nvPicPr>
        <p:blipFill>
          <a:blip r:embed="rId1"/>
          <a:srcRect l="3917" t="631" r="72578" b="78259"/>
          <a:stretch/>
        </p:blipFill>
        <p:spPr>
          <a:xfrm>
            <a:off x="0" y="1447920"/>
            <a:ext cx="7777080" cy="4943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794720" y="2386080"/>
            <a:ext cx="134928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Valor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Massimo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0.16 m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1880" y="703440"/>
            <a:ext cx="652140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Impianti di trazione ferroviaria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3320" y="1397160"/>
            <a:ext cx="87678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6699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nduzione magnetica (</a:t>
            </a:r>
            <a:r>
              <a:rPr b="0" lang="it-IT" sz="2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) all’interno del corridoio di un locomotor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Immagineh" descr=""/>
          <p:cNvPicPr/>
          <p:nvPr/>
        </p:nvPicPr>
        <p:blipFill>
          <a:blip r:embed="rId1"/>
          <a:srcRect l="11685" t="1143" r="49343" b="71544"/>
          <a:stretch/>
        </p:blipFill>
        <p:spPr>
          <a:xfrm>
            <a:off x="0" y="2316240"/>
            <a:ext cx="91440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560" y="910800"/>
            <a:ext cx="88059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Risonanza Magnetica Nuclear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130480"/>
            <a:ext cx="510552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3366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La strumentazione RMN utilizza un campo magnetico a radiofrequenza al quale è sovrapposto a un campo magnetostatico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buClr>
                <a:srgbClr val="3366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I valori di induzione del campo statico possono arrivare fino a 4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2" name="Immagine" descr=""/>
          <p:cNvPicPr/>
          <p:nvPr/>
        </p:nvPicPr>
        <p:blipFill>
          <a:blip r:embed="rId1"/>
          <a:srcRect l="253" t="250" r="78281" b="70282"/>
          <a:stretch/>
        </p:blipFill>
        <p:spPr>
          <a:xfrm>
            <a:off x="5281560" y="2103480"/>
            <a:ext cx="38624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Effetti del campo magnetico B.F.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88600" y="1560240"/>
            <a:ext cx="7940520" cy="483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Malfunzionamenti di video terminali  o altri apparecchi elettronici con induzioni superiori a qualche microtesla;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nterazioni con le funzioni biologiche del corpo umano con effetti: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diretti e calcolabili (correnti indotte all’interno del corpo);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a lungo termine, rilevabili attraverso indagini epidemiologiche, la cui interpretazione resta, al momento attuale, controversa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560" y="738000"/>
            <a:ext cx="88059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Sorgenti di campo magnetico B.F.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8080" y="1712520"/>
            <a:ext cx="7940520" cy="48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Linee elettriche aeree e in cavo per trasporto e distribuzione;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Sottostazioni e cabine di trasformazione;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mpianti di trazione ferroviaria;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Cavidotti e sistemi di conduttori rigidi in ambienti industriali e domestici;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Macchine e apparecchiature elettriche industriali;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Elettrodomestici.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560" y="738000"/>
            <a:ext cx="88059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Impianti di trasporto e distribuzion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6459120"/>
            <a:ext cx="8061120" cy="3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stribuzione di induzione sotto una linea aerea a 130 kV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2" name="Immaginec" descr=""/>
          <p:cNvPicPr/>
          <p:nvPr/>
        </p:nvPicPr>
        <p:blipFill>
          <a:blip r:embed="rId1"/>
          <a:srcRect l="1196" t="226" r="54288" b="62341"/>
          <a:stretch/>
        </p:blipFill>
        <p:spPr>
          <a:xfrm>
            <a:off x="411120" y="1390680"/>
            <a:ext cx="83869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560" y="738000"/>
            <a:ext cx="88059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Impianti di trasporto e distribuzion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6017760"/>
            <a:ext cx="794052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Valori medi su base annuale rilevati alla distanza di 5 m da una linea aerea a 132 kV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6" name="Immagined" descr=""/>
          <p:cNvPicPr/>
          <p:nvPr/>
        </p:nvPicPr>
        <p:blipFill>
          <a:blip r:embed="rId1"/>
          <a:srcRect l="1946" t="1524" r="42460" b="57507"/>
          <a:stretch/>
        </p:blipFill>
        <p:spPr>
          <a:xfrm>
            <a:off x="755640" y="1422360"/>
            <a:ext cx="74754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560" y="738000"/>
            <a:ext cx="88059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Cabina di trasformazione MT/B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2055960"/>
            <a:ext cx="4656240" cy="38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A ridosso di quadri o cavi BT 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da 10 </a:t>
            </a:r>
            <a:r>
              <a:rPr b="0" lang="it-IT" sz="2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 a 150 </a:t>
            </a:r>
            <a:r>
              <a:rPr b="0" lang="it-IT" sz="2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Presso il trasformatore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da decimi fino ad alcuni </a:t>
            </a:r>
            <a:r>
              <a:rPr b="0" lang="it-IT" sz="2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A ridosso del quadro MT: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da decimi fino a decine di </a:t>
            </a:r>
            <a:r>
              <a:rPr b="0" lang="it-IT" sz="2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0" name="Immagineb" descr=""/>
          <p:cNvPicPr/>
          <p:nvPr/>
        </p:nvPicPr>
        <p:blipFill>
          <a:blip r:embed="rId1"/>
          <a:srcRect l="649" t="0" r="72056" b="64865"/>
          <a:stretch/>
        </p:blipFill>
        <p:spPr>
          <a:xfrm>
            <a:off x="4564080" y="1836720"/>
            <a:ext cx="45799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560" y="738000"/>
            <a:ext cx="880596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Ambiente industrial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0040" y="1401840"/>
            <a:ext cx="825516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Sorgente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Induzione magnetica B (</a:t>
            </a:r>
            <a:r>
              <a:rPr b="0" lang="it-IT" sz="2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T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saldatrice a punti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180 - 4100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saldatrice ad arc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5 – 350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torni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  0.1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fresatric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  0.5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tranciatric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 21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rettificatric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2.3 – 17.3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sega elettrica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  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compressor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  0.3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apparato per elettroerosione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 1.4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Struttura dell’intervent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7840" y="183636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Introduzion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Normativa tecnica e legislazion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Modelli e metodi di calcolo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Analisi sperimental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Tecniche di riduzione dei campi magnetici ambiental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200400"/>
            <a:ext cx="678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560" y="738000"/>
            <a:ext cx="8805960" cy="54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Ambiente lavorativ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6" name="Immaginee" descr=""/>
          <p:cNvPicPr/>
          <p:nvPr/>
        </p:nvPicPr>
        <p:blipFill>
          <a:blip r:embed="rId1"/>
          <a:srcRect l="0" t="15228" r="60337" b="44815"/>
          <a:stretch/>
        </p:blipFill>
        <p:spPr>
          <a:xfrm>
            <a:off x="1271520" y="1353960"/>
            <a:ext cx="7675560" cy="5473800"/>
          </a:xfrm>
          <a:prstGeom prst="rect">
            <a:avLst/>
          </a:prstGeom>
          <a:ln w="0">
            <a:noFill/>
          </a:ln>
        </p:spPr>
      </p:pic>
      <p:pic>
        <p:nvPicPr>
          <p:cNvPr id="157" name="domestici" descr=""/>
          <p:cNvPicPr/>
          <p:nvPr/>
        </p:nvPicPr>
        <p:blipFill>
          <a:blip r:embed="rId2"/>
          <a:srcRect l="30209" t="0" r="50597" b="81457"/>
          <a:stretch/>
        </p:blipFill>
        <p:spPr>
          <a:xfrm>
            <a:off x="195120" y="3255840"/>
            <a:ext cx="1229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61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Ambiente domestic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8440" y="1712520"/>
            <a:ext cx="825480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Sorgente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Induzione magnetica B (</a:t>
            </a:r>
            <a:r>
              <a:rPr b="0" lang="it-IT" sz="2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T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rasoi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10 - 100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aspirapolver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8 – 3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asciugacapelli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05 - 2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televisor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0.5 - 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ferro da stir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0.2 - 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forno elettric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0.1 – 0.7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frigorifero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0.01 – 0.03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560" y="738000"/>
            <a:ext cx="880596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Ambiente domestic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3" name="domestici" descr=""/>
          <p:cNvPicPr/>
          <p:nvPr/>
        </p:nvPicPr>
        <p:blipFill>
          <a:blip r:embed="rId1"/>
          <a:srcRect l="0" t="27822" r="0" b="0"/>
          <a:stretch/>
        </p:blipFill>
        <p:spPr>
          <a:xfrm>
            <a:off x="1260360" y="1303200"/>
            <a:ext cx="7883640" cy="5554800"/>
          </a:xfrm>
          <a:prstGeom prst="rect">
            <a:avLst/>
          </a:prstGeom>
          <a:ln w="0">
            <a:noFill/>
          </a:ln>
        </p:spPr>
      </p:pic>
      <p:pic>
        <p:nvPicPr>
          <p:cNvPr id="164" name="domestici" descr=""/>
          <p:cNvPicPr/>
          <p:nvPr/>
        </p:nvPicPr>
        <p:blipFill>
          <a:blip r:embed="rId2"/>
          <a:srcRect l="30209" t="0" r="50597" b="81457"/>
          <a:stretch/>
        </p:blipFill>
        <p:spPr>
          <a:xfrm>
            <a:off x="179280" y="3375000"/>
            <a:ext cx="1228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61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Ambiente domestic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7" name="Immaginec" descr=""/>
          <p:cNvPicPr/>
          <p:nvPr/>
        </p:nvPicPr>
        <p:blipFill>
          <a:blip r:embed="rId1"/>
          <a:srcRect l="0" t="0" r="38602" b="42160"/>
          <a:stretch/>
        </p:blipFill>
        <p:spPr>
          <a:xfrm>
            <a:off x="530280" y="1441440"/>
            <a:ext cx="812484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560" y="738000"/>
            <a:ext cx="880596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Analisi sperimental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8080" y="1647360"/>
            <a:ext cx="7940520" cy="50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Consiste nella misura dell’induzione magnetica e può essere, ovviamente, effettuata solo su impianti esistenti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E’ la procedura richiesta dalla normativa tecnica e dalla legislazione per la caratterizzazione dell’impianto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Le misure di una grandezza con forte variabilità spaziale e temporale richiedono procedure complesse per fornire risultati affidabili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Indagini sperimentali in laboratorio possono rivelarsi utili anche in problemi progettuali (ad esempio per valutare le capacità schermanti di materiali diversi)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Analisi modellistica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4960" y="1785960"/>
            <a:ext cx="794088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nsiste nella previsione dei livelli di induzione magnetica ottenuta facendo uso di strumenti matematici (analitici o numerici) per la soluzione delle equazioni di camp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Rappresenta l’unico approccio possibile durante la fase progettuale dell’impianto o delle soluzioni da adottare per ridurre i livelli di emission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analisi modellistica è un utilissimo complemento all’indagine sperimentale per la verifica degli impianti esistent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9560" y="82980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Introduzion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2033640"/>
            <a:ext cx="8686800" cy="38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Definizioni general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Effetti dei campi magnetici ambientali in bassa frequenz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Sorgenti e livelli di emission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Metodi di analis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200400"/>
            <a:ext cx="678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Campi ambientali in bassa frequenza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41160"/>
            <a:ext cx="9067680" cy="473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 campi ambientali in bassa frequenza sono campi (elettrici o magnetici), che si manifestano al di fuori delle apparecchiature elettriche e che non sono specificatamente creati per una ben definita applicazione, ma sono generati come effetti secondari di altri fenomeni elettromagnetici.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 campi ambientali di solito hanno valori relativamente bassi e si manifestano in domini ampi, se confrontati con le dimensioni dei componenti elettrici.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Bassa Frequenza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398600"/>
            <a:ext cx="9067680" cy="526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La limitazione dell’analisi al campo della bassa frequenza (</a:t>
            </a:r>
            <a:r>
              <a:rPr b="0" i="1" lang="it-IT" sz="3200" spc="-1" strike="noStrike">
                <a:solidFill>
                  <a:srgbClr val="336699"/>
                </a:solidFill>
                <a:latin typeface="Arial"/>
              </a:rPr>
              <a:t>f</a:t>
            </a: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 &lt; 1kHz) comporta che: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il campo elettrico ed il campo magnetico si possono trattare separatamente;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l’evoluzione delle grandezze elettriche e magnetiche può essere considerata simultanea in ogni punto del sistema, trascurando gli effetti di propagazione;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le correnti di spostamento possono essere trascurate;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gli effetti termici sugli organismi biologici sono trascurabili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Campi elettrici ambientali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019240"/>
            <a:ext cx="9067680" cy="36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 campi elettrici ambientali in bassa frequenza hanno valori significativi solo in prossimità di linee di trasporto in alta tensione.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 campi elettrici ambientali in bassa frequenza sono in genere ridotti in modo significativo dalla presenza di strutture che presentino una conducibilità non trascurabile (gabbia di Faraday).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Effetti del campo magnetostatic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6240" y="1912680"/>
            <a:ext cx="794052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Malfunzionamenti di video terminali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Danni a carte magnetiche, nastri magnetici, dischi, orologi metallici per valori superiori a 1mT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Possibilità di azioni meccaniche violente dovute a effetti attrattivi su oggetti ferromagnetici (&gt; 3mT)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Campi statici con induzione superiore a 0.5 mT possono influenzare il comportamento degli stimolatori cardiaci (pacemaker);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99"/>
                </a:solidFill>
                <a:latin typeface="Arial"/>
              </a:rPr>
              <a:t>Portatori di protesi ferromagnetiche o di altri apparati azionati elettricamente possono avere problemi per campi superiori a qualche millitesla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Sorgenti di campo magnetostatic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3240" y="1568520"/>
            <a:ext cx="79408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Campo magnetico terrestre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mpianti di alimentazione per trazione tranviaria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mpianti di alimentazione per trazione ferroviaria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mpianti elettrochimici per l’elettrolisi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Impianti di elettrodeposizione galvanica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Arial"/>
              </a:rPr>
              <a:t>Sistemi per Risonanza Magnetica Nucleare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Campo magnetico terrestr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60320"/>
            <a:ext cx="906768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3366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La natura di dipolo magnetico del pianeta produce il campo magnetico terrestr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buClr>
                <a:srgbClr val="3366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Esso è omogeneo in una data regione di spazio anche se è perturbato dalla presenza di masse ferrose e  varia con la longitudine in un intervallo indicativo di valori tra 20 e 60 </a:t>
            </a:r>
            <a:r>
              <a:rPr b="0" lang="it-IT" sz="2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buClr>
                <a:srgbClr val="336699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La presenza del campo magnetico terrestre richiede l’uso di procedure di compensazione nelle misure, effettuate con sonde ad effetto Hall, di campi magnetici che presentino una componente stazionaria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10:20:30Z</dcterms:created>
  <dc:creator>diei</dc:creator>
  <dc:description/>
  <dc:language>en-US</dc:language>
  <cp:lastModifiedBy>Elettromeccanica</cp:lastModifiedBy>
  <cp:lastPrinted>2001-04-30T19:01:29Z</cp:lastPrinted>
  <dcterms:modified xsi:type="dcterms:W3CDTF">2003-10-20T06:22:26Z</dcterms:modified>
  <cp:revision>220</cp:revision>
  <dc:subject/>
  <dc:title>I Campi Elettromagnetici: Definizioni Generali</dc:title>
</cp:coreProperties>
</file>