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BFE-621B-45F1-8CBC-8F643981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2E8-8BB5-4968-983E-EDAFFC66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998-F471-466E-A2AA-6EA64448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D03-D25C-4C3A-B30C-D9031C8D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F3AF-9E6E-4A74-B113-F83AD28D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DBF9-97C8-4265-B073-AE6BABBD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250F-C1B7-42D8-81AD-3F7975BB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A989-44F5-4777-AA5D-3649BCAB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91C0-C4A7-471A-BA91-70646AA5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7E37-752A-486D-99A5-9DF7B038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67EC-8971-4DCC-A33E-3571E5FC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932-60B8-460E-A451-509FE0F6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83CE-97CF-4172-B515-E2453F3D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0DDB-DEBA-49CD-ACA9-32CC3FA5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D4BA-274D-4BF7-925E-89006F86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EC6C-3CED-41F8-9BCE-B654E833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694F-08B1-4580-9B20-01AE73C5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2EE-075E-403F-9F21-A100EDF0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808-9AD0-4CA1-9DAE-50DA2C8B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BE0-574D-4BC8-9060-CD6AD2A0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D70-829A-4EE6-B30F-82408D1A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D84-545D-4F63-AC4D-A3C9BB80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C2A-B36C-4BA0-B8CA-FB1A083B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0B3-04E2-4BEF-9FAE-4DD8DE7D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239A-F869-41E4-83FA-4708DF3528B0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6680" y="176040"/>
            <a:ext cx="87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Campi magnetici ambientali in bassa frequenza         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             Napoli, ottobre 2003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708200"/>
            <a:ext cx="914868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627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2C36-C425-4D3B-B58E-B2CCFE21264C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2880" y="829800"/>
            <a:ext cx="8029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Normativa tecnica e legislazion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4200" y="2033640"/>
            <a:ext cx="8686800" cy="38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Criteri per la definizione dei limit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Enti preposti alla definizione dei limit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Normativa tecnica internazional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Normativa tecnica nazional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3200400"/>
            <a:ext cx="678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3120" y="81900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Livelli ICNIRP per la popolazione civil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33" name="tabella" descr=""/>
          <p:cNvPicPr/>
          <p:nvPr/>
        </p:nvPicPr>
        <p:blipFill>
          <a:blip r:embed="rId1"/>
          <a:srcRect l="0" t="0" r="69301" b="73664"/>
          <a:stretch/>
        </p:blipFill>
        <p:spPr>
          <a:xfrm>
            <a:off x="0" y="1301760"/>
            <a:ext cx="9144000" cy="55515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5840" y="1606320"/>
            <a:ext cx="85485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 supposti effetti a lungo termine dovuti all’esposizione a campi magnetici ELF sono essenzialmente leucemia e tumori cerebrali (principalmente infantili).</a:t>
            </a:r>
            <a:br>
              <a:rPr sz="2400"/>
            </a:b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e indagini epidemiologiche condotte in proposito forniscono risultati controversi e contraddittori.</a:t>
            </a:r>
            <a:br>
              <a:rPr sz="2400"/>
            </a:b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noltre non è identificato un meccanismo d’azione plausibile che possa giustificare l’insorgere di tali patologie.</a:t>
            </a:r>
            <a:br>
              <a:rPr sz="2400"/>
            </a:b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Pertanto, al momento attuale, non si può affermare che esista una chiara indicazione per un’associazione di tipo causale tra esposizione a campi magnetici ELF e tumori, anche se si ritiene che un’esposizione prolungata sia associata ad un </a:t>
            </a:r>
            <a:r>
              <a:rPr b="0" lang="it-IT" sz="2400" spc="-1" strike="noStrike" u="sng">
                <a:solidFill>
                  <a:srgbClr val="336699"/>
                </a:solidFill>
                <a:uFillTx/>
                <a:latin typeface="Arial"/>
              </a:rPr>
              <a:t>piccolo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aumento di rischio di leucemia infantile.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157320" y="824040"/>
            <a:ext cx="88056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Effetti a lungo termine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26840"/>
            <a:ext cx="835992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Organismi internazionali di studio</a:t>
            </a:r>
            <a:br>
              <a:rPr sz="4400"/>
            </a:b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 e normazion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57280" y="2138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OMS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 (Organizzazione Mondiale Sanità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ovvero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WHO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 (World Health Organization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Analisi degli effetti biologici prodotti dai campi elettromagnetici a bassa frequenza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Problemi legati al campo elettrico analizzati nel 1984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Problemi legati al campo magnetico analizzati nel 1987,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Criteri di salute ambientale con riferimento a campi elettromagnetici da 300 Hz a 300 GHz: 1993,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38200" y="1082160"/>
            <a:ext cx="7927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RP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’agenzia internazionale per la protezione contro le radiazioni ionizzanti (IRPA) si è occupata anche dei campi elettromagnetici che sono </a:t>
            </a:r>
            <a:r>
              <a:rPr b="0" i="1" lang="it-IT" sz="2400" spc="-1" strike="noStrike">
                <a:solidFill>
                  <a:srgbClr val="336699"/>
                </a:solidFill>
                <a:latin typeface="Arial"/>
              </a:rPr>
              <a:t>radiazioni non ionizzanti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’agenzia IRPA e il gruppo di lavoro (INIRC) hanno lavorato per l’Organizzazione Mondiale della Sanità (WHO) con la sponsorizzazione di UNEP (programma ambientale delle Nazioni Unite)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Linee guida sui limiti di esposizione ai campi a frequenza industriale del 1990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12880" y="834840"/>
            <a:ext cx="7772400" cy="55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ICNIR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Nel 1992 ha sostituito IRPA/INIRC come commissione internazionale sulla protezione contro le radiazioni non ionizzanti con i seguenti obiettivi: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nvestigare sui rischi delle NIR </a:t>
            </a:r>
            <a:r>
              <a:rPr b="0" i="1" lang="it-IT" sz="2400" spc="-1" strike="noStrike">
                <a:solidFill>
                  <a:srgbClr val="336699"/>
                </a:solidFill>
                <a:latin typeface="Arial"/>
              </a:rPr>
              <a:t>(Non Ionizing Radiation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viluppare linee guida sui limiti di esposizio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Trattare la protezione contro le NI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Linee guida sui limiti di esposizione ai campi magnetici statici del 1993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Linee guida sui limiti di esposizione ai campi variabili, elettrici, magnetici ed elettromagnetici (da 0 Hz a 300 GHz) del 1998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27120" y="713880"/>
            <a:ext cx="8254800" cy="57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IEC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99"/>
                </a:solidFill>
                <a:latin typeface="Arial"/>
              </a:rPr>
              <a:t>(International Electrotechnical Commission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Organizzazione mondiale che prepara e pubblica norme internazionali (risale al 1904)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Collabora con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WHO (World Health Organization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LO   (International Labour Offic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SO (International Organization for Standardization)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TU   (International Telecommunications Union)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WTO (World Trade Organization)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Nel 1996 ha formalizzato un accordo con CENELEC per coordinare le attività (proposte sui principi di cooperazione, aprile 2001)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IEEE-ANS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(Institution of Electrical and Electronic Engineers – American National Standard Institution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Standard per livelli di sicurezza dell’esposizione umana a radiofrequenza tra 3 kHz a 300 GHz del 199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03440" y="966600"/>
            <a:ext cx="7772400" cy="54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CENELEC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Commissione Europea per la Standardizzazione Elettrica che include 20 paesi dell’area europea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Il comitato interessato già TC211 è ora diventato il TC 106X. Obiettivi prossimi definire </a:t>
            </a:r>
            <a:r>
              <a:rPr b="0" i="1" lang="it-IT" sz="2400" spc="-1" strike="noStrike">
                <a:solidFill>
                  <a:srgbClr val="336699"/>
                </a:solidFill>
                <a:latin typeface="Arial"/>
              </a:rPr>
              <a:t>standard di base, standard generici, standard di prodotto, guide, rapporti, codici di pratica</a:t>
            </a: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. Intende legare gli standard sull’esposizione umana ai campi elettromagnetici alle restrizioni di base delle raccomandazioni della Commissione Europe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Prenorme sull’esposizione umana ai campi elettromagnetici da 0 a 10 kHZ del 1995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[(decadute)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74760" y="855720"/>
            <a:ext cx="8377200" cy="57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CIGRE</a:t>
            </a:r>
            <a:br>
              <a:rPr sz="1600"/>
            </a:b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Conference International Grand Reseaux Electrique</a:t>
            </a:r>
            <a:br>
              <a:rPr sz="2000"/>
            </a:b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International Conference on Large Electric Systems</a:t>
            </a:r>
            <a:br>
              <a:rPr sz="2000"/>
            </a:b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i tratta di un’organizzazione internazionale di cui fanno parte società elettriche di generazione e trasporto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Tale organizzazione promuove la cooperazione sugli argomenti tecnici di maggiore interesse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Ha promosso la collaborazione con il CIRED che raccoglie gli interessi delle società elettriche di distribuzion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Ha pubblicato il primo documento introduttivo ai campi prodotti dai sistemi di trasmission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ono in fase di redazione nuovi documenti su misure e mitigazione dei camp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74760" y="855720"/>
            <a:ext cx="8377200" cy="57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IGRE</a:t>
            </a:r>
            <a:br>
              <a:rPr sz="2400"/>
            </a:b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Conference International Grand Reseaux Electrique</a:t>
            </a:r>
            <a:br>
              <a:rPr sz="2400"/>
            </a:b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International Conference on Large Electric Systems</a:t>
            </a:r>
            <a:br>
              <a:rPr sz="2400"/>
            </a:b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o scorso anno il CIGRE ha fondato due Task Force che dedicano i loro sforzi alle misure e mitigazione dei campi magnetici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C4.04.01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Electromagnetic Field Measurement and Modell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C4.04.02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Magnetic Field Mitigation Techniqu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Entrambe le Taks Force sono chiamate a compilare delle Guidelines sui rispettivi campi di interess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Interazione con gli organismi viventi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82840"/>
            <a:ext cx="914400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’interazione tra un organismo vivente e un campo magnetico variabile nel tempo è dovuta all’induzione elettromagnetica che produce, nel corpo soggetto al campo magnetico,  un campo elettrico e conseguentemente una distribuzione di corrente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3680" y="3243240"/>
            <a:ext cx="579132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n regime periodico il valore della densità di corrente è dato da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32120" y="4087800"/>
                <a:ext cx="2054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f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966960" y="4800600"/>
            <a:ext cx="4141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ahoma"/>
              </a:rPr>
              <a:t>f   =  frequenz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ahoma"/>
              </a:rPr>
              <a:t>k</a:t>
            </a:r>
            <a:r>
              <a:rPr b="0" lang="it-IT" sz="2400" spc="-1" strike="noStrike" baseline="-25000">
                <a:solidFill>
                  <a:srgbClr val="336699"/>
                </a:solidFill>
                <a:latin typeface="Tahoma"/>
              </a:rPr>
              <a:t>B</a:t>
            </a:r>
            <a:r>
              <a:rPr b="0" lang="it-IT" sz="2400" spc="-1" strike="noStrike">
                <a:solidFill>
                  <a:srgbClr val="336699"/>
                </a:solidFill>
                <a:latin typeface="Tahoma"/>
              </a:rPr>
              <a:t> =  fattori di form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336699"/>
                </a:solidFill>
                <a:latin typeface="Tahoma"/>
              </a:rPr>
              <a:t>=  conducibilità elettric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5" name="Immaginea" descr=""/>
          <p:cNvPicPr/>
          <p:nvPr/>
        </p:nvPicPr>
        <p:blipFill>
          <a:blip r:embed="rId1"/>
          <a:srcRect l="0" t="0" r="81247" b="66044"/>
          <a:stretch/>
        </p:blipFill>
        <p:spPr>
          <a:xfrm>
            <a:off x="5807160" y="3130560"/>
            <a:ext cx="271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CONSIGLIO DELLA COMUNITA’ EUROPEA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Su proposta della Commissione della Comunità Europea ha pubblicato la Raccomandazione relativa a: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i="1" lang="it-IT" sz="2800" spc="-1" strike="noStrike">
                <a:solidFill>
                  <a:srgbClr val="336699"/>
                </a:solidFill>
                <a:latin typeface="Arial"/>
              </a:rPr>
              <a:t>Limitazione dell’esposizione della Popolazione ai Campi Elettromagnetici da 0Hz a 300 GHz” del 12 luglio 1999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2320" y="781200"/>
            <a:ext cx="77724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Punti salienti della Raccomandazione del Consiglio Comunità Europea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56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Tale documento raccomanda agli stati membri di basarsi “su un quadro normativo concordato in modo da contribuire a garantire una protezione uniforme in tutta la Comunità”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i adottare alcuni </a:t>
            </a:r>
            <a:r>
              <a:rPr b="0" i="1" lang="it-IT" sz="2400" spc="-1" strike="noStrike">
                <a:solidFill>
                  <a:srgbClr val="336699"/>
                </a:solidFill>
                <a:latin typeface="Arial"/>
              </a:rPr>
              <a:t>limiti di base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sugli effetti dei camp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i adottare alcuni </a:t>
            </a:r>
            <a:r>
              <a:rPr b="0" i="1" lang="it-IT" sz="2400" spc="-1" strike="noStrike">
                <a:solidFill>
                  <a:srgbClr val="336699"/>
                </a:solidFill>
                <a:latin typeface="Arial"/>
              </a:rPr>
              <a:t>livelli di riferimento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ui campi per rispettare i limiti di base basandosi sulle linee guida indicate da ICNIRP del 1998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i attuare misure relative alle sorgenti o alle attività che determinano l’esposizione ai camp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i proporsi l’obiettivo di conformarsi ai </a:t>
            </a:r>
            <a:r>
              <a:rPr b="0" i="1" lang="it-IT" sz="2400" spc="-1" strike="noStrike">
                <a:solidFill>
                  <a:srgbClr val="336699"/>
                </a:solidFill>
                <a:latin typeface="Arial"/>
              </a:rPr>
              <a:t>limiti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per l’esposizione della popolazio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90640" y="844200"/>
            <a:ext cx="7772400" cy="62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Organismi Italiani</a:t>
            </a: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Parlamento Italian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Predisposta la Legge n. 36 del 22/02/2001 pubblicata sulla G.U. n. 55 del 7 marzo 2001, [28]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Legge Quadro sulla Protezione dalle Esposizioni a Campi Elettrici e Magnetici ed Elettromagnetic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Avrebbero dovuto seguire (perché richiamati dalla Legge)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PCM sui limiti di esposizione (entro il 7 maggio 2001...) previa intesa di Conferenza unificata o in caso di mancata intesa entro i 30 giorni successiv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99760" y="97776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Regolamento di tutela ambiente e paesaggio (misure sulle caratteristiche tecniche degli impianti, localizzazione tracciati, progettazione, costruzione e modifica di elettrodotti) entro il 7 luglio 2001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Catasto Nazionale delle delle sorgenti fisse e mobil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Comitato Interministeriale per la prevenzione e la Riduzione dell’inquinamento Elettromagnetico (Ministeri Ambiente, Sanità, MURST, Lavoro e Previdenza Sociale, Tesoro, Bilancio e Programmazione Economica, Lavori Pubblici, Industria, Commercio e Artigianato, Beni e Attività Culturali, Trasporti e Navigazione, Comunicazioni, Difesa e Interno)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12400" y="699840"/>
            <a:ext cx="8931240" cy="18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Ministero dei Lavori Pubblic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Ha stabilito regole per la costruzione delle linee elettriche aeree estern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Arial"/>
              </a:rPr>
              <a:t>Decreto Ministeriale del 21 marzo 1988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Arial"/>
              </a:rPr>
              <a:t>Decreto Ministeriale del 16 gennaio 1991</a:t>
            </a:r>
            <a:r>
              <a:rPr b="1" i="1" lang="it-IT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8200" y="2519280"/>
            <a:ext cx="865044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Ministero della Sanità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Collabora all'attività dell'OMS, IRPA/INIRC, ICNIRP, con l’Istituto Superiore di Sanità (ISS-ISTISAN) e con l'Istituto Superiore per la Prevenzione e Sicurezza del Lavoro (ISPESL). Fornisce indicazioni per la pubblicazione di leggi specifiche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Arial"/>
              </a:rPr>
              <a:t>Pubblicazione in italiano delle linee guida IRPA/INIRC del 1990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4937040"/>
            <a:ext cx="83944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Ministero dell’Ambien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Fornisce indicazioni per la pubblicazione di leggi specifiche.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Arial"/>
              </a:rPr>
              <a:t>DPCM del 23 aprile 1992 (Limiti massimi di esposizione ai campi elettrico e magnetico generati alla frequenza industriale nominale (50 Hz) negli ambienti abitativi e nell’ambiente esterno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86920" y="761760"/>
            <a:ext cx="8636040" cy="58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REGION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Attualmente stabiliscono vincoli ambientali sulle opere di elettrificazione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Adegueranno le Leggi Regionali a quanto fissato dai limiti nazionali (futuro DPCM)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Predisporranno il Catasto regionale delle sorgenti Fisse e Mobili in coordinamento con quello nazionale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Concerteranno con i Ministeri interessati (Lavori Pubblici e Beni e Attività Culturali) e con altri enti locali i procedimenti per i tracciati degli elettrodotti a più di 150 kV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Definiranno tracciati degli elettrodotti a tensione inferiore a 150 kV e modalità rilascio autorizzazioni a installazione impianti che tengano conto dei campi preesistenti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Definiranno le competenze di Province e Comuni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In alcuni casi hanno predisposto autonomamente leggi e regolamenti sull’inquinamento elettromagnetico (Liguria, Veneto, Emilia-Romagna,.Toscana,  Abruzzo, Puglia, Campania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69360" y="1305000"/>
            <a:ext cx="8153640" cy="40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PROVIN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Compiti ambientali sull’inquinamento elettromagnetico in fase di definizion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COMUN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Compiti ambientali sull’inquinamento elettromagnetico in fase di definizion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Possibilità di intervenire a livello urbanistico per minimizzare l’esposizione ai camp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4200" y="866880"/>
            <a:ext cx="77724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Organismo Italiano di Normazione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85280" y="1456920"/>
            <a:ext cx="807732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CE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Comitato Elettrotecnico Italiano ha il compito di predisporre le norme tecniche nazionali e di partecipare alle attività di coordinamento con le commissioni internazionali (CENELEC, IEC)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Comitato interessato al tema CT 211 (Esposizione umana ai campi elettromagnetici), suddiviso in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C 211 A (basse frequenze)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ora SC 106 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C 211 B (alte frequenze)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ora SC 106 B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Comitati vari si sono occupati di campi relativamente al tema del comitato (CT211 linee elettriche, CT 114 trasformatori, CT 11 impianti elettrici ad alta tensione e di distribuzione pubblica, CT 9 trazione elettrica, ecc.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08040" y="87804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99"/>
                </a:solidFill>
                <a:latin typeface="Arial"/>
              </a:rPr>
              <a:t>Pubblicazione in italiano delle norme sperimentali ENV 50166-1 e 50166-2  dal 1995 al 1999 (scadute)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99"/>
                </a:solidFill>
                <a:latin typeface="Arial"/>
              </a:rPr>
              <a:t>Pubblicazione CEI 211-4 1996 - 07 “Guida ai metodi di calcolo dei campi elettrici e magnetici generati da linee elettriche”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99"/>
                </a:solidFill>
                <a:latin typeface="Arial"/>
              </a:rPr>
              <a:t>Pubblicazione CEI 11-61 2000 “Guida all’inserimento ambientale delle linee aeree esterne e delle stazioni elettriche”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3280" y="3112920"/>
            <a:ext cx="7972200" cy="26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99"/>
                </a:solidFill>
                <a:latin typeface="Arial"/>
              </a:rPr>
              <a:t>Pubblicazione CEI 211-6  2001-01 “Guida per la misura e per la valutazione dei campi elettrici e magnetici nell’intervallo di frequenza 0 Hz - 10 kHz, con riferimento all’esposizione umana.”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99"/>
                </a:solidFill>
                <a:latin typeface="Arial"/>
              </a:rPr>
              <a:t>Pubblicazione CEI 14-24:2000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</a:rPr>
              <a:t>“Guida per la valutazione dei campi elettromagnetici attorno ai trasformatori di potenza”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99"/>
                </a:solidFill>
                <a:latin typeface="Arial"/>
              </a:rPr>
              <a:t>Pubblicazione CEI 62  1997 - 10 “Guida alle prove di accettazione, all’uso e alle verifiche periodiche di apparecchi elettromedicali in locali adibiti ad uso medico”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81160" y="1219320"/>
            <a:ext cx="850104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opo una complessa gestazione è stata approvata la legge n. 36/2001 (Legge quadro)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Scopo (art. 1)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Tutela della salute dei lavoratori e della popolazione dall'esposizione a campi elettromagnetici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Promozione della ricerca per la valutazione degli effetti a lungo termine dei camp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Tutela dell’ambiente e del paesaggi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Oggetto (art. 2)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mpianti, sistemi, apparecchiature per usi civili, militari e delle forze di polizia che possono comportare l'esposizione a campi da 0Hz a 300 GHz (elettrodotti, impianti radioelettrici)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585720" y="749160"/>
            <a:ext cx="7772400" cy="4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 Narrow"/>
              </a:rPr>
              <a:t>Normativa vigente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Conducibilità del corpo uman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0240" y="1452240"/>
            <a:ext cx="839628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Organo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         Conducibilità (S/m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Fegato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Intestino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0.03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Testa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0.05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Cervello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0.7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Cuore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0.7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Braccia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Gambe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Torace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Bacino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3800" y="1909800"/>
            <a:ext cx="856116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Limite di esposizione</a:t>
            </a: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6699"/>
                </a:solidFill>
                <a:latin typeface="Arial"/>
              </a:rPr>
              <a:t>Valore di campo elettrico o magnetico da non superare in alcuna condizione di esposizione. (Effetti acuti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Valore di attenzione/cautela</a:t>
            </a: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6699"/>
                </a:solidFill>
                <a:latin typeface="Arial"/>
              </a:rPr>
              <a:t>Valore di campo elettrico o magnetico da non superare in ambienti abitativi, scolastici, luoghi adibiti a permanenze non inferiori a 4 ore giornaliere. (Effetti a lungo termin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Obiettivo di qualità</a:t>
            </a: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6699"/>
                </a:solidFill>
                <a:latin typeface="Arial"/>
              </a:rPr>
              <a:t>Valori di campo che si intende ottenere ai fini della riduzione delle esposizioni nella progettazione di nuovi impianti. (Effetti a lungo termin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440" y="893880"/>
            <a:ext cx="875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’articolo 3 della Legge Quadro del febbraio 2001 prevede tre diversi limiti: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3800" y="1909440"/>
            <a:ext cx="85611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Limite di esposizione</a:t>
            </a: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:      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100</a:t>
            </a:r>
            <a:r>
              <a:rPr b="1" lang="it-IT" sz="32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6699"/>
                </a:solidFill>
                <a:latin typeface="Arial"/>
              </a:rPr>
              <a:t>Valore efficace che non deve essere mai superato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Valore di attenzione/cautela</a:t>
            </a: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:    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it-IT" sz="32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6699"/>
                </a:solidFill>
                <a:latin typeface="Arial"/>
              </a:rPr>
              <a:t>Mediana sulle 24 ore dei valori efficac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Obiettivo di qualità</a:t>
            </a: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:      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it-IT" sz="32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6699"/>
                </a:solidFill>
                <a:latin typeface="Arial"/>
              </a:rPr>
              <a:t>Mediana sulle 24 ore dei valori efficac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0440" y="893880"/>
            <a:ext cx="875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 decreti attuativi recentemente emanati prevedono i seguenti limiti: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0160" y="694800"/>
            <a:ext cx="488484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Esposizione ad un campo</a:t>
            </a:r>
            <a:br>
              <a:rPr sz="3200"/>
            </a:b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magnetico uniforme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715000" y="609480"/>
          <a:ext cx="318276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609480"/>
                    <a:ext cx="318276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27080" y="1735200"/>
            <a:ext cx="2771640" cy="91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B = 1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T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Direzione vertical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 rot="16200000">
            <a:off x="4936320" y="1077840"/>
            <a:ext cx="741240" cy="844560"/>
          </a:xfrm>
          <a:custGeom>
            <a:avLst/>
            <a:gdLst>
              <a:gd name="textAreaLeft" fmla="*/ 237600 w 741240"/>
              <a:gd name="textAreaRight" fmla="*/ 598320 w 741240"/>
              <a:gd name="textAreaTop" fmla="*/ 567360 h 844560"/>
              <a:gd name="textAreaBottom" fmla="*/ 682200 h 844560"/>
            </a:gdLst>
            <a:ahLst/>
            <a:rect l="textAreaLeft" t="textAreaTop" r="textAreaRight" b="textAreaBottom"/>
            <a:pathLst>
              <a:path w="21600" h="21600">
                <a:moveTo>
                  <a:pt x="0" y="18663"/>
                </a:moveTo>
                <a:lnTo>
                  <a:pt x="14497" y="18663"/>
                </a:lnTo>
                <a:lnTo>
                  <a:pt x="14497" y="6921"/>
                </a:lnTo>
                <a:lnTo>
                  <a:pt x="10331" y="6921"/>
                </a:lnTo>
                <a:lnTo>
                  <a:pt x="15966" y="0"/>
                </a:lnTo>
                <a:lnTo>
                  <a:pt x="21600" y="6921"/>
                </a:lnTo>
                <a:lnTo>
                  <a:pt x="17434" y="6921"/>
                </a:lnTo>
                <a:lnTo>
                  <a:pt x="174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56240" y="1735200"/>
            <a:ext cx="2937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Correnti indotte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0" lang="it-IT" sz="2800" spc="-1" strike="noStrike" baseline="-25000">
                <a:solidFill>
                  <a:srgbClr val="ff0000"/>
                </a:solidFill>
                <a:latin typeface="Tahoma"/>
              </a:rPr>
              <a:t>max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3.4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/m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(cuore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30120" y="3244680"/>
          <a:ext cx="3706920" cy="3540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120" y="3244680"/>
                    <a:ext cx="3706920" cy="354024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334120" y="6248520"/>
            <a:ext cx="341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ahoma"/>
              </a:rPr>
              <a:t>Component </a:t>
            </a:r>
            <a:r>
              <a:rPr b="0" i="1" lang="en-GB" sz="2400" spc="-1" strike="noStrike">
                <a:solidFill>
                  <a:srgbClr val="009999"/>
                </a:solidFill>
                <a:latin typeface="Tahoma"/>
              </a:rPr>
              <a:t>J</a:t>
            </a:r>
            <a:r>
              <a:rPr b="0" i="1" lang="en-GB" sz="2400" spc="-1" strike="noStrike" baseline="-25000">
                <a:solidFill>
                  <a:srgbClr val="009999"/>
                </a:solidFill>
                <a:latin typeface="Tahoma"/>
              </a:rPr>
              <a:t>y</a:t>
            </a:r>
            <a:r>
              <a:rPr b="0" lang="en-GB" sz="2400" spc="-1" strike="noStrike">
                <a:solidFill>
                  <a:srgbClr val="009999"/>
                </a:solidFill>
                <a:latin typeface="Tahoma"/>
              </a:rPr>
              <a:t> versus </a:t>
            </a:r>
            <a:r>
              <a:rPr b="0" i="1" lang="en-GB" sz="2400" spc="-1" strike="noStrike">
                <a:solidFill>
                  <a:srgbClr val="009999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6324480"/>
            <a:ext cx="888840" cy="330480"/>
          </a:xfrm>
          <a:prstGeom prst="leftArrow">
            <a:avLst>
              <a:gd name="adj1" fmla="val 50000"/>
              <a:gd name="adj2" fmla="val 67239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0520" y="694800"/>
            <a:ext cx="480384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Esposizione ad un campo</a:t>
            </a:r>
            <a:br>
              <a:rPr sz="3200"/>
            </a:b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magnetico uniforme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248520" y="685800"/>
          <a:ext cx="2768400" cy="54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685800"/>
                    <a:ext cx="276840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80880" y="1676520"/>
            <a:ext cx="2811600" cy="11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B = 1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T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Direzione normale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al tor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 rot="16200000">
            <a:off x="5367960" y="685800"/>
            <a:ext cx="795240" cy="930240"/>
          </a:xfrm>
          <a:custGeom>
            <a:avLst/>
            <a:gdLst>
              <a:gd name="textAreaLeft" fmla="*/ 254880 w 795240"/>
              <a:gd name="textAreaRight" fmla="*/ 641880 w 795240"/>
              <a:gd name="textAreaTop" fmla="*/ 624240 h 930240"/>
              <a:gd name="textAreaBottom" fmla="*/ 750960 h 930240"/>
            </a:gdLst>
            <a:ahLst/>
            <a:rect l="textAreaLeft" t="textAreaTop" r="textAreaRight" b="textAreaBottom"/>
            <a:pathLst>
              <a:path w="21600" h="21600">
                <a:moveTo>
                  <a:pt x="0" y="18663"/>
                </a:moveTo>
                <a:lnTo>
                  <a:pt x="14497" y="18663"/>
                </a:lnTo>
                <a:lnTo>
                  <a:pt x="14497" y="6921"/>
                </a:lnTo>
                <a:lnTo>
                  <a:pt x="10331" y="6921"/>
                </a:lnTo>
                <a:lnTo>
                  <a:pt x="15966" y="0"/>
                </a:lnTo>
                <a:lnTo>
                  <a:pt x="21600" y="6921"/>
                </a:lnTo>
                <a:lnTo>
                  <a:pt x="17434" y="6921"/>
                </a:lnTo>
                <a:lnTo>
                  <a:pt x="174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78240" y="1549440"/>
            <a:ext cx="28526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Correnti indotte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0" lang="it-IT" sz="2800" spc="-1" strike="noStrike" baseline="-25000">
                <a:solidFill>
                  <a:srgbClr val="ff0000"/>
                </a:solidFill>
                <a:latin typeface="Tahoma"/>
              </a:rPr>
              <a:t>max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7.2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/m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(cuore, cervello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69720" y="3238560"/>
          <a:ext cx="3432240" cy="3448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720" y="3238560"/>
                    <a:ext cx="3432240" cy="344808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029200" y="6172200"/>
            <a:ext cx="349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ahoma"/>
              </a:rPr>
              <a:t>Componente </a:t>
            </a:r>
            <a:r>
              <a:rPr b="0" i="1" lang="en-GB" sz="2400" spc="-1" strike="noStrike">
                <a:solidFill>
                  <a:srgbClr val="009999"/>
                </a:solidFill>
                <a:latin typeface="Tahoma"/>
              </a:rPr>
              <a:t>J</a:t>
            </a:r>
            <a:r>
              <a:rPr b="0" i="1" lang="en-GB" sz="2400" spc="-1" strike="noStrike" baseline="-25000">
                <a:solidFill>
                  <a:srgbClr val="009999"/>
                </a:solidFill>
                <a:latin typeface="Tahoma"/>
              </a:rPr>
              <a:t>z</a:t>
            </a:r>
            <a:r>
              <a:rPr b="0" lang="en-GB" sz="2400" spc="-1" strike="noStrike">
                <a:solidFill>
                  <a:srgbClr val="009999"/>
                </a:solidFill>
                <a:latin typeface="Tahoma"/>
              </a:rPr>
              <a:t> lungo </a:t>
            </a:r>
            <a:r>
              <a:rPr b="0" i="1" lang="en-GB" sz="2400" spc="-1" strike="noStrike">
                <a:solidFill>
                  <a:srgbClr val="009999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6324480"/>
            <a:ext cx="1023840" cy="293760"/>
          </a:xfrm>
          <a:prstGeom prst="leftArrow">
            <a:avLst>
              <a:gd name="adj1" fmla="val 50000"/>
              <a:gd name="adj2" fmla="val 87132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520" y="840960"/>
            <a:ext cx="8493120" cy="8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 Narrow"/>
              </a:rPr>
              <a:t>Esposizione in prossimità di un condotto sbarre in Bassa Tensione (500 A)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3305160" y="4834080"/>
            <a:ext cx="315612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Correnti indotte: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0" lang="it-IT" sz="3200" spc="-1" strike="noStrike" baseline="-25000">
                <a:solidFill>
                  <a:srgbClr val="ff0000"/>
                </a:solidFill>
                <a:latin typeface="Tahoma"/>
              </a:rPr>
              <a:t>max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= 30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A/m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br>
              <a:rPr sz="3200"/>
            </a:b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(cuore, cervello)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7160" y="1781280"/>
            <a:ext cx="383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9999"/>
                </a:solidFill>
                <a:latin typeface="Tahoma"/>
              </a:rPr>
              <a:t>Distanza </a:t>
            </a:r>
            <a:r>
              <a:rPr b="0" lang="it-IT" sz="3200" spc="-1" strike="noStrike">
                <a:solidFill>
                  <a:srgbClr val="009999"/>
                </a:solidFill>
                <a:latin typeface="Symbol"/>
                <a:ea typeface="Symbol"/>
              </a:rPr>
              <a:t></a:t>
            </a:r>
            <a:r>
              <a:rPr b="0" lang="it-IT" sz="3200" spc="-1" strike="noStrike">
                <a:solidFill>
                  <a:srgbClr val="009999"/>
                </a:solidFill>
                <a:latin typeface="Tahoma"/>
              </a:rPr>
              <a:t> 1 m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9999"/>
                </a:solidFill>
                <a:latin typeface="Tahoma"/>
              </a:rPr>
              <a:t>Valori di induzione: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9999"/>
                </a:solidFill>
                <a:latin typeface="Tahoma"/>
              </a:rPr>
              <a:t>B =  3 </a:t>
            </a:r>
            <a:r>
              <a:rPr b="0" lang="it-IT" sz="3200" spc="-1" strike="noStrike">
                <a:solidFill>
                  <a:srgbClr val="009999"/>
                </a:solidFill>
                <a:latin typeface="Symbol"/>
                <a:ea typeface="Symbol"/>
              </a:rPr>
              <a:t></a:t>
            </a:r>
            <a:r>
              <a:rPr b="0" lang="it-IT" sz="3200" spc="-1" strike="noStrike">
                <a:solidFill>
                  <a:srgbClr val="009999"/>
                </a:solidFill>
                <a:latin typeface="Tahoma"/>
              </a:rPr>
              <a:t> 8 </a:t>
            </a:r>
            <a:r>
              <a:rPr b="0" lang="it-IT" sz="32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9999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 rot="5400000">
            <a:off x="2473920" y="3259800"/>
            <a:ext cx="1062000" cy="1352520"/>
          </a:xfrm>
          <a:custGeom>
            <a:avLst/>
            <a:gdLst>
              <a:gd name="textAreaLeft" fmla="*/ 340200 w 1062000"/>
              <a:gd name="textAreaRight" fmla="*/ 857160 w 1062000"/>
              <a:gd name="textAreaTop" fmla="*/ 907920 h 1352520"/>
              <a:gd name="textAreaBottom" fmla="*/ 1091880 h 1352520"/>
            </a:gdLst>
            <a:ahLst/>
            <a:rect l="textAreaLeft" t="textAreaTop" r="textAreaRight" b="textAreaBottom"/>
            <a:pathLst>
              <a:path w="21600" h="21600">
                <a:moveTo>
                  <a:pt x="0" y="18663"/>
                </a:moveTo>
                <a:lnTo>
                  <a:pt x="14497" y="18663"/>
                </a:lnTo>
                <a:lnTo>
                  <a:pt x="14497" y="6921"/>
                </a:lnTo>
                <a:lnTo>
                  <a:pt x="10331" y="6921"/>
                </a:lnTo>
                <a:lnTo>
                  <a:pt x="15966" y="0"/>
                </a:lnTo>
                <a:lnTo>
                  <a:pt x="21600" y="6921"/>
                </a:lnTo>
                <a:lnTo>
                  <a:pt x="17434" y="6921"/>
                </a:lnTo>
                <a:lnTo>
                  <a:pt x="174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 rot="16200000">
            <a:off x="5221440" y="3483720"/>
            <a:ext cx="1062000" cy="1352520"/>
          </a:xfrm>
          <a:custGeom>
            <a:avLst/>
            <a:gdLst>
              <a:gd name="textAreaLeft" fmla="*/ 340200 w 1062000"/>
              <a:gd name="textAreaRight" fmla="*/ 857160 w 1062000"/>
              <a:gd name="textAreaTop" fmla="*/ 907920 h 1352520"/>
              <a:gd name="textAreaBottom" fmla="*/ 1091880 h 1352520"/>
            </a:gdLst>
            <a:ahLst/>
            <a:rect l="textAreaLeft" t="textAreaTop" r="textAreaRight" b="textAreaBottom"/>
            <a:pathLst>
              <a:path w="21600" h="21600">
                <a:moveTo>
                  <a:pt x="0" y="18663"/>
                </a:moveTo>
                <a:lnTo>
                  <a:pt x="14497" y="18663"/>
                </a:lnTo>
                <a:lnTo>
                  <a:pt x="14497" y="6921"/>
                </a:lnTo>
                <a:lnTo>
                  <a:pt x="10331" y="6921"/>
                </a:lnTo>
                <a:lnTo>
                  <a:pt x="15966" y="0"/>
                </a:lnTo>
                <a:lnTo>
                  <a:pt x="21600" y="6921"/>
                </a:lnTo>
                <a:lnTo>
                  <a:pt x="17434" y="6921"/>
                </a:lnTo>
                <a:lnTo>
                  <a:pt x="174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507000" y="2209680"/>
          <a:ext cx="2637000" cy="43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7000" y="2209680"/>
                    <a:ext cx="263700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0" y="1919160"/>
          <a:ext cx="2192400" cy="439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19160"/>
                    <a:ext cx="219240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9600" y="776160"/>
            <a:ext cx="835812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 Narrow"/>
              </a:rPr>
              <a:t>Esposizione durante l’impiego di un asciugacapelli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367560" y="5603760"/>
            <a:ext cx="383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9999"/>
                </a:solidFill>
                <a:latin typeface="Tahoma"/>
              </a:rPr>
              <a:t>Valori di induzione: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9999"/>
                </a:solidFill>
                <a:latin typeface="Tahoma"/>
              </a:rPr>
              <a:t>B =  2 </a:t>
            </a:r>
            <a:r>
              <a:rPr b="0" lang="it-IT" sz="3200" spc="-1" strike="noStrike">
                <a:solidFill>
                  <a:srgbClr val="009999"/>
                </a:solidFill>
                <a:latin typeface="Symbol"/>
                <a:ea typeface="Symbol"/>
              </a:rPr>
              <a:t></a:t>
            </a:r>
            <a:r>
              <a:rPr b="0" lang="it-IT" sz="3200" spc="-1" strike="noStrike">
                <a:solidFill>
                  <a:srgbClr val="009999"/>
                </a:solidFill>
                <a:latin typeface="Tahoma"/>
              </a:rPr>
              <a:t> 10 </a:t>
            </a:r>
            <a:r>
              <a:rPr b="0" lang="it-IT" sz="32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9999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86360" y="5595840"/>
            <a:ext cx="3637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Correnti indotte: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0" lang="it-IT" sz="3200" spc="-1" strike="noStrike" baseline="-25000">
                <a:solidFill>
                  <a:srgbClr val="ff0000"/>
                </a:solidFill>
                <a:latin typeface="Tahoma"/>
              </a:rPr>
              <a:t>max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= 32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A/m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74760" y="1658880"/>
          <a:ext cx="358272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658880"/>
                    <a:ext cx="3582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95840" y="1649520"/>
          <a:ext cx="3903480" cy="39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5840" y="1649520"/>
                    <a:ext cx="390348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7640" y="777960"/>
            <a:ext cx="77724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e principali normative internazionali si basano sul presupposto di limitare l’intensità delle correnti indotte a seguito dell’esposizione a campi elettromagnetici ELF Esse fissano i limiti di densità di corrente indotta ritenuti accettabili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66720" y="2833560"/>
          <a:ext cx="7620120" cy="36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833560"/>
                    <a:ext cx="762012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143000" y="990720"/>
            <a:ext cx="6926040" cy="5867280"/>
            <a:chOff x="1143000" y="990720"/>
            <a:chExt cx="6926040" cy="5867280"/>
          </a:xfrm>
        </p:grpSpPr>
        <p:grpSp>
          <p:nvGrpSpPr>
            <p:cNvPr id="139" name=""/>
            <p:cNvGrpSpPr/>
            <p:nvPr/>
          </p:nvGrpSpPr>
          <p:grpSpPr>
            <a:xfrm>
              <a:off x="1149120" y="995040"/>
              <a:ext cx="6913080" cy="5857560"/>
              <a:chOff x="1149120" y="995040"/>
              <a:chExt cx="6913080" cy="585756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1149120" y="995040"/>
                <a:ext cx="3099960" cy="849240"/>
                <a:chOff x="1149120" y="995040"/>
                <a:chExt cx="3099960" cy="8492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207800" y="995040"/>
                  <a:ext cx="2982240" cy="8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2280" bIns="152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RESTRIZIONI DI BASE</a:t>
                  </a:r>
                  <a:endParaRPr b="0" lang="en-US" sz="1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149120" y="995040"/>
                  <a:ext cx="3099960" cy="84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4249440" y="995040"/>
                <a:ext cx="3812760" cy="849240"/>
                <a:chOff x="4249440" y="995040"/>
                <a:chExt cx="3812760" cy="8492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308120" y="995040"/>
                  <a:ext cx="3695040" cy="8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LIVELLI DI RIFERIMENTO</a:t>
                  </a:r>
                  <a:endParaRPr b="0" lang="en-US" sz="1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249440" y="995040"/>
                  <a:ext cx="3812760" cy="84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149120" y="1844280"/>
                <a:ext cx="1727280" cy="1001160"/>
                <a:chOff x="1149120" y="1844280"/>
                <a:chExt cx="1727280" cy="10011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207800" y="1844280"/>
                  <a:ext cx="1609920" cy="100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4120" bIns="11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Intervallo di frequenza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149120" y="1844280"/>
                  <a:ext cx="1727280" cy="100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876760" y="1844280"/>
                <a:ext cx="1371960" cy="1001160"/>
                <a:chOff x="2876760" y="1844280"/>
                <a:chExt cx="1371960" cy="10011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935800" y="1844280"/>
                  <a:ext cx="1253520" cy="100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Densità di corrente </a:t>
                  </a:r>
                  <a:r>
                    <a:rPr b="1" i="1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J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 (mA/m</a:t>
                  </a:r>
                  <a:r>
                    <a:rPr b="0" lang="en-US" sz="1600" spc="-1" strike="noStrike" baseline="30000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876760" y="1844280"/>
                  <a:ext cx="1371960" cy="100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249440" y="1844280"/>
                <a:ext cx="1906200" cy="1001160"/>
                <a:chOff x="4249440" y="1844280"/>
                <a:chExt cx="1906200" cy="10011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308120" y="1844280"/>
                  <a:ext cx="1788480" cy="100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4120" bIns="11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Intervallo di frequenza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249440" y="1844280"/>
                  <a:ext cx="1906200" cy="100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156000" y="1844280"/>
                <a:ext cx="1906200" cy="1001160"/>
                <a:chOff x="6156000" y="1844280"/>
                <a:chExt cx="1906200" cy="10011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214680" y="1844280"/>
                  <a:ext cx="1788480" cy="100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Induzione magnetica </a:t>
                  </a:r>
                  <a:r>
                    <a:rPr b="1" i="1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B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 (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T)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156000" y="1844280"/>
                  <a:ext cx="1906200" cy="100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1149120" y="2845440"/>
                <a:ext cx="1727280" cy="637200"/>
                <a:chOff x="1149120" y="2845440"/>
                <a:chExt cx="1727280" cy="6372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207800" y="2845440"/>
                  <a:ext cx="160992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- finoa 1 Hz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49120" y="2845440"/>
                  <a:ext cx="172728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876760" y="2845440"/>
                <a:ext cx="1371960" cy="637200"/>
                <a:chOff x="2876760" y="2845440"/>
                <a:chExt cx="1371960" cy="6372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935800" y="2845440"/>
                  <a:ext cx="125352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876760" y="2845440"/>
                  <a:ext cx="137196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249440" y="2845440"/>
                <a:ext cx="1906200" cy="637200"/>
                <a:chOff x="4249440" y="2845440"/>
                <a:chExt cx="1906200" cy="637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308120" y="2845440"/>
                  <a:ext cx="178848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- fino a 1 Hz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249440" y="2845440"/>
                  <a:ext cx="190620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156000" y="2845440"/>
                <a:ext cx="1906200" cy="637200"/>
                <a:chOff x="6156000" y="2845440"/>
                <a:chExt cx="1906200" cy="6372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214680" y="2845440"/>
                  <a:ext cx="178848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00 000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156000" y="2845440"/>
                  <a:ext cx="190620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149120" y="3483000"/>
                <a:ext cx="1727280" cy="637560"/>
                <a:chOff x="1149120" y="3483000"/>
                <a:chExt cx="1727280" cy="6375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207800" y="3483000"/>
                  <a:ext cx="160992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- (1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4) Hz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149120" y="3483000"/>
                  <a:ext cx="1727280" cy="63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76760" y="3483000"/>
                <a:ext cx="1371960" cy="637560"/>
                <a:chOff x="2876760" y="3483000"/>
                <a:chExt cx="1371960" cy="6375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35800" y="3483000"/>
                  <a:ext cx="125352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40/f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76760" y="3483000"/>
                  <a:ext cx="1371960" cy="63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249440" y="3483000"/>
                <a:ext cx="1906200" cy="637560"/>
                <a:chOff x="4249440" y="3483000"/>
                <a:chExt cx="1906200" cy="6375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308120" y="3483000"/>
                  <a:ext cx="178848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- (1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8) Hz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249440" y="3483000"/>
                  <a:ext cx="1906200" cy="63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156000" y="3483000"/>
                <a:ext cx="1906200" cy="637560"/>
                <a:chOff x="6156000" y="3483000"/>
                <a:chExt cx="1906200" cy="637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214680" y="3483000"/>
                  <a:ext cx="178848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00 000/</a:t>
                  </a:r>
                  <a:r>
                    <a:rPr b="0" i="1" lang="en-GB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i="1" lang="en-GB" sz="1600" spc="-1" strike="noStrike" baseline="30000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156000" y="3483000"/>
                  <a:ext cx="1906200" cy="63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149120" y="4120920"/>
                <a:ext cx="1727280" cy="637200"/>
                <a:chOff x="1149120" y="4120920"/>
                <a:chExt cx="1727280" cy="6372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207800" y="4120920"/>
                  <a:ext cx="160992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149120" y="4120920"/>
                  <a:ext cx="172728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876760" y="4120920"/>
                <a:ext cx="1371960" cy="637200"/>
                <a:chOff x="2876760" y="4120920"/>
                <a:chExt cx="1371960" cy="6372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800" y="4120920"/>
                  <a:ext cx="125352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876760" y="4120920"/>
                  <a:ext cx="137196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249440" y="4120920"/>
                <a:ext cx="1906200" cy="637200"/>
                <a:chOff x="4249440" y="4120920"/>
                <a:chExt cx="1906200" cy="637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308120" y="4120920"/>
                  <a:ext cx="178848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- (8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0" lang="en-GB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5) Hz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249440" y="4120920"/>
                  <a:ext cx="190620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6156000" y="4120920"/>
                <a:ext cx="1906200" cy="637200"/>
                <a:chOff x="6156000" y="4120920"/>
                <a:chExt cx="1906200" cy="637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214680" y="4120920"/>
                  <a:ext cx="178848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5000/f                   (</a:t>
                  </a:r>
                  <a:r>
                    <a:rPr b="1" lang="fr-FR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500 </a:t>
                  </a:r>
                  <a:r>
                    <a:rPr b="1" lang="en-US" sz="16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fr-FR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T </a:t>
                  </a:r>
                  <a:r>
                    <a:rPr b="1" lang="fr-FR" sz="1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a 10 Hz</a:t>
                  </a:r>
                  <a:r>
                    <a:rPr b="0" lang="fr-FR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156000" y="4120920"/>
                  <a:ext cx="190620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149120" y="4758480"/>
                <a:ext cx="1727280" cy="637200"/>
                <a:chOff x="1149120" y="4758480"/>
                <a:chExt cx="1727280" cy="6372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207800" y="4758480"/>
                  <a:ext cx="160992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- (4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1000) Hz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149120" y="4758480"/>
                  <a:ext cx="172728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876760" y="4758480"/>
                <a:ext cx="1371960" cy="637200"/>
                <a:chOff x="2876760" y="4758480"/>
                <a:chExt cx="1371960" cy="637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935800" y="4758480"/>
                  <a:ext cx="125352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876760" y="4758480"/>
                  <a:ext cx="137196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4249440" y="4758480"/>
                <a:ext cx="1906200" cy="637200"/>
                <a:chOff x="4249440" y="4758480"/>
                <a:chExt cx="1906200" cy="637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308120" y="4758480"/>
                  <a:ext cx="178848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- (25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820) Hz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249440" y="4758480"/>
                  <a:ext cx="190620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156000" y="4758480"/>
                <a:ext cx="1906200" cy="637200"/>
                <a:chOff x="6156000" y="4758480"/>
                <a:chExt cx="1906200" cy="6372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214680" y="4758480"/>
                  <a:ext cx="178848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5000/f                     (</a:t>
                  </a:r>
                  <a:r>
                    <a:rPr b="1" lang="fr-FR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500 </a:t>
                  </a:r>
                  <a:r>
                    <a:rPr b="1" lang="en-US" sz="16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fr-FR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T a 50 Hz</a:t>
                  </a:r>
                  <a:r>
                    <a:rPr b="0" lang="fr-FR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156000" y="4758480"/>
                  <a:ext cx="190620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149120" y="5396040"/>
                <a:ext cx="1727280" cy="637200"/>
                <a:chOff x="1149120" y="5396040"/>
                <a:chExt cx="1727280" cy="6372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207800" y="5396040"/>
                  <a:ext cx="160992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- (1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100) kHz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149120" y="5396040"/>
                  <a:ext cx="172728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876760" y="5396040"/>
                <a:ext cx="1371960" cy="637200"/>
                <a:chOff x="2876760" y="5396040"/>
                <a:chExt cx="1371960" cy="6372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935800" y="5396040"/>
                  <a:ext cx="125352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f/100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876760" y="5396040"/>
                  <a:ext cx="137196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249440" y="5396040"/>
                <a:ext cx="1906200" cy="637200"/>
                <a:chOff x="4249440" y="5396040"/>
                <a:chExt cx="1906200" cy="6372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308120" y="5396040"/>
                  <a:ext cx="178848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- (0.82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65) kHz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249440" y="5396040"/>
                  <a:ext cx="190620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56000" y="5396040"/>
                <a:ext cx="1906200" cy="637200"/>
                <a:chOff x="6156000" y="5396040"/>
                <a:chExt cx="1906200" cy="6372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4680" y="5396040"/>
                  <a:ext cx="178848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30.7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56000" y="5396040"/>
                  <a:ext cx="1906200" cy="63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149120" y="6033240"/>
                <a:ext cx="1727280" cy="819360"/>
                <a:chOff x="1149120" y="6033240"/>
                <a:chExt cx="1727280" cy="8193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207800" y="6033240"/>
                  <a:ext cx="1609920" cy="81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- (0.1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0" lang="de-DE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10) MHz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149120" y="6033240"/>
                  <a:ext cx="1727280" cy="81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876760" y="6033240"/>
                <a:ext cx="1371960" cy="819360"/>
                <a:chOff x="2876760" y="6033240"/>
                <a:chExt cx="1371960" cy="8193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935800" y="6033240"/>
                  <a:ext cx="1253520" cy="81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f/100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76760" y="6033240"/>
                  <a:ext cx="1371960" cy="81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249440" y="6033240"/>
                <a:ext cx="1906200" cy="819360"/>
                <a:chOff x="4249440" y="6033240"/>
                <a:chExt cx="1906200" cy="819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308120" y="6033240"/>
                  <a:ext cx="1788480" cy="81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- (0.065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1) MHz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249440" y="6033240"/>
                  <a:ext cx="1906200" cy="81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6156000" y="6033240"/>
                <a:ext cx="1906200" cy="819360"/>
                <a:chOff x="6156000" y="6033240"/>
                <a:chExt cx="1906200" cy="8193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214680" y="6033240"/>
                  <a:ext cx="1788480" cy="81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/f                                </a:t>
                  </a: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30.7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6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T 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at 100 kHz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156000" y="6033240"/>
                  <a:ext cx="1906200" cy="81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1143000" y="990720"/>
              <a:ext cx="6926040" cy="5867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60360" y="633240"/>
            <a:ext cx="85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Livelli ICNIRP per i lavorator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10:20:30Z</dcterms:created>
  <dc:creator>diei</dc:creator>
  <dc:description/>
  <dc:language>en-US</dc:language>
  <cp:lastModifiedBy>Elettromeccanica</cp:lastModifiedBy>
  <cp:lastPrinted>2001-04-30T19:01:29Z</cp:lastPrinted>
  <dcterms:modified xsi:type="dcterms:W3CDTF">2003-10-20T10:51:40Z</dcterms:modified>
  <cp:revision>218</cp:revision>
  <dc:subject/>
  <dc:title>I Campi Elettromagnetici: Definizioni Generali</dc:title>
</cp:coreProperties>
</file>