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F61-012D-4303-9D53-9F38C707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858-A62F-4550-AC72-770C30D3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866-155F-4A88-BAED-522A9515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CF4-F959-4FE6-A0C5-C87F33C5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FB90-A8D1-4E70-838A-49630C75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CAB8-FB5B-4DA5-85DF-CD37D905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612B-F6B0-4CA4-9EEC-DFA4181A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5319-3DEB-4180-8C3F-6305DFA5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088A-72B8-4189-9377-D91E9C27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E9C0-A71C-4E97-B2A1-56B387D7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13FF-D714-4B56-8D56-6EF6E66B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101-FB73-460B-9D9D-5B92560D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298C-C5C5-4676-84B9-7FC86FC7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56D7-B037-44BD-8977-70FA779A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2D6E-19C7-4E83-A43E-82D5BDE4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3E9C-D6F7-4240-A141-0AAD268E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D440-5030-4ED4-9BF5-3FC4012F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160-9148-4D5A-A380-5CF56A39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5BF-BDD6-40E6-9C6B-9CCCF7A4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E77-60E2-42B6-AD5E-604B7B24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E31-07B2-450D-BDE2-7050B9BA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E4A-61A8-49AF-85E4-9C02F74A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74CF-BEBE-445D-8287-38C2A4D6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9E8-CADB-4657-AE52-92862DFE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0A41-1DFB-4D10-9F6B-8E7573EF91C2}" type="slidenum">
              <a:rPr b="0" lang="it-IT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6680" y="176040"/>
            <a:ext cx="87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Campi magnetici ambientali in bassa frequenza</a:t>
            </a: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            Napoli, ottobre 2003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708200"/>
            <a:ext cx="914868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627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93D0-5F4A-4E00-B730-E4698281D31C}" type="slidenum">
              <a:rPr b="0" lang="it-IT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8840" y="771480"/>
            <a:ext cx="8655120" cy="106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Applicazione del metodo delle trasformazioni conformi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160200" y="3828960"/>
            <a:ext cx="839484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 u="sng">
                <a:solidFill>
                  <a:srgbClr val="336699"/>
                </a:solidFill>
                <a:uFillTx/>
                <a:latin typeface="Arial"/>
                <a:ea typeface="Times New Roman"/>
              </a:rPr>
              <a:t>condizione omogenea di Dirichlet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contorno coincidente con una linea di flusso del campo </a:t>
            </a:r>
            <a:r>
              <a:rPr b="0" lang="it-IT" sz="22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1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PEC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(perfect electric conductor) </a:t>
            </a:r>
            <a:r>
              <a:rPr b="0" lang="it-IT" sz="22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 +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</a:t>
            </a:r>
            <a:r>
              <a:rPr b="0" i="1" lang="it-IT" sz="2400" spc="-1" strike="noStrike" baseline="-25000">
                <a:solidFill>
                  <a:srgbClr val="336699"/>
                </a:solidFill>
                <a:latin typeface="Times New Roman"/>
              </a:rPr>
              <a:t>r 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 u="sng">
                <a:solidFill>
                  <a:srgbClr val="336699"/>
                </a:solidFill>
                <a:uFillTx/>
                <a:latin typeface="Arial"/>
                <a:ea typeface="Times New Roman"/>
              </a:rPr>
              <a:t>condizione omogenea di Neumann</a:t>
            </a:r>
            <a:r>
              <a:rPr b="0" i="1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i="1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contorno coincidente con una linea equipotenziale del campo </a:t>
            </a:r>
            <a:r>
              <a:rPr b="0" lang="it-IT" sz="22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1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PMC 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(perfect magnetic conductor) </a:t>
            </a:r>
            <a:r>
              <a:rPr b="0" lang="it-IT" sz="22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 0, 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</a:t>
            </a:r>
            <a:r>
              <a:rPr b="0" i="1" lang="it-IT" sz="2400" spc="-1" strike="noStrike" baseline="-25000">
                <a:solidFill>
                  <a:srgbClr val="336699"/>
                </a:solidFill>
                <a:latin typeface="Times New Roman"/>
              </a:rPr>
              <a:t>r 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 +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440" y="2868480"/>
            <a:ext cx="8405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In corrispondenza della superficie di separazione tra aria e schermo viene imposta una delle seguenti condizioni al contorno:</a:t>
            </a:r>
            <a:r>
              <a:rPr b="0" lang="it-IT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3280" y="2106720"/>
            <a:ext cx="75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6699"/>
                </a:solidFill>
                <a:uFillTx/>
                <a:latin typeface="Arial"/>
                <a:ea typeface="Times New Roman"/>
              </a:rPr>
              <a:t>Limite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: schermi costituiti da materiali ideali</a:t>
            </a:r>
            <a:r>
              <a:rPr b="0" lang="it-IT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01600" y="1378080"/>
            <a:ext cx="8798040" cy="38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deve essere reale, finita e diversa da zero per tutti i valori reali di </a:t>
            </a:r>
            <a:r>
              <a:rPr b="0" i="1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t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, in quanto il cambiamento in direzione lungo il perimetro del poligono appartenente al piano </a:t>
            </a:r>
            <a:r>
              <a:rPr b="0" i="1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z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è già definito per mezzo dei termini contenuti nelle parentesi;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deve far corrispondere almeno un punto del piano </a:t>
            </a:r>
            <a:r>
              <a:rPr b="0" i="1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t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non appartenente all’asse reale a </a:t>
            </a:r>
            <a:r>
              <a:rPr b="0" i="1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z = </a:t>
            </a:r>
            <a:r>
              <a:rPr b="0" lang="it-IT" sz="2200" spc="-1" strike="noStrike">
                <a:solidFill>
                  <a:srgbClr val="336699"/>
                </a:solidFill>
                <a:latin typeface="Symbol"/>
                <a:ea typeface="Symbol"/>
              </a:rPr>
              <a:t>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(si sceglie come polo</a:t>
            </a:r>
            <a:r>
              <a:rPr b="0" i="1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t =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i="1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j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);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deve porre in relazione</a:t>
            </a:r>
            <a:r>
              <a:rPr b="0" i="1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t = </a:t>
            </a:r>
            <a:r>
              <a:rPr b="0" lang="it-IT" sz="2200" spc="-1" strike="noStrike">
                <a:solidFill>
                  <a:srgbClr val="336699"/>
                </a:solidFill>
                <a:latin typeface="Symbol"/>
                <a:ea typeface="Symbol"/>
              </a:rPr>
              <a:t>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con un valore finito di </a:t>
            </a:r>
            <a:r>
              <a:rPr b="0" i="1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z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(in </a:t>
            </a:r>
            <a:r>
              <a:rPr b="0" i="1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t = </a:t>
            </a:r>
            <a:r>
              <a:rPr b="0" lang="it-IT" sz="2200" spc="-1" strike="noStrike">
                <a:solidFill>
                  <a:srgbClr val="336699"/>
                </a:solidFill>
                <a:latin typeface="Symbol"/>
                <a:ea typeface="Symbol"/>
              </a:rPr>
              <a:t></a:t>
            </a:r>
            <a:r>
              <a:rPr b="0" lang="it-IT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si ha uno zero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4600" y="822240"/>
            <a:ext cx="8307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f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( </a:t>
            </a:r>
            <a:r>
              <a:rPr b="1" i="1" lang="it-IT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t </a:t>
            </a:r>
            <a:r>
              <a:rPr b="1" lang="it-IT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  <a:ea typeface="Times New Roman"/>
              </a:rPr>
              <a:t> deve soddisfare le seguenti condizioni 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0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156120" y="5253120"/>
                <a:ext cx="299844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 rot="5400000">
            <a:off x="1722240" y="5253120"/>
            <a:ext cx="1352520" cy="1218960"/>
          </a:xfrm>
          <a:custGeom>
            <a:avLst/>
            <a:gdLst>
              <a:gd name="textAreaLeft" fmla="*/ 450720 w 1352520"/>
              <a:gd name="textAreaRight" fmla="*/ 1158480 w 1352520"/>
              <a:gd name="textAreaTop" fmla="*/ 702000 h 1218960"/>
              <a:gd name="textAreaBottom" fmla="*/ 10440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5920" y="1684440"/>
            <a:ext cx="754200" cy="3944880"/>
          </a:xfrm>
          <a:custGeom>
            <a:avLst/>
            <a:gdLst>
              <a:gd name="textAreaLeft" fmla="*/ 482040 w 754200"/>
              <a:gd name="textAreaRight" fmla="*/ 754560 w 754200"/>
              <a:gd name="textAreaTop" fmla="*/ 102600 h 3944880"/>
              <a:gd name="textAreaBottom" fmla="*/ 3842280 h 394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1698480" y="719280"/>
            <a:ext cx="913464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Schermo di dimensione finita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893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0372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7664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6248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61160" y="3152880"/>
            <a:ext cx="7351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1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081760" y="1193760"/>
            <a:ext cx="3206520" cy="2813040"/>
            <a:chOff x="5081760" y="1193760"/>
            <a:chExt cx="3206520" cy="2813040"/>
          </a:xfrm>
        </p:grpSpPr>
        <p:sp>
          <p:nvSpPr>
            <p:cNvPr id="457" name=""/>
            <p:cNvSpPr/>
            <p:nvPr/>
          </p:nvSpPr>
          <p:spPr>
            <a:xfrm>
              <a:off x="5313600" y="1655640"/>
              <a:ext cx="2612880" cy="2241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04160" y="1193760"/>
              <a:ext cx="6649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jv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05600" y="1295280"/>
              <a:ext cx="1257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piano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 t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45200" y="273348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</a:t>
              </a:r>
              <a:r>
                <a:rPr b="0" lang="it-IT" sz="20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89480" y="1617480"/>
              <a:ext cx="2630520" cy="1165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6629400" y="1334880"/>
              <a:ext cx="0" cy="26719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81760" y="2792160"/>
              <a:ext cx="320652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9760" y="2414520"/>
              <a:ext cx="7347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z = -l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12160" y="2734920"/>
              <a:ext cx="86040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z = +l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88360" y="272412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56680" y="2441520"/>
              <a:ext cx="7347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z = -l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477200" y="267948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</a:t>
              </a:r>
              <a:r>
                <a:rPr b="0" lang="it-IT" sz="20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78640" y="218736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54920" y="2732040"/>
              <a:ext cx="49392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4440" y="1709640"/>
              <a:ext cx="73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j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v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51840" y="1890720"/>
              <a:ext cx="0" cy="877680"/>
            </a:xfrm>
            <a:prstGeom prst="line">
              <a:avLst/>
            </a:prstGeom>
            <a:ln w="1584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15360" y="1917360"/>
              <a:ext cx="645840" cy="0"/>
            </a:xfrm>
            <a:prstGeom prst="line">
              <a:avLst/>
            </a:prstGeom>
            <a:ln w="1908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97840" y="187308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09000" y="1684080"/>
              <a:ext cx="5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56400" y="2124000"/>
              <a:ext cx="94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 I </a:t>
              </a: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(0,j)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63400" y="1114560"/>
            <a:ext cx="3592440" cy="3274200"/>
            <a:chOff x="563400" y="1114560"/>
            <a:chExt cx="3592440" cy="3274200"/>
          </a:xfrm>
        </p:grpSpPr>
        <p:sp>
          <p:nvSpPr>
            <p:cNvPr id="478" name=""/>
            <p:cNvSpPr/>
            <p:nvPr/>
          </p:nvSpPr>
          <p:spPr>
            <a:xfrm>
              <a:off x="585360" y="3868560"/>
              <a:ext cx="338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ritorno di corrente </a:t>
              </a:r>
              <a:r>
                <a:rPr b="0" lang="it-IT" sz="14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</a:t>
              </a:r>
              <a:r>
                <a:rPr b="0" lang="it-IT" sz="14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 circonferenza di raggio infinito con centro nell’origine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563400" y="1114560"/>
              <a:ext cx="3592440" cy="2812320"/>
              <a:chOff x="563400" y="1114560"/>
              <a:chExt cx="3592440" cy="2812320"/>
            </a:xfrm>
          </p:grpSpPr>
          <p:sp>
            <p:nvSpPr>
              <p:cNvPr id="480" name=""/>
              <p:cNvSpPr/>
              <p:nvPr/>
            </p:nvSpPr>
            <p:spPr>
              <a:xfrm>
                <a:off x="795240" y="1576080"/>
                <a:ext cx="2612880" cy="224136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421080" y="2660400"/>
                <a:ext cx="73476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0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585800" y="1114560"/>
                <a:ext cx="66528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000" spc="-1" strike="noStrike">
                    <a:solidFill>
                      <a:srgbClr val="010000"/>
                    </a:solidFill>
                    <a:latin typeface="Times New Roman"/>
                  </a:rPr>
                  <a:t>jy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487600" y="1215720"/>
                <a:ext cx="125712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10000"/>
                    </a:solidFill>
                    <a:latin typeface="Times New Roman"/>
                  </a:rPr>
                  <a:t>piano</a:t>
                </a:r>
                <a:r>
                  <a:rPr b="0" i="1" lang="it-IT" sz="2000" spc="-1" strike="noStrike">
                    <a:solidFill>
                      <a:srgbClr val="010000"/>
                    </a:solidFill>
                    <a:latin typeface="Times New Roman"/>
                  </a:rPr>
                  <a:t> z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939600" y="2701800"/>
                <a:ext cx="73512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000" spc="-1" strike="noStrike">
                    <a:solidFill>
                      <a:srgbClr val="010000"/>
                    </a:solidFill>
                    <a:latin typeface="Times New Roman"/>
                  </a:rPr>
                  <a:t>- l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63400" y="2712960"/>
                <a:ext cx="3206880" cy="0"/>
              </a:xfrm>
              <a:prstGeom prst="line">
                <a:avLst/>
              </a:prstGeom>
              <a:ln w="19080">
                <a:solidFill>
                  <a:srgbClr val="01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894040" y="2649240"/>
                <a:ext cx="73476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000" spc="-1" strike="noStrike">
                    <a:solidFill>
                      <a:srgbClr val="010000"/>
                    </a:solidFill>
                    <a:latin typeface="Times New Roman"/>
                  </a:rPr>
                  <a:t>+l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101600" y="2598480"/>
                <a:ext cx="2054160" cy="1076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2111400" y="1255680"/>
                <a:ext cx="0" cy="2671200"/>
              </a:xfrm>
              <a:prstGeom prst="line">
                <a:avLst/>
              </a:prstGeom>
              <a:ln w="19080">
                <a:solidFill>
                  <a:srgbClr val="01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779560" y="1954080"/>
                <a:ext cx="88920" cy="88560"/>
              </a:xfrm>
              <a:prstGeom prst="ellipse">
                <a:avLst/>
              </a:prstGeom>
              <a:solidFill>
                <a:srgbClr val="010000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824200" y="1990440"/>
                <a:ext cx="0" cy="73476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116080" y="1990440"/>
                <a:ext cx="735120" cy="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668320" y="1617480"/>
                <a:ext cx="73512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000" spc="-1" strike="noStrike">
                    <a:solidFill>
                      <a:srgbClr val="010000"/>
                    </a:solidFill>
                    <a:latin typeface="Times New Roman"/>
                  </a:rPr>
                  <a:t>+I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571480" y="2631960"/>
                <a:ext cx="735120" cy="71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0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it-IT" sz="2000" spc="-1" strike="noStrike" baseline="-25000">
                    <a:solidFill>
                      <a:srgbClr val="01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39800" y="1787400"/>
                <a:ext cx="806400" cy="71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10000"/>
                    </a:solidFill>
                    <a:latin typeface="Times New Roman"/>
                  </a:rPr>
                  <a:t>j</a:t>
                </a:r>
                <a:r>
                  <a:rPr b="0" i="1" lang="it-IT" sz="2000" spc="-1" strike="noStrike">
                    <a:solidFill>
                      <a:srgbClr val="010000"/>
                    </a:solidFill>
                    <a:latin typeface="Times New Roman"/>
                  </a:rPr>
                  <a:t>y</a:t>
                </a:r>
                <a:r>
                  <a:rPr b="0" lang="it-IT" sz="2000" spc="-1" strike="noStrike" baseline="-25000">
                    <a:solidFill>
                      <a:srgbClr val="01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1260000" y="3178080"/>
              <a:ext cx="19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spessore trascurabile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1792080" y="2689200"/>
              <a:ext cx="0" cy="5551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2480" y="232236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</a:t>
              </a:r>
              <a:r>
                <a:rPr b="0" i="1" lang="it-IT" sz="14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i="1" lang="it-IT" sz="1400" spc="-1" strike="noStrike">
                  <a:solidFill>
                    <a:srgbClr val="010000"/>
                  </a:solidFill>
                  <a:latin typeface="Times New Roman"/>
                </a:rPr>
                <a:t>= </a:t>
              </a:r>
              <a:r>
                <a:rPr b="0" lang="it-IT" sz="1400" spc="-1" strike="noStrike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23760" y="2322360"/>
              <a:ext cx="12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</a:t>
              </a:r>
              <a:r>
                <a:rPr b="0" i="1" lang="it-IT" sz="14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i="1" lang="it-IT" sz="1400" spc="-1" strike="noStrike">
                  <a:solidFill>
                    <a:srgbClr val="010000"/>
                  </a:solidFill>
                  <a:latin typeface="Times New Roman"/>
                </a:rPr>
                <a:t>= </a:t>
              </a:r>
              <a:r>
                <a:rPr b="0" lang="it-IT" sz="1400" spc="-1" strike="noStrike">
                  <a:solidFill>
                    <a:srgbClr val="010000"/>
                  </a:solidFill>
                  <a:latin typeface="Times New Roman"/>
                </a:rPr>
                <a:t>2</a:t>
              </a:r>
              <a:r>
                <a:rPr b="0" lang="it-IT" sz="14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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406404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166680" y="4890960"/>
                <a:ext cx="20653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39751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267000" y="4871880"/>
                <a:ext cx="23576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6764400" y="4714920"/>
                <a:ext cx="17175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3873600" y="2349360"/>
            <a:ext cx="1085760" cy="843120"/>
          </a:xfrm>
          <a:prstGeom prst="rightArrow">
            <a:avLst>
              <a:gd name="adj1" fmla="val 50000"/>
              <a:gd name="adj2" fmla="val 32195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74920" y="5084640"/>
            <a:ext cx="682560" cy="501840"/>
          </a:xfrm>
          <a:prstGeom prst="rightArrow">
            <a:avLst>
              <a:gd name="adj1" fmla="val 50000"/>
              <a:gd name="adj2" fmla="val 34003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16520" y="5021280"/>
            <a:ext cx="682560" cy="501480"/>
          </a:xfrm>
          <a:prstGeom prst="rightArrow">
            <a:avLst>
              <a:gd name="adj1" fmla="val 50000"/>
              <a:gd name="adj2" fmla="val 3402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17720" y="5664240"/>
            <a:ext cx="23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integrando rispetto alla variabile complessa </a:t>
            </a:r>
            <a:r>
              <a:rPr b="0" i="1" lang="it-IT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18240" y="5538960"/>
            <a:ext cx="871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S </a:t>
            </a:r>
            <a:r>
              <a:rPr b="0" lang="it-IT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= - 4</a:t>
            </a:r>
            <a:r>
              <a:rPr b="0" i="1" lang="it-IT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k</a:t>
            </a:r>
            <a:r>
              <a:rPr b="0" lang="it-IT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= - </a:t>
            </a:r>
            <a:r>
              <a:rPr b="0" i="1" lang="it-IT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-360" y="774360"/>
            <a:ext cx="8783640" cy="11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Metodo delle immagini (schermo PMC)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20372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7664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6248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16080" y="1562040"/>
            <a:ext cx="3601440" cy="2813040"/>
            <a:chOff x="316080" y="1562040"/>
            <a:chExt cx="3601440" cy="2813040"/>
          </a:xfrm>
        </p:grpSpPr>
        <p:sp>
          <p:nvSpPr>
            <p:cNvPr id="528" name=""/>
            <p:cNvSpPr/>
            <p:nvPr/>
          </p:nvSpPr>
          <p:spPr>
            <a:xfrm>
              <a:off x="3182760" y="3117600"/>
              <a:ext cx="7347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7560" y="2023920"/>
              <a:ext cx="2612520" cy="2241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38120" y="1562040"/>
              <a:ext cx="6645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jv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39560" y="1663560"/>
              <a:ext cx="1257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piano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 t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3800" y="1985760"/>
              <a:ext cx="2629800" cy="1165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863360" y="1703160"/>
              <a:ext cx="0" cy="26719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16080" y="3160440"/>
              <a:ext cx="320652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22320" y="3092400"/>
              <a:ext cx="8856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12600" y="2555640"/>
              <a:ext cx="8856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88880" y="3100320"/>
              <a:ext cx="4935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28400" y="2077920"/>
              <a:ext cx="736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j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v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2485800" y="2258280"/>
              <a:ext cx="0" cy="878040"/>
            </a:xfrm>
            <a:prstGeom prst="line">
              <a:avLst/>
            </a:prstGeom>
            <a:ln w="1584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2285640"/>
              <a:ext cx="645480" cy="0"/>
            </a:xfrm>
            <a:prstGeom prst="line">
              <a:avLst/>
            </a:prstGeom>
            <a:ln w="1908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31800" y="2241360"/>
              <a:ext cx="8856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442960" y="2052360"/>
              <a:ext cx="52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90360" y="2492280"/>
              <a:ext cx="94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 I </a:t>
              </a: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(0,j)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221440" y="1589040"/>
            <a:ext cx="3601800" cy="2813040"/>
            <a:chOff x="5221440" y="1589040"/>
            <a:chExt cx="3601800" cy="2813040"/>
          </a:xfrm>
        </p:grpSpPr>
        <p:sp>
          <p:nvSpPr>
            <p:cNvPr id="545" name=""/>
            <p:cNvSpPr/>
            <p:nvPr/>
          </p:nvSpPr>
          <p:spPr>
            <a:xfrm>
              <a:off x="8088480" y="3144600"/>
              <a:ext cx="7347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52920" y="2050920"/>
              <a:ext cx="2613240" cy="2241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43480" y="1589040"/>
              <a:ext cx="6652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jv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45280" y="1690560"/>
              <a:ext cx="1257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piano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 t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6769080" y="1730160"/>
              <a:ext cx="0" cy="26719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21440" y="3187440"/>
              <a:ext cx="320652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27680" y="311940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18320" y="258264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00880" y="2768400"/>
              <a:ext cx="49392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34120" y="2104920"/>
              <a:ext cx="73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j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v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391520" y="2286000"/>
              <a:ext cx="0" cy="877680"/>
            </a:xfrm>
            <a:prstGeom prst="line">
              <a:avLst/>
            </a:prstGeom>
            <a:ln w="1584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54680" y="2313000"/>
              <a:ext cx="646200" cy="0"/>
            </a:xfrm>
            <a:prstGeom prst="line">
              <a:avLst/>
            </a:prstGeom>
            <a:ln w="1908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37520" y="226836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48680" y="2079360"/>
              <a:ext cx="5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896080" y="2519280"/>
              <a:ext cx="94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 I </a:t>
              </a: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(0,j)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80160" y="3487680"/>
              <a:ext cx="104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 I </a:t>
              </a: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(0,-j)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18320" y="359712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7391520" y="3144240"/>
              <a:ext cx="0" cy="878040"/>
            </a:xfrm>
            <a:prstGeom prst="line">
              <a:avLst/>
            </a:prstGeom>
            <a:ln w="1584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3760" y="4016160"/>
              <a:ext cx="646200" cy="0"/>
            </a:xfrm>
            <a:prstGeom prst="line">
              <a:avLst/>
            </a:prstGeom>
            <a:ln w="1908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27800" y="394488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94680" y="3844800"/>
              <a:ext cx="5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89840" y="3825720"/>
              <a:ext cx="73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-j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v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441600" y="2133720"/>
            <a:ext cx="183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Schermo in PM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6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36880" y="2822400"/>
            <a:ext cx="1030320" cy="698760"/>
          </a:xfrm>
          <a:prstGeom prst="rightArrow">
            <a:avLst>
              <a:gd name="adj1" fmla="val 50000"/>
              <a:gd name="adj2" fmla="val 36862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471680" y="4759200"/>
            <a:ext cx="6491160" cy="1326600"/>
            <a:chOff x="1471680" y="4759200"/>
            <a:chExt cx="6491160" cy="1326600"/>
          </a:xfrm>
        </p:grpSpPr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1471680" y="4759200"/>
                  <a:ext cx="6491160" cy="93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/>
                              </m:sSup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72" name=""/>
            <p:cNvSpPr/>
            <p:nvPr/>
          </p:nvSpPr>
          <p:spPr>
            <a:xfrm rot="16200000">
              <a:off x="3867120" y="4312800"/>
              <a:ext cx="222120" cy="2575080"/>
            </a:xfrm>
            <a:custGeom>
              <a:avLst/>
              <a:gdLst>
                <a:gd name="textAreaLeft" fmla="*/ 141840 w 222120"/>
                <a:gd name="textAreaRight" fmla="*/ 222480 w 222120"/>
                <a:gd name="textAreaTop" fmla="*/ 66960 h 2575080"/>
                <a:gd name="textAreaBottom" fmla="*/ 2508120 h 257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6200000">
              <a:off x="6521400" y="4295880"/>
              <a:ext cx="222480" cy="2574720"/>
            </a:xfrm>
            <a:custGeom>
              <a:avLst/>
              <a:gdLst>
                <a:gd name="textAreaLeft" fmla="*/ 142200 w 222480"/>
                <a:gd name="textAreaRight" fmla="*/ 222840 w 222480"/>
                <a:gd name="textAreaTop" fmla="*/ 66960 h 2574720"/>
                <a:gd name="textAreaBottom" fmla="*/ 2507760 h 25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21120" y="5748480"/>
              <a:ext cx="20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6699"/>
                  </a:solidFill>
                  <a:latin typeface="Arial"/>
                </a:rPr>
                <a:t>conduttore di an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94400" y="5729400"/>
              <a:ext cx="20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6699"/>
                  </a:solidFill>
                  <a:latin typeface="Arial"/>
                </a:rPr>
                <a:t>conduttore di ritorno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-360" y="774360"/>
            <a:ext cx="8783640" cy="11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Metodo delle immagini (schermo PEC)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20372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7664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46248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316080" y="1562040"/>
            <a:ext cx="3601440" cy="2813040"/>
            <a:chOff x="316080" y="1562040"/>
            <a:chExt cx="3601440" cy="2813040"/>
          </a:xfrm>
        </p:grpSpPr>
        <p:sp>
          <p:nvSpPr>
            <p:cNvPr id="595" name=""/>
            <p:cNvSpPr/>
            <p:nvPr/>
          </p:nvSpPr>
          <p:spPr>
            <a:xfrm>
              <a:off x="3182760" y="3117600"/>
              <a:ext cx="7347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47560" y="2023920"/>
              <a:ext cx="2612520" cy="2241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38120" y="1562040"/>
              <a:ext cx="6645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jv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239560" y="1663560"/>
              <a:ext cx="1257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piano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 t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3800" y="1985760"/>
              <a:ext cx="2629800" cy="1165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1863360" y="1703160"/>
              <a:ext cx="0" cy="26719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6080" y="3160440"/>
              <a:ext cx="320652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2320" y="3092400"/>
              <a:ext cx="8856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12600" y="2555640"/>
              <a:ext cx="8856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8880" y="3100320"/>
              <a:ext cx="4935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28400" y="2077920"/>
              <a:ext cx="736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j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v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2485800" y="2258280"/>
              <a:ext cx="0" cy="878040"/>
            </a:xfrm>
            <a:prstGeom prst="line">
              <a:avLst/>
            </a:prstGeom>
            <a:ln w="1584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49320" y="2285640"/>
              <a:ext cx="645480" cy="0"/>
            </a:xfrm>
            <a:prstGeom prst="line">
              <a:avLst/>
            </a:prstGeom>
            <a:ln w="1908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431800" y="2241360"/>
              <a:ext cx="8856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42960" y="2052360"/>
              <a:ext cx="52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90360" y="2492280"/>
              <a:ext cx="94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 I </a:t>
              </a: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(0,j)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3441600" y="2133720"/>
            <a:ext cx="183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Schermo in PE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06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36880" y="2822400"/>
            <a:ext cx="1030320" cy="698760"/>
          </a:xfrm>
          <a:prstGeom prst="rightArrow">
            <a:avLst>
              <a:gd name="adj1" fmla="val 50000"/>
              <a:gd name="adj2" fmla="val 36862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5200560" y="1590840"/>
            <a:ext cx="3601800" cy="2813040"/>
            <a:chOff x="5200560" y="1590840"/>
            <a:chExt cx="3601800" cy="2813040"/>
          </a:xfrm>
        </p:grpSpPr>
        <p:sp>
          <p:nvSpPr>
            <p:cNvPr id="615" name=""/>
            <p:cNvSpPr/>
            <p:nvPr/>
          </p:nvSpPr>
          <p:spPr>
            <a:xfrm>
              <a:off x="8067600" y="3146400"/>
              <a:ext cx="7347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32040" y="2052720"/>
              <a:ext cx="2613240" cy="2241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22600" y="1590840"/>
              <a:ext cx="6652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jv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24400" y="1692360"/>
              <a:ext cx="1257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piano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 t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748200" y="1731960"/>
              <a:ext cx="0" cy="26719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00560" y="3189240"/>
              <a:ext cx="320652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706800" y="312120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97440" y="258444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80000" y="2770200"/>
              <a:ext cx="49392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13240" y="2106720"/>
              <a:ext cx="73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j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v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7370640" y="2287800"/>
              <a:ext cx="0" cy="877680"/>
            </a:xfrm>
            <a:prstGeom prst="line">
              <a:avLst/>
            </a:prstGeom>
            <a:ln w="1584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33800" y="2314800"/>
              <a:ext cx="646200" cy="0"/>
            </a:xfrm>
            <a:prstGeom prst="line">
              <a:avLst/>
            </a:prstGeom>
            <a:ln w="1908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16640" y="227016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27800" y="2081160"/>
              <a:ext cx="5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75200" y="2521080"/>
              <a:ext cx="94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 I </a:t>
              </a: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(0,j)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59280" y="3489480"/>
              <a:ext cx="104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I </a:t>
              </a: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(0,-j)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697440" y="359892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370640" y="3146040"/>
              <a:ext cx="0" cy="878040"/>
            </a:xfrm>
            <a:prstGeom prst="line">
              <a:avLst/>
            </a:prstGeom>
            <a:ln w="1584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52880" y="4017960"/>
              <a:ext cx="646200" cy="0"/>
            </a:xfrm>
            <a:prstGeom prst="line">
              <a:avLst/>
            </a:prstGeom>
            <a:ln w="1908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06920" y="394668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73800" y="3846600"/>
              <a:ext cx="5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 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68960" y="3827520"/>
              <a:ext cx="73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-j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v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34909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733400" y="4595760"/>
            <a:ext cx="5735880" cy="2073960"/>
            <a:chOff x="1733400" y="4595760"/>
            <a:chExt cx="5735880" cy="2073960"/>
          </a:xfrm>
        </p:grpSpPr>
        <p:sp>
          <p:nvSpPr>
            <p:cNvPr id="639" name=""/>
            <p:cNvSpPr/>
            <p:nvPr/>
          </p:nvSpPr>
          <p:spPr>
            <a:xfrm rot="16200000">
              <a:off x="3951360" y="5116320"/>
              <a:ext cx="222120" cy="2136600"/>
            </a:xfrm>
            <a:custGeom>
              <a:avLst/>
              <a:gdLst>
                <a:gd name="textAreaLeft" fmla="*/ 141840 w 222120"/>
                <a:gd name="textAreaRight" fmla="*/ 222480 w 222120"/>
                <a:gd name="textAreaTop" fmla="*/ 55440 h 2136600"/>
                <a:gd name="textAreaBottom" fmla="*/ 2081160 h 21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6200000">
              <a:off x="6130080" y="5140800"/>
              <a:ext cx="222120" cy="2081160"/>
            </a:xfrm>
            <a:custGeom>
              <a:avLst/>
              <a:gdLst>
                <a:gd name="textAreaLeft" fmla="*/ 141840 w 222120"/>
                <a:gd name="textAreaRight" fmla="*/ 222480 w 222120"/>
                <a:gd name="textAreaTop" fmla="*/ 54000 h 2081160"/>
                <a:gd name="textAreaBottom" fmla="*/ 2027160 h 20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779560" y="5433840"/>
              <a:ext cx="208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6699"/>
                  </a:solidFill>
                  <a:latin typeface="Arial"/>
                </a:rPr>
                <a:t>conduttore di an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80200" y="6288120"/>
              <a:ext cx="20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6699"/>
                  </a:solidFill>
                  <a:latin typeface="Arial"/>
                </a:rPr>
                <a:t>conduttore di ritorno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3" name=""/>
                <p:cNvSpPr txBox="1"/>
                <p:nvPr/>
              </p:nvSpPr>
              <p:spPr>
                <a:xfrm>
                  <a:off x="1733400" y="4595760"/>
                  <a:ext cx="5561280" cy="13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p/>
                                      </m:sSup>
                                    </m:sub>
                                  </m:sSub>
                                </m:den>
                              </m:f>
                            </m:e>
                          </m:d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44" name=""/>
            <p:cNvSpPr/>
            <p:nvPr/>
          </p:nvSpPr>
          <p:spPr>
            <a:xfrm>
              <a:off x="3075120" y="6332400"/>
              <a:ext cx="20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6699"/>
                  </a:solidFill>
                  <a:latin typeface="Arial"/>
                </a:rPr>
                <a:t>conduttore di an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844560" y="750960"/>
            <a:ext cx="774864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  <a:ea typeface="Times New Roman"/>
              </a:rPr>
              <a:t>Valutazione del campo magnetico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2893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5514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3236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87720" y="1832040"/>
            <a:ext cx="396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67000" y="1434960"/>
            <a:ext cx="59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campo nel semipiano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v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&gt;0 (unione regioni ‘sorgente’ e ‘protetta’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254480" y="32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0836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1925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4332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36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6396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782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0593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7047000" y="4960800"/>
                <a:ext cx="209700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1" name=""/>
          <p:cNvSpPr/>
          <p:nvPr/>
        </p:nvSpPr>
        <p:spPr>
          <a:xfrm>
            <a:off x="40528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7013520" y="5967360"/>
                <a:ext cx="21304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73" name=""/>
          <p:cNvGrpSpPr/>
          <p:nvPr/>
        </p:nvGrpSpPr>
        <p:grpSpPr>
          <a:xfrm>
            <a:off x="0" y="3463920"/>
            <a:ext cx="5735520" cy="1978200"/>
            <a:chOff x="0" y="3463920"/>
            <a:chExt cx="5735520" cy="1978200"/>
          </a:xfrm>
        </p:grpSpPr>
        <p:sp>
          <p:nvSpPr>
            <p:cNvPr id="674" name=""/>
            <p:cNvSpPr/>
            <p:nvPr/>
          </p:nvSpPr>
          <p:spPr>
            <a:xfrm>
              <a:off x="0" y="3463920"/>
              <a:ext cx="361800" cy="1978200"/>
            </a:xfrm>
            <a:custGeom>
              <a:avLst/>
              <a:gdLst>
                <a:gd name="textAreaLeft" fmla="*/ 231120 w 361800"/>
                <a:gd name="textAreaRight" fmla="*/ 362160 w 361800"/>
                <a:gd name="textAreaTop" fmla="*/ 51480 h 1978200"/>
                <a:gd name="textAreaBottom" fmla="*/ 1926720 h 197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5" name=""/>
                <p:cNvSpPr txBox="1"/>
                <p:nvPr/>
              </p:nvSpPr>
              <p:spPr>
                <a:xfrm>
                  <a:off x="298440" y="3532320"/>
                  <a:ext cx="5437080" cy="89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z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p/>
                                  </m:sSup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d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z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6" name=""/>
                <p:cNvSpPr txBox="1"/>
                <p:nvPr/>
              </p:nvSpPr>
              <p:spPr>
                <a:xfrm>
                  <a:off x="324000" y="4464000"/>
                  <a:ext cx="529560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z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p/>
                                  </m:sSup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d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z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231920" y="5433840"/>
                <a:ext cx="1876320" cy="7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74720" y="1871640"/>
                <a:ext cx="16891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9" name=""/>
          <p:cNvSpPr/>
          <p:nvPr/>
        </p:nvSpPr>
        <p:spPr>
          <a:xfrm>
            <a:off x="669960" y="2995560"/>
            <a:ext cx="24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trasformazione </a:t>
            </a:r>
            <a:r>
              <a:rPr b="0" i="1" lang="it-IT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z</a:t>
            </a:r>
            <a:r>
              <a:rPr b="0" lang="it-IT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i="1" lang="it-IT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t</a:t>
            </a:r>
            <a:r>
              <a:rPr b="0" lang="it-IT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727600" y="3782880"/>
            <a:ext cx="530280" cy="324000"/>
          </a:xfrm>
          <a:prstGeom prst="rightArrow">
            <a:avLst>
              <a:gd name="adj1" fmla="val 50000"/>
              <a:gd name="adj2" fmla="val 4091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637240" y="4730760"/>
            <a:ext cx="530280" cy="324000"/>
          </a:xfrm>
          <a:prstGeom prst="rightArrow">
            <a:avLst>
              <a:gd name="adj1" fmla="val 50000"/>
              <a:gd name="adj2" fmla="val 4091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06600" y="2511360"/>
            <a:ext cx="456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campo nel semipiano 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v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&lt;0 (schermo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81640" y="1927080"/>
            <a:ext cx="217620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discontinuità in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y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=0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2502000" y="1649520"/>
            <a:ext cx="823680" cy="57312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573280" y="2295360"/>
            <a:ext cx="752400" cy="37656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67280" y="4691160"/>
            <a:ext cx="13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PE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49800" y="3720960"/>
            <a:ext cx="13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PM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rot="5400000">
            <a:off x="5550120" y="5475960"/>
            <a:ext cx="1138320" cy="968040"/>
          </a:xfrm>
          <a:custGeom>
            <a:avLst/>
            <a:gdLst>
              <a:gd name="textAreaLeft" fmla="*/ 379440 w 1138320"/>
              <a:gd name="textAreaRight" fmla="*/ 975240 w 1138320"/>
              <a:gd name="textAreaTop" fmla="*/ 557640 h 968040"/>
              <a:gd name="textAreaBottom" fmla="*/ 829080 h 968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605640" y="5002200"/>
            <a:ext cx="395280" cy="1855800"/>
          </a:xfrm>
          <a:custGeom>
            <a:avLst/>
            <a:gdLst>
              <a:gd name="textAreaLeft" fmla="*/ 252720 w 395280"/>
              <a:gd name="textAreaRight" fmla="*/ 395640 w 395280"/>
              <a:gd name="textAreaTop" fmla="*/ 48240 h 1855800"/>
              <a:gd name="textAreaBottom" fmla="*/ 1807560 h 185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-360" y="774360"/>
            <a:ext cx="878364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Limiti di validità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20372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07664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46248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206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468600" y="330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2280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912960" y="1450800"/>
            <a:ext cx="82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materiali perfetti</a:t>
            </a:r>
            <a:r>
              <a:rPr b="0" lang="it-IT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 penetrazione del campo attraverso lo schermo null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47760" y="2162160"/>
            <a:ext cx="8439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Determinazione di un criterio per valutare “quanto correttamente” uno schermo in materiale perfetto approssima il comportamento di uno </a:t>
            </a:r>
            <a:r>
              <a:rPr b="1" lang="it-IT" sz="2000" spc="-1" strike="noStrike" u="sng">
                <a:solidFill>
                  <a:srgbClr val="336699"/>
                </a:solidFill>
                <a:uFillTx/>
                <a:latin typeface="Arial"/>
                <a:ea typeface="Times New Roman"/>
              </a:rPr>
              <a:t>schermo in materiale reale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58720" y="3846600"/>
            <a:ext cx="2800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Analisi del fattore di schermatura di una </a:t>
            </a:r>
            <a:r>
              <a:rPr b="0" lang="it-IT" sz="1800" spc="-1" strike="noStrike" u="sng">
                <a:solidFill>
                  <a:srgbClr val="336699"/>
                </a:solidFill>
                <a:uFillTx/>
                <a:latin typeface="Arial"/>
                <a:ea typeface="Times New Roman"/>
              </a:rPr>
              <a:t>lastra infinita</a:t>
            </a:r>
            <a:r>
              <a:rPr b="0" lang="it-IT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 dello stesso spessore e costruita con lo stesso material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705200" y="3384720"/>
            <a:ext cx="3937320" cy="2705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lo schermo di dimensione finita può essere approssimato con uno schermo in materiale perfetto, se il campo sul bordo dello schermo è ragionevolmente simile a quello che si manifesta con una lastra infinita in materiale reale del medesimo spessor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50880" y="3209760"/>
            <a:ext cx="527040" cy="636840"/>
          </a:xfrm>
          <a:prstGeom prst="downArrow">
            <a:avLst>
              <a:gd name="adj1" fmla="val 50000"/>
              <a:gd name="adj2" fmla="val 30208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87680" y="4037040"/>
            <a:ext cx="974880" cy="824040"/>
          </a:xfrm>
          <a:prstGeom prst="rightArrow">
            <a:avLst>
              <a:gd name="adj1" fmla="val 50000"/>
              <a:gd name="adj2" fmla="val 29576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50880" y="5946840"/>
            <a:ext cx="31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solo effetto di penetrazion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04880" y="5270400"/>
            <a:ext cx="527040" cy="636840"/>
          </a:xfrm>
          <a:prstGeom prst="downArrow">
            <a:avLst>
              <a:gd name="adj1" fmla="val 50000"/>
              <a:gd name="adj2" fmla="val 30208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218880" y="744480"/>
            <a:ext cx="8783640" cy="6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Determinazione delle condizioni di applicabilità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0372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07664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46248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6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27120" y="1297080"/>
            <a:ext cx="544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Si considera una lastra infinita di spessore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t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 in materiale reale. Per semplicità si assume che il sistema di alimentazione sia monofase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5673600" y="1133640"/>
            <a:ext cx="3470400" cy="2442600"/>
            <a:chOff x="5673600" y="1133640"/>
            <a:chExt cx="3470400" cy="2442600"/>
          </a:xfrm>
        </p:grpSpPr>
        <p:sp>
          <p:nvSpPr>
            <p:cNvPr id="740" name=""/>
            <p:cNvSpPr/>
            <p:nvPr/>
          </p:nvSpPr>
          <p:spPr>
            <a:xfrm>
              <a:off x="5724360" y="2468520"/>
              <a:ext cx="331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673600" y="2354040"/>
              <a:ext cx="3230640" cy="104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867360" y="2811240"/>
              <a:ext cx="1144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67640" y="281124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67360" y="3154320"/>
              <a:ext cx="914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010360" y="2468520"/>
              <a:ext cx="0" cy="45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010360" y="2468520"/>
              <a:ext cx="34308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800920" y="245880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24560" y="3154320"/>
              <a:ext cx="41292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75360" y="1133640"/>
              <a:ext cx="3427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11960" y="2612880"/>
              <a:ext cx="5713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10000"/>
                  </a:solidFill>
                  <a:latin typeface="Times New Roman"/>
                </a:rPr>
                <a:t>+</a:t>
              </a: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61000" y="2601720"/>
              <a:ext cx="8668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10000"/>
                  </a:solidFill>
                  <a:latin typeface="Times New Roman"/>
                </a:rPr>
                <a:t>-</a:t>
              </a: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7331040" y="1274040"/>
              <a:ext cx="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142920" y="3544920"/>
            <a:ext cx="88232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Applicando il processo iterativo relativo al </a:t>
            </a:r>
            <a:r>
              <a:rPr b="0" lang="it-IT" sz="1600" spc="-1" strike="noStrike" u="sng">
                <a:solidFill>
                  <a:srgbClr val="336699"/>
                </a:solidFill>
                <a:uFillTx/>
                <a:latin typeface="Arial"/>
                <a:ea typeface="Times New Roman"/>
              </a:rPr>
              <a:t>metodo di separazione delle variabil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, si determinano le componenti del campo magnetico nella regione in cui sono localizzate le sorgenti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Si ricavano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H</a:t>
            </a:r>
            <a:r>
              <a:rPr b="0" i="1" lang="it-IT" sz="1600" spc="-1" strike="noStrike" baseline="-30000">
                <a:solidFill>
                  <a:srgbClr val="336699"/>
                </a:solidFill>
                <a:latin typeface="Arial"/>
                <a:ea typeface="Times New Roman"/>
              </a:rPr>
              <a:t>x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 e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H</a:t>
            </a:r>
            <a:r>
              <a:rPr b="0" i="1" lang="it-IT" sz="1600" spc="-1" strike="noStrike" baseline="-30000">
                <a:solidFill>
                  <a:srgbClr val="336699"/>
                </a:solidFill>
                <a:latin typeface="Arial"/>
                <a:ea typeface="Times New Roman"/>
              </a:rPr>
              <a:t>y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 in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y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=0 (in corrispondenza della superficie di interfaccia aria-schermo inferiore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Si impone che siano soddisfatte delle condizioni di frontiera prossime il più possibile a quelle che si verificano con i materiali perfetti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52640" y="5992920"/>
            <a:ext cx="1947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H</a:t>
            </a:r>
            <a:r>
              <a:rPr b="1" i="1" lang="it-IT" sz="2400" spc="-1" strike="noStrike" baseline="-30000">
                <a:solidFill>
                  <a:srgbClr val="010000"/>
                </a:solidFill>
                <a:latin typeface="Times New Roman"/>
                <a:ea typeface="Times New Roman"/>
              </a:rPr>
              <a:t>y</a:t>
            </a:r>
            <a:r>
              <a:rPr b="1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(</a:t>
            </a:r>
            <a:r>
              <a:rPr b="1" i="1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y</a:t>
            </a:r>
            <a:r>
              <a:rPr b="1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=0)=0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659560" y="5935680"/>
            <a:ext cx="1947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H</a:t>
            </a:r>
            <a:r>
              <a:rPr b="1" i="1" lang="it-IT" sz="2400" spc="-1" strike="noStrike" baseline="-30000">
                <a:solidFill>
                  <a:srgbClr val="010000"/>
                </a:solidFill>
                <a:latin typeface="Times New Roman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(</a:t>
            </a:r>
            <a:r>
              <a:rPr b="1" i="1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y</a:t>
            </a:r>
            <a:r>
              <a:rPr b="1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=0)=0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1749600" y="5584680"/>
            <a:ext cx="1072800" cy="42732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070600" y="5565600"/>
            <a:ext cx="1172880" cy="347760"/>
          </a:xfrm>
          <a:prstGeom prst="line">
            <a:avLst/>
          </a:prstGeom>
          <a:ln w="540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44560" y="5645160"/>
            <a:ext cx="10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99"/>
                </a:solidFill>
                <a:latin typeface="Arial"/>
              </a:rPr>
              <a:t>P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435720" y="5657760"/>
            <a:ext cx="10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99"/>
                </a:solidFill>
                <a:latin typeface="Arial"/>
              </a:rPr>
              <a:t>PM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421240" y="6364440"/>
            <a:ext cx="26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componente tangenzial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82640" y="6407280"/>
            <a:ext cx="26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componente normal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5735520" y="2624040"/>
            <a:ext cx="3149640" cy="151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218880" y="744480"/>
            <a:ext cx="8783640" cy="6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Determinazione delle condizioni di applicabilità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0372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07664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46248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06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5673600" y="1284120"/>
            <a:ext cx="3470400" cy="2443320"/>
            <a:chOff x="5673600" y="1284120"/>
            <a:chExt cx="3470400" cy="2443320"/>
          </a:xfrm>
        </p:grpSpPr>
        <p:sp>
          <p:nvSpPr>
            <p:cNvPr id="783" name=""/>
            <p:cNvSpPr/>
            <p:nvPr/>
          </p:nvSpPr>
          <p:spPr>
            <a:xfrm>
              <a:off x="5724360" y="2619360"/>
              <a:ext cx="331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73600" y="2504880"/>
              <a:ext cx="3230640" cy="104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867360" y="296208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67640" y="29620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867360" y="3305160"/>
              <a:ext cx="914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010360" y="2619360"/>
              <a:ext cx="0" cy="45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010360" y="261936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800920" y="2609640"/>
              <a:ext cx="343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324560" y="3305160"/>
              <a:ext cx="4129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75360" y="1284120"/>
              <a:ext cx="3427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11960" y="2763720"/>
              <a:ext cx="571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10000"/>
                  </a:solidFill>
                  <a:latin typeface="Times New Roman"/>
                </a:rPr>
                <a:t>+</a:t>
              </a: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561000" y="2752560"/>
              <a:ext cx="8668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10000"/>
                  </a:solidFill>
                  <a:latin typeface="Times New Roman"/>
                </a:rPr>
                <a:t>-</a:t>
              </a: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331040" y="142524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3060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328680" y="1708200"/>
                <a:ext cx="5327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98" name=""/>
          <p:cNvSpPr/>
          <p:nvPr/>
        </p:nvSpPr>
        <p:spPr>
          <a:xfrm>
            <a:off x="3049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365040" y="2441520"/>
                <a:ext cx="53182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 rot="5400000">
            <a:off x="5186880" y="3061440"/>
            <a:ext cx="924120" cy="954000"/>
          </a:xfrm>
          <a:custGeom>
            <a:avLst/>
            <a:gdLst>
              <a:gd name="textAreaLeft" fmla="*/ 308160 w 924120"/>
              <a:gd name="textAreaRight" fmla="*/ 791640 w 924120"/>
              <a:gd name="textAreaTop" fmla="*/ 549360 h 954000"/>
              <a:gd name="textAreaBottom" fmla="*/ 817200 h 954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9160" y="1738440"/>
            <a:ext cx="317520" cy="1560240"/>
          </a:xfrm>
          <a:custGeom>
            <a:avLst/>
            <a:gdLst>
              <a:gd name="textAreaLeft" fmla="*/ 203040 w 317520"/>
              <a:gd name="textAreaRight" fmla="*/ 317520 w 317520"/>
              <a:gd name="textAreaTop" fmla="*/ 40680 h 1560240"/>
              <a:gd name="textAreaBottom" fmla="*/ 1519560 h 15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1720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654120" y="4113360"/>
                <a:ext cx="1347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4" name=""/>
          <p:cNvSpPr/>
          <p:nvPr/>
        </p:nvSpPr>
        <p:spPr>
          <a:xfrm>
            <a:off x="36021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203040" y="5187960"/>
                <a:ext cx="54136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k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31114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258840" y="6002280"/>
                <a:ext cx="51958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k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625320" y="3429000"/>
                <a:ext cx="8272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0" name=""/>
          <p:cNvSpPr/>
          <p:nvPr/>
        </p:nvSpPr>
        <p:spPr>
          <a:xfrm>
            <a:off x="5965920" y="3790800"/>
            <a:ext cx="31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nella zona sorgent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5130720"/>
            <a:ext cx="317520" cy="1560600"/>
          </a:xfrm>
          <a:custGeom>
            <a:avLst/>
            <a:gdLst>
              <a:gd name="textAreaLeft" fmla="*/ 203040 w 317520"/>
              <a:gd name="textAreaRight" fmla="*/ 317520 w 317520"/>
              <a:gd name="textAreaTop" fmla="*/ 40680 h 1560600"/>
              <a:gd name="textAreaBottom" fmla="*/ 1519920 h 15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788160" y="2098800"/>
            <a:ext cx="19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lastra infinit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37960" y="1290600"/>
            <a:ext cx="68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Dall’applicazione del metodo di separazione delle variabili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86400" y="2057400"/>
            <a:ext cx="181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6699"/>
                </a:solidFill>
                <a:latin typeface="Times New Roman"/>
              </a:rPr>
              <a:t>t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,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,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</a:t>
            </a:r>
            <a:r>
              <a:rPr b="0" i="1" lang="it-IT" sz="2400" spc="-1" strike="noStrike" baseline="-25000">
                <a:solidFill>
                  <a:srgbClr val="3366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2670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7340760" y="4951440"/>
                <a:ext cx="12762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7" name=""/>
          <p:cNvSpPr/>
          <p:nvPr/>
        </p:nvSpPr>
        <p:spPr>
          <a:xfrm>
            <a:off x="36021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360520" y="4014720"/>
                <a:ext cx="32655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96880" y="4791240"/>
            <a:ext cx="585720" cy="487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83076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44664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6561000" y="6022800"/>
                <a:ext cx="22431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218880" y="744480"/>
            <a:ext cx="878364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Definizione del parametro </a:t>
            </a:r>
            <a:r>
              <a:rPr b="1" i="1" lang="it-IT" sz="3000" spc="-1" strike="noStrike">
                <a:solidFill>
                  <a:srgbClr val="336699"/>
                </a:solidFill>
                <a:latin typeface="Arial"/>
              </a:rPr>
              <a:t>W</a:t>
            </a:r>
            <a:r>
              <a:rPr b="1" i="1" lang="it-IT" sz="3000" spc="-1" strike="noStrike" baseline="-25000">
                <a:solidFill>
                  <a:srgbClr val="336699"/>
                </a:solidFill>
                <a:latin typeface="Arial"/>
              </a:rPr>
              <a:t>sup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20372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07664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06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060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049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720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021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240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114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68120" y="1568520"/>
            <a:ext cx="8686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Arial"/>
              </a:rPr>
              <a:t>k</a:t>
            </a:r>
            <a:r>
              <a:rPr b="1" i="1" lang="it-IT" sz="2000" spc="-1" strike="noStrike" baseline="-25000">
                <a:solidFill>
                  <a:srgbClr val="336699"/>
                </a:solidFill>
                <a:latin typeface="Arial"/>
              </a:rPr>
              <a:t>sup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estremo superiore dell’intervallo in cui la funzione da integrare assume valori non trascurabili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5400000">
            <a:off x="595440" y="2326320"/>
            <a:ext cx="704880" cy="795240"/>
          </a:xfrm>
          <a:custGeom>
            <a:avLst/>
            <a:gdLst>
              <a:gd name="textAreaLeft" fmla="*/ 235080 w 704880"/>
              <a:gd name="textAreaRight" fmla="*/ 603720 w 704880"/>
              <a:gd name="textAreaTop" fmla="*/ 457920 h 795240"/>
              <a:gd name="textAreaBottom" fmla="*/ 681120 h 79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2563920"/>
            <a:ext cx="1906560" cy="59724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k</a:t>
            </a:r>
            <a:r>
              <a:rPr b="1" i="1" lang="it-IT" sz="2800" spc="-1" strike="noStrike" baseline="-30000">
                <a:solidFill>
                  <a:srgbClr val="336699"/>
                </a:solidFill>
                <a:latin typeface="Times New Roman"/>
                <a:ea typeface="Times New Roman"/>
              </a:rPr>
              <a:t>sup</a:t>
            </a:r>
            <a:r>
              <a:rPr b="1" lang="it-IT" sz="2800" spc="-1" strike="noStrike">
                <a:solidFill>
                  <a:srgbClr val="336699"/>
                </a:solidFill>
                <a:latin typeface="Symbol"/>
                <a:ea typeface="Symbol"/>
              </a:rPr>
              <a:t></a:t>
            </a:r>
            <a:r>
              <a:rPr b="1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3/</a:t>
            </a:r>
            <a:r>
              <a:rPr b="1" i="1" lang="it-IT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h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88620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4659480" y="2422440"/>
                <a:ext cx="3368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j</m:t>
                        </m:r>
                      </m:e>
                    </m:ra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40766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4638600" y="3343320"/>
                <a:ext cx="29228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σ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5" name=""/>
          <p:cNvSpPr/>
          <p:nvPr/>
        </p:nvSpPr>
        <p:spPr>
          <a:xfrm flipH="1">
            <a:off x="4879800" y="3002040"/>
            <a:ext cx="1649520" cy="6649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517920" y="2614680"/>
            <a:ext cx="834840" cy="466560"/>
          </a:xfrm>
          <a:prstGeom prst="rightArrow">
            <a:avLst>
              <a:gd name="adj1" fmla="val 50000"/>
              <a:gd name="adj2" fmla="val 44734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059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492800" y="4583160"/>
            <a:ext cx="48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spessore di penetrazione dello scherm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07400" y="3916440"/>
            <a:ext cx="466560" cy="32688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135920" y="4313160"/>
            <a:ext cx="207720" cy="308160"/>
          </a:xfrm>
          <a:prstGeom prst="downArrow">
            <a:avLst>
              <a:gd name="adj1" fmla="val 50000"/>
              <a:gd name="adj2" fmla="val 37088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224240" y="2278080"/>
            <a:ext cx="347760" cy="2663640"/>
          </a:xfrm>
          <a:custGeom>
            <a:avLst/>
            <a:gdLst>
              <a:gd name="textAreaLeft" fmla="*/ 222120 w 347760"/>
              <a:gd name="textAreaRight" fmla="*/ 348120 w 34776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511280" y="4632480"/>
            <a:ext cx="1092240" cy="784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956040" y="5688000"/>
            <a:ext cx="484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Parametro indipendente da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</a:rPr>
              <a:t>k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utile per definire le caratteristiche dello scherm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9200" y="5659560"/>
                <a:ext cx="3313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δ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218880" y="744480"/>
            <a:ext cx="8783640" cy="6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Condizioni su </a:t>
            </a:r>
            <a:r>
              <a:rPr b="1" i="1" lang="it-IT" sz="3000" spc="-1" strike="noStrike">
                <a:solidFill>
                  <a:srgbClr val="336699"/>
                </a:solidFill>
                <a:latin typeface="Arial"/>
              </a:rPr>
              <a:t>W</a:t>
            </a:r>
            <a:r>
              <a:rPr b="1" i="1" lang="it-IT" sz="3000" spc="-1" strike="noStrike" baseline="-25000">
                <a:solidFill>
                  <a:srgbClr val="336699"/>
                </a:solidFill>
                <a:latin typeface="Arial"/>
              </a:rPr>
              <a:t>sup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0372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07664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46248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206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060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49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6021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1240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3052800" y="1841400"/>
                <a:ext cx="3313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δ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5695920" y="3497400"/>
                <a:ext cx="16747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1514520" y="3484440"/>
                <a:ext cx="1674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130320" y="4976640"/>
            <a:ext cx="43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approssimazione con 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PEC 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corrett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614840" y="4940280"/>
            <a:ext cx="432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approssimazione con 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PMC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corrett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898640" y="4471920"/>
            <a:ext cx="506520" cy="517680"/>
          </a:xfrm>
          <a:prstGeom prst="downArrow">
            <a:avLst>
              <a:gd name="adj1" fmla="val 50000"/>
              <a:gd name="adj2" fmla="val 25551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294600" y="4467240"/>
            <a:ext cx="506160" cy="517680"/>
          </a:xfrm>
          <a:prstGeom prst="downArrow">
            <a:avLst>
              <a:gd name="adj1" fmla="val 50000"/>
              <a:gd name="adj2" fmla="val 25569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2214720" y="2703600"/>
            <a:ext cx="1730160" cy="615960"/>
          </a:xfrm>
          <a:prstGeom prst="line">
            <a:avLst/>
          </a:prstGeom>
          <a:ln w="540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970520" y="2703600"/>
            <a:ext cx="1977840" cy="576000"/>
          </a:xfrm>
          <a:prstGeom prst="line">
            <a:avLst/>
          </a:prstGeom>
          <a:ln w="540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6840" y="812520"/>
            <a:ext cx="880596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99"/>
                </a:solidFill>
                <a:latin typeface="Arial Narrow"/>
                <a:ea typeface="Times New Roman"/>
              </a:rPr>
              <a:t>Definizione di trasformazione conforme</a:t>
            </a:r>
            <a:r>
              <a:rPr b="1" lang="it-IT" sz="40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080" y="3997440"/>
            <a:ext cx="38797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336699"/>
                </a:solidFill>
                <a:uFillTx/>
                <a:latin typeface="Arial"/>
              </a:rPr>
              <a:t>Condizione di regolarit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38720" y="2519280"/>
            <a:ext cx="278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F(z) deve essere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continua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e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regolare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9400" y="4449600"/>
            <a:ext cx="89946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e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funzioni coniugate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di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(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z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) (la parte reale 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u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(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x,y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)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e la parte immaginaria 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v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(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x,y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)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) devono avere derivate parziali (rispetto alle variabili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e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y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) continue e tali da soddisfare le 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equazioni di Cauchy-Riemann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701720" y="1482840"/>
                <a:ext cx="5159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436680" y="2141640"/>
            <a:ext cx="2741400" cy="1917720"/>
            <a:chOff x="436680" y="2141640"/>
            <a:chExt cx="2741400" cy="1917720"/>
          </a:xfrm>
        </p:grpSpPr>
        <p:sp>
          <p:nvSpPr>
            <p:cNvPr id="98" name=""/>
            <p:cNvSpPr/>
            <p:nvPr/>
          </p:nvSpPr>
          <p:spPr>
            <a:xfrm flipV="1">
              <a:off x="1830600" y="2200320"/>
              <a:ext cx="0" cy="185904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4320" y="3184560"/>
              <a:ext cx="204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44840" y="314496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49280" y="2141640"/>
              <a:ext cx="63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6680" y="2587680"/>
              <a:ext cx="12351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10000"/>
                  </a:solidFill>
                  <a:latin typeface="Arial"/>
                </a:rPr>
                <a:t>Piano</a:t>
              </a:r>
              <a:r>
                <a:rPr b="0" i="1" lang="it-IT" sz="18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10000"/>
                  </a:solidFill>
                  <a:latin typeface="Times New Roman"/>
                </a:rPr>
                <a:t>z=x+jy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367080" y="2174760"/>
            <a:ext cx="2813040" cy="1906200"/>
            <a:chOff x="3367080" y="2174760"/>
            <a:chExt cx="2813040" cy="1906200"/>
          </a:xfrm>
        </p:grpSpPr>
        <p:sp>
          <p:nvSpPr>
            <p:cNvPr id="104" name=""/>
            <p:cNvSpPr/>
            <p:nvPr/>
          </p:nvSpPr>
          <p:spPr>
            <a:xfrm flipV="1">
              <a:off x="4590720" y="2222280"/>
              <a:ext cx="0" cy="185868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4640" y="3197160"/>
              <a:ext cx="204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46520" y="3149640"/>
              <a:ext cx="63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30560" y="217476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67080" y="2611440"/>
              <a:ext cx="12348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10000"/>
                  </a:solidFill>
                  <a:latin typeface="Arial"/>
                </a:rPr>
                <a:t>Piano</a:t>
              </a:r>
              <a:r>
                <a:rPr b="0" i="1" lang="it-IT" sz="18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10000"/>
                  </a:solidFill>
                  <a:latin typeface="Times New Roman"/>
                </a:rPr>
                <a:t>t=u+jv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20840" y="5489640"/>
                <a:ext cx="15843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67280" y="5456160"/>
                <a:ext cx="182556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944800" y="2905200"/>
            <a:ext cx="552600" cy="420480"/>
          </a:xfrm>
          <a:prstGeom prst="rightArrow">
            <a:avLst>
              <a:gd name="adj1" fmla="val 50000"/>
              <a:gd name="adj2" fmla="val 32855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218880" y="644400"/>
            <a:ext cx="8783640" cy="6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Approssimazione PEC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20372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07664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206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060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049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1720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021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1240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222120" y="1336680"/>
                <a:ext cx="1675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1" name=""/>
          <p:cNvSpPr/>
          <p:nvPr/>
        </p:nvSpPr>
        <p:spPr>
          <a:xfrm>
            <a:off x="2863800" y="1150920"/>
            <a:ext cx="628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condizione necessaria, ma non sufficiente, poiché non tiene conto dell’influenza dello 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spessore 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sull’efficacia schermant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60840" y="2503440"/>
            <a:ext cx="432252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necessità di un’ulteriore condizion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318280" y="1849320"/>
            <a:ext cx="664920" cy="627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744640" y="4254480"/>
            <a:ext cx="427320" cy="368280"/>
          </a:xfrm>
          <a:prstGeom prst="rightArrow">
            <a:avLst>
              <a:gd name="adj1" fmla="val 50000"/>
              <a:gd name="adj2" fmla="val 29008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369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08080" y="3043080"/>
                <a:ext cx="2614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3156120" y="3133800"/>
            <a:ext cx="542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avendo approssimato i termini esponenziali con i relativi sviluppi in serie del primo ordine (per piccoli valori dell’argomento) </a:t>
            </a:r>
            <a:r>
              <a:rPr b="0" lang="it-IT" sz="16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 approssimazione ‘grossolana’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74600" y="4208400"/>
            <a:ext cx="12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Siccom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1449360" y="4170240"/>
                <a:ext cx="11732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0" name=""/>
          <p:cNvSpPr/>
          <p:nvPr/>
        </p:nvSpPr>
        <p:spPr>
          <a:xfrm>
            <a:off x="2060640" y="1403280"/>
            <a:ext cx="774720" cy="606600"/>
          </a:xfrm>
          <a:prstGeom prst="rightArrow">
            <a:avLst>
              <a:gd name="adj1" fmla="val 50000"/>
              <a:gd name="adj2" fmla="val 31929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05160" y="4238640"/>
                <a:ext cx="1096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79840" y="4227480"/>
            <a:ext cx="426960" cy="368280"/>
          </a:xfrm>
          <a:prstGeom prst="rightArrow">
            <a:avLst>
              <a:gd name="adj1" fmla="val 50000"/>
              <a:gd name="adj2" fmla="val 28983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76720" y="3997440"/>
            <a:ext cx="1987560" cy="1147680"/>
          </a:xfrm>
          <a:prstGeom prst="rect">
            <a:avLst/>
          </a:prstGeom>
          <a:solidFill>
            <a:srgbClr val="ffffcc"/>
          </a:solidFill>
          <a:ln w="22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H</a:t>
            </a:r>
            <a:r>
              <a:rPr b="0" i="1" lang="it-IT" sz="2400" spc="-1" strike="noStrike" baseline="-30000">
                <a:solidFill>
                  <a:srgbClr val="01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y</a:t>
            </a:r>
            <a:r>
              <a:rPr b="0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=0)</a:t>
            </a:r>
            <a:r>
              <a:rPr b="0" lang="it-IT" sz="2400" spc="-1" strike="noStrike">
                <a:solidFill>
                  <a:srgbClr val="01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0</a:t>
            </a:r>
            <a:r>
              <a:rPr b="0" lang="it-IT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H</a:t>
            </a:r>
            <a:r>
              <a:rPr b="0" i="1" lang="it-IT" sz="2400" spc="-1" strike="noStrike" baseline="-30000">
                <a:solidFill>
                  <a:srgbClr val="010000"/>
                </a:solidFill>
                <a:latin typeface="Times New Roman"/>
                <a:ea typeface="Times New Roman"/>
              </a:rPr>
              <a:t>y</a:t>
            </a:r>
            <a:r>
              <a:rPr b="0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y</a:t>
            </a:r>
            <a:r>
              <a:rPr b="0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=0)=0</a:t>
            </a:r>
            <a:r>
              <a:rPr b="0" lang="it-IT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056360" y="4151160"/>
            <a:ext cx="22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condizione valida per l’interfaccia aria-PE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5400000">
            <a:off x="387720" y="5377320"/>
            <a:ext cx="922320" cy="1073160"/>
          </a:xfrm>
          <a:custGeom>
            <a:avLst/>
            <a:gdLst>
              <a:gd name="textAreaLeft" fmla="*/ 307440 w 922320"/>
              <a:gd name="textAreaRight" fmla="*/ 790200 w 922320"/>
              <a:gd name="textAreaTop" fmla="*/ 618120 h 1073160"/>
              <a:gd name="textAreaBottom" fmla="*/ 919440 h 107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6259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7" name=""/>
              <p:cNvSpPr txBox="1"/>
              <p:nvPr/>
            </p:nvSpPr>
            <p:spPr>
              <a:xfrm>
                <a:off x="1479600" y="5603760"/>
                <a:ext cx="34113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≃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8" name=""/>
          <p:cNvSpPr/>
          <p:nvPr/>
        </p:nvSpPr>
        <p:spPr>
          <a:xfrm>
            <a:off x="398772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883120" y="5492880"/>
                <a:ext cx="307368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5019840" y="5751360"/>
            <a:ext cx="744480" cy="587520"/>
          </a:xfrm>
          <a:prstGeom prst="rightArrow">
            <a:avLst>
              <a:gd name="adj1" fmla="val 50000"/>
              <a:gd name="adj2" fmla="val 31679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202440" y="5238720"/>
            <a:ext cx="20494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spessore critico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808680" y="5556240"/>
            <a:ext cx="0" cy="407880"/>
          </a:xfrm>
          <a:prstGeom prst="line">
            <a:avLst/>
          </a:prstGeom>
          <a:ln w="66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218880" y="644400"/>
            <a:ext cx="8783640" cy="6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Approssimazione PEC </a:t>
            </a:r>
            <a:r>
              <a:rPr b="1" lang="it-IT" sz="30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 esempi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243320" y="338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206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60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049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720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1240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9369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6259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8772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1868400" y="3743280"/>
            <a:ext cx="6894360" cy="2784600"/>
            <a:chOff x="1868400" y="3743280"/>
            <a:chExt cx="6894360" cy="2784600"/>
          </a:xfrm>
        </p:grpSpPr>
        <p:grpSp>
          <p:nvGrpSpPr>
            <p:cNvPr id="966" name=""/>
            <p:cNvGrpSpPr/>
            <p:nvPr/>
          </p:nvGrpSpPr>
          <p:grpSpPr>
            <a:xfrm>
              <a:off x="1871640" y="3745080"/>
              <a:ext cx="6887160" cy="2780280"/>
              <a:chOff x="1871640" y="3745080"/>
              <a:chExt cx="6887160" cy="2780280"/>
            </a:xfrm>
          </p:grpSpPr>
          <p:grpSp>
            <p:nvGrpSpPr>
              <p:cNvPr id="967" name=""/>
              <p:cNvGrpSpPr/>
              <p:nvPr/>
            </p:nvGrpSpPr>
            <p:grpSpPr>
              <a:xfrm>
                <a:off x="1871640" y="3745080"/>
                <a:ext cx="2951280" cy="397080"/>
                <a:chOff x="1871640" y="3745080"/>
                <a:chExt cx="2951280" cy="39708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1917000" y="3745080"/>
                  <a:ext cx="28598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ALLUMINIO</a:t>
                  </a:r>
                  <a:r>
                    <a:rPr b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- </a:t>
                  </a:r>
                  <a:r>
                    <a:rPr b="1" lang="en-US" sz="1400" spc="-1" strike="noStrike">
                      <a:solidFill>
                        <a:srgbClr val="009999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=11.9 m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1871640" y="3745080"/>
                  <a:ext cx="295128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0" name=""/>
              <p:cNvGrpSpPr/>
              <p:nvPr/>
            </p:nvGrpSpPr>
            <p:grpSpPr>
              <a:xfrm>
                <a:off x="4823280" y="3745080"/>
                <a:ext cx="983160" cy="397080"/>
                <a:chOff x="4823280" y="3745080"/>
                <a:chExt cx="983160" cy="39708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4868640" y="374508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4823280" y="374508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5807160" y="3745080"/>
                <a:ext cx="2951280" cy="397080"/>
                <a:chOff x="5807160" y="3745080"/>
                <a:chExt cx="2951280" cy="39708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5852520" y="3745080"/>
                  <a:ext cx="28598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RAME</a:t>
                  </a:r>
                  <a:r>
                    <a:rPr b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- </a:t>
                  </a:r>
                  <a:r>
                    <a:rPr b="1" lang="en-US" sz="1400" spc="-1" strike="noStrike">
                      <a:solidFill>
                        <a:srgbClr val="009999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=9.3 m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807160" y="3745080"/>
                  <a:ext cx="295128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1871640" y="4142160"/>
                <a:ext cx="983160" cy="397080"/>
                <a:chOff x="1871640" y="4142160"/>
                <a:chExt cx="983160" cy="39708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1917000" y="414216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[</a:t>
                  </a:r>
                  <a:r>
                    <a:rPr b="1" i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m ]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871640" y="414216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2855160" y="4142160"/>
                <a:ext cx="983160" cy="397080"/>
                <a:chOff x="2855160" y="4142160"/>
                <a:chExt cx="983160" cy="39708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2900880" y="4142160"/>
                  <a:ext cx="8917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W</a:t>
                  </a:r>
                  <a:r>
                    <a:rPr b="1" i="1" lang="en-GB" sz="1200" spc="-1" strike="noStrike" baseline="-30000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sup </a:t>
                  </a:r>
                  <a:r>
                    <a:rPr b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[ m ]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855160" y="414216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3839040" y="4142160"/>
                <a:ext cx="983880" cy="397080"/>
                <a:chOff x="3839040" y="4142160"/>
                <a:chExt cx="983880" cy="39708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3884760" y="414216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t</a:t>
                  </a:r>
                  <a:r>
                    <a:rPr b="1" i="1" lang="en-GB" sz="1200" spc="-1" strike="noStrike" baseline="-30000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cr</a:t>
                  </a:r>
                  <a:r>
                    <a:rPr b="1" lang="en-GB" sz="1200" spc="-1" strike="noStrike" baseline="-30000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[ mm ]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3839040" y="4142160"/>
                  <a:ext cx="98388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5" name=""/>
              <p:cNvGrpSpPr/>
              <p:nvPr/>
            </p:nvGrpSpPr>
            <p:grpSpPr>
              <a:xfrm>
                <a:off x="4823280" y="4142160"/>
                <a:ext cx="983160" cy="397080"/>
                <a:chOff x="4823280" y="4142160"/>
                <a:chExt cx="983160" cy="39708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4868640" y="414216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4823280" y="414216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5807160" y="4142160"/>
                <a:ext cx="983160" cy="397080"/>
                <a:chOff x="5807160" y="4142160"/>
                <a:chExt cx="983160" cy="39708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5852520" y="414216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[</a:t>
                  </a:r>
                  <a:r>
                    <a:rPr b="1" i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m ]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807160" y="414216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6791040" y="4142160"/>
                <a:ext cx="983160" cy="397080"/>
                <a:chOff x="6791040" y="4142160"/>
                <a:chExt cx="983160" cy="39708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836760" y="4142160"/>
                  <a:ext cx="8917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W</a:t>
                  </a:r>
                  <a:r>
                    <a:rPr b="1" i="1" lang="en-GB" sz="1200" spc="-1" strike="noStrike" baseline="-30000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sup </a:t>
                  </a:r>
                  <a:r>
                    <a:rPr b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[</a:t>
                  </a:r>
                  <a:r>
                    <a:rPr b="1" i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m ]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791040" y="414216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7774920" y="4142160"/>
                <a:ext cx="983880" cy="397080"/>
                <a:chOff x="7774920" y="4142160"/>
                <a:chExt cx="983880" cy="39708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7820640" y="414216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t</a:t>
                  </a:r>
                  <a:r>
                    <a:rPr b="1" i="1" lang="en-GB" sz="1200" spc="-1" strike="noStrike" baseline="-30000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cr</a:t>
                  </a:r>
                  <a:r>
                    <a:rPr b="1" lang="en-GB" sz="1200" spc="-1" strike="noStrike" baseline="-30000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[ </a:t>
                  </a:r>
                  <a:r>
                    <a:rPr b="1" i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mm</a:t>
                  </a:r>
                  <a:r>
                    <a:rPr b="1" lang="en-GB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]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774920" y="4142160"/>
                  <a:ext cx="98388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1871640" y="4539240"/>
                <a:ext cx="983160" cy="397080"/>
                <a:chOff x="1871640" y="4539240"/>
                <a:chExt cx="983160" cy="39708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1917000" y="453924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1.2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1871640" y="453924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2855160" y="4539240"/>
                <a:ext cx="983160" cy="397080"/>
                <a:chOff x="2855160" y="4539240"/>
                <a:chExt cx="983160" cy="39708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2900880" y="4539240"/>
                  <a:ext cx="8917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03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2855160" y="453924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3839040" y="4539240"/>
                <a:ext cx="983880" cy="397080"/>
                <a:chOff x="3839040" y="4539240"/>
                <a:chExt cx="983880" cy="39708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3884760" y="453924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18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839040" y="4539240"/>
                  <a:ext cx="98388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4823280" y="4539240"/>
                <a:ext cx="983160" cy="397080"/>
                <a:chOff x="4823280" y="4539240"/>
                <a:chExt cx="983160" cy="39708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4868640" y="453924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823280" y="453924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5807160" y="4539240"/>
                <a:ext cx="983160" cy="397080"/>
                <a:chOff x="5807160" y="4539240"/>
                <a:chExt cx="983160" cy="39708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5852520" y="453924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1.2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807160" y="453924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6791040" y="4539240"/>
                <a:ext cx="983160" cy="397080"/>
                <a:chOff x="6791040" y="4539240"/>
                <a:chExt cx="983160" cy="39708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6836760" y="4539240"/>
                  <a:ext cx="8917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02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791040" y="453924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7774920" y="4539240"/>
                <a:ext cx="983880" cy="397080"/>
                <a:chOff x="7774920" y="4539240"/>
                <a:chExt cx="983880" cy="39708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7820640" y="453924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11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774920" y="4539240"/>
                  <a:ext cx="98388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1871640" y="4936680"/>
                <a:ext cx="983160" cy="397080"/>
                <a:chOff x="1871640" y="4936680"/>
                <a:chExt cx="983160" cy="39708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1917000" y="493668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6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1871640" y="493668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2855160" y="4936680"/>
                <a:ext cx="983160" cy="397080"/>
                <a:chOff x="2855160" y="4936680"/>
                <a:chExt cx="983160" cy="39708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2900880" y="4936680"/>
                  <a:ext cx="8917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06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2855160" y="493668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3839040" y="4936680"/>
                <a:ext cx="983880" cy="397080"/>
                <a:chOff x="3839040" y="4936680"/>
                <a:chExt cx="983880" cy="39708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3884760" y="493668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35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839040" y="4936680"/>
                  <a:ext cx="98388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4823280" y="4936680"/>
                <a:ext cx="983160" cy="397080"/>
                <a:chOff x="4823280" y="4936680"/>
                <a:chExt cx="983160" cy="39708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4868640" y="493668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823280" y="493668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5807160" y="4936680"/>
                <a:ext cx="983160" cy="397080"/>
                <a:chOff x="5807160" y="4936680"/>
                <a:chExt cx="983160" cy="39708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5852520" y="493668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6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5807160" y="493668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6791040" y="4936680"/>
                <a:ext cx="983160" cy="397080"/>
                <a:chOff x="6791040" y="4936680"/>
                <a:chExt cx="983160" cy="39708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6836760" y="4936680"/>
                  <a:ext cx="8917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05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6791040" y="493668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7774920" y="4936680"/>
                <a:ext cx="983880" cy="397080"/>
                <a:chOff x="7774920" y="4936680"/>
                <a:chExt cx="983880" cy="39708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7820640" y="493668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22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774920" y="4936680"/>
                  <a:ext cx="98388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1871640" y="5333760"/>
                <a:ext cx="983160" cy="397440"/>
                <a:chOff x="1871640" y="5333760"/>
                <a:chExt cx="983160" cy="39744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1917000" y="5333760"/>
                  <a:ext cx="892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3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1871640" y="5333760"/>
                  <a:ext cx="98316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2" name=""/>
              <p:cNvGrpSpPr/>
              <p:nvPr/>
            </p:nvGrpSpPr>
            <p:grpSpPr>
              <a:xfrm>
                <a:off x="2855160" y="5333760"/>
                <a:ext cx="983160" cy="397440"/>
                <a:chOff x="2855160" y="5333760"/>
                <a:chExt cx="983160" cy="39744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2900880" y="5333760"/>
                  <a:ext cx="8917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12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2855160" y="5333760"/>
                  <a:ext cx="98316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5" name=""/>
              <p:cNvGrpSpPr/>
              <p:nvPr/>
            </p:nvGrpSpPr>
            <p:grpSpPr>
              <a:xfrm>
                <a:off x="3839040" y="5333760"/>
                <a:ext cx="983880" cy="397440"/>
                <a:chOff x="3839040" y="5333760"/>
                <a:chExt cx="983880" cy="39744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3884760" y="5333760"/>
                  <a:ext cx="892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71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839040" y="5333760"/>
                  <a:ext cx="98388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4823280" y="5333760"/>
                <a:ext cx="983160" cy="397440"/>
                <a:chOff x="4823280" y="5333760"/>
                <a:chExt cx="983160" cy="39744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4868640" y="5333760"/>
                  <a:ext cx="892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823280" y="5333760"/>
                  <a:ext cx="98316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5807160" y="5333760"/>
                <a:ext cx="983160" cy="397440"/>
                <a:chOff x="5807160" y="5333760"/>
                <a:chExt cx="983160" cy="39744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5852520" y="5333760"/>
                  <a:ext cx="892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3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5807160" y="5333760"/>
                  <a:ext cx="98316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6791040" y="5333760"/>
                <a:ext cx="983160" cy="397440"/>
                <a:chOff x="6791040" y="5333760"/>
                <a:chExt cx="983160" cy="39744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6836760" y="5333760"/>
                  <a:ext cx="8917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09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6791040" y="5333760"/>
                  <a:ext cx="98316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7774920" y="5333760"/>
                <a:ext cx="983880" cy="397440"/>
                <a:chOff x="7774920" y="5333760"/>
                <a:chExt cx="983880" cy="39744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7820640" y="5333760"/>
                  <a:ext cx="892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43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774920" y="5333760"/>
                  <a:ext cx="98388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1871640" y="5731200"/>
                <a:ext cx="983160" cy="397080"/>
                <a:chOff x="1871640" y="5731200"/>
                <a:chExt cx="983160" cy="39708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1917000" y="573120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15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1871640" y="573120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2855160" y="5731200"/>
                <a:ext cx="983160" cy="397080"/>
                <a:chOff x="2855160" y="5731200"/>
                <a:chExt cx="983160" cy="3970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2900880" y="5731200"/>
                  <a:ext cx="8917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24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2855160" y="573120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3839040" y="5731200"/>
                <a:ext cx="983880" cy="397080"/>
                <a:chOff x="3839040" y="5731200"/>
                <a:chExt cx="983880" cy="39708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3884760" y="573120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1.4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3839040" y="5731200"/>
                  <a:ext cx="98388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4823280" y="5731200"/>
                <a:ext cx="983160" cy="397080"/>
                <a:chOff x="4823280" y="5731200"/>
                <a:chExt cx="983160" cy="3970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868640" y="573120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823280" y="573120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5807160" y="5731200"/>
                <a:ext cx="983160" cy="397080"/>
                <a:chOff x="5807160" y="5731200"/>
                <a:chExt cx="983160" cy="39708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5852520" y="573120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15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5807160" y="573120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5" name=""/>
              <p:cNvGrpSpPr/>
              <p:nvPr/>
            </p:nvGrpSpPr>
            <p:grpSpPr>
              <a:xfrm>
                <a:off x="6791040" y="5731200"/>
                <a:ext cx="983160" cy="397080"/>
                <a:chOff x="6791040" y="5731200"/>
                <a:chExt cx="983160" cy="39708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6836760" y="5731200"/>
                  <a:ext cx="8917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19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6791040" y="573120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8" name=""/>
              <p:cNvGrpSpPr/>
              <p:nvPr/>
            </p:nvGrpSpPr>
            <p:grpSpPr>
              <a:xfrm>
                <a:off x="7774920" y="5731200"/>
                <a:ext cx="983880" cy="397080"/>
                <a:chOff x="7774920" y="5731200"/>
                <a:chExt cx="983880" cy="39708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7820640" y="573120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86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7774920" y="5731200"/>
                  <a:ext cx="98388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1" name=""/>
              <p:cNvGrpSpPr/>
              <p:nvPr/>
            </p:nvGrpSpPr>
            <p:grpSpPr>
              <a:xfrm>
                <a:off x="1871640" y="6128280"/>
                <a:ext cx="983160" cy="397080"/>
                <a:chOff x="1871640" y="6128280"/>
                <a:chExt cx="983160" cy="39708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1917000" y="612828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1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1871640" y="612828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2855160" y="6128280"/>
                <a:ext cx="983160" cy="397080"/>
                <a:chOff x="2855160" y="6128280"/>
                <a:chExt cx="983160" cy="39708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2900880" y="6128280"/>
                  <a:ext cx="8917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36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2855160" y="612828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3839040" y="6128280"/>
                <a:ext cx="983880" cy="397080"/>
                <a:chOff x="3839040" y="6128280"/>
                <a:chExt cx="983880" cy="39708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3884760" y="612828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2.1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3839040" y="6128280"/>
                  <a:ext cx="98388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4823280" y="6128280"/>
                <a:ext cx="983160" cy="397080"/>
                <a:chOff x="4823280" y="6128280"/>
                <a:chExt cx="983160" cy="39708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4868640" y="612828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823280" y="612828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5807160" y="6128280"/>
                <a:ext cx="983160" cy="397080"/>
                <a:chOff x="5807160" y="6128280"/>
                <a:chExt cx="983160" cy="39708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5852520" y="612828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1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5807160" y="612828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6791040" y="6128280"/>
                <a:ext cx="983160" cy="397080"/>
                <a:chOff x="6791040" y="6128280"/>
                <a:chExt cx="983160" cy="39708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6836760" y="6128280"/>
                  <a:ext cx="8917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28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6791040" y="6128280"/>
                  <a:ext cx="98316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7774920" y="6128280"/>
                <a:ext cx="983880" cy="397080"/>
                <a:chOff x="7774920" y="6128280"/>
                <a:chExt cx="983880" cy="39708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7820640" y="6128280"/>
                  <a:ext cx="8920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1.3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774920" y="6128280"/>
                  <a:ext cx="983880" cy="39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2" name=""/>
            <p:cNvSpPr/>
            <p:nvPr/>
          </p:nvSpPr>
          <p:spPr>
            <a:xfrm>
              <a:off x="1868400" y="3743280"/>
              <a:ext cx="6894360" cy="27846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3133800" y="2475000"/>
            <a:ext cx="5581440" cy="1090440"/>
            <a:chOff x="3133800" y="2475000"/>
            <a:chExt cx="5581440" cy="1090440"/>
          </a:xfrm>
        </p:grpSpPr>
        <p:grpSp>
          <p:nvGrpSpPr>
            <p:cNvPr id="1104" name=""/>
            <p:cNvGrpSpPr/>
            <p:nvPr/>
          </p:nvGrpSpPr>
          <p:grpSpPr>
            <a:xfrm>
              <a:off x="3136680" y="2476800"/>
              <a:ext cx="5574600" cy="1086480"/>
              <a:chOff x="3136680" y="2476800"/>
              <a:chExt cx="5574600" cy="1086480"/>
            </a:xfrm>
          </p:grpSpPr>
          <p:grpSp>
            <p:nvGrpSpPr>
              <p:cNvPr id="1105" name=""/>
              <p:cNvGrpSpPr/>
              <p:nvPr/>
            </p:nvGrpSpPr>
            <p:grpSpPr>
              <a:xfrm>
                <a:off x="3136680" y="2476800"/>
                <a:ext cx="1825200" cy="362160"/>
                <a:chOff x="3136680" y="2476800"/>
                <a:chExt cx="1825200" cy="36216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3180600" y="2476800"/>
                  <a:ext cx="17366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Material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136680" y="2476800"/>
                  <a:ext cx="18252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4961880" y="2476800"/>
                <a:ext cx="1873080" cy="362160"/>
                <a:chOff x="4961880" y="2476800"/>
                <a:chExt cx="1873080" cy="36216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5006160" y="2476800"/>
                  <a:ext cx="1783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Conduttività[</a:t>
                  </a:r>
                  <a:r>
                    <a:rPr b="1" i="1" lang="en-US" sz="13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MS</a:t>
                  </a:r>
                  <a:r>
                    <a:rPr b="1" lang="en-US" sz="13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/</a:t>
                  </a:r>
                  <a:r>
                    <a:rPr b="1" i="1" lang="en-US" sz="13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m</a:t>
                  </a:r>
                  <a:r>
                    <a:rPr b="1" lang="en-US" sz="13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]</a:t>
                  </a:r>
                  <a:endParaRPr b="0" lang="en-US" sz="13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961880" y="2476800"/>
                  <a:ext cx="187308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6835320" y="2476800"/>
                <a:ext cx="1875960" cy="362160"/>
                <a:chOff x="6835320" y="2476800"/>
                <a:chExt cx="1875960" cy="36216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6879240" y="2476800"/>
                  <a:ext cx="17870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Permeabilità rel.</a:t>
                  </a:r>
                  <a:endParaRPr b="0" lang="en-US" sz="13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6835320" y="2476800"/>
                  <a:ext cx="1875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3136680" y="2838960"/>
                <a:ext cx="1825200" cy="362160"/>
                <a:chOff x="3136680" y="2838960"/>
                <a:chExt cx="1825200" cy="36216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3180600" y="2838960"/>
                  <a:ext cx="17366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Alluminio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3136680" y="2838960"/>
                  <a:ext cx="18252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4961880" y="2838960"/>
                <a:ext cx="1873080" cy="362160"/>
                <a:chOff x="4961880" y="2838960"/>
                <a:chExt cx="1873080" cy="36216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5006160" y="2838960"/>
                  <a:ext cx="1783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35.7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961880" y="2838960"/>
                  <a:ext cx="187308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6835320" y="2838960"/>
                <a:ext cx="1875960" cy="362160"/>
                <a:chOff x="6835320" y="2838960"/>
                <a:chExt cx="1875960" cy="36216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6879240" y="2838960"/>
                  <a:ext cx="17870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6835320" y="2838960"/>
                  <a:ext cx="1875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3136680" y="3201120"/>
                <a:ext cx="1825200" cy="362160"/>
                <a:chOff x="3136680" y="3201120"/>
                <a:chExt cx="1825200" cy="36216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3180600" y="3201120"/>
                  <a:ext cx="17366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Ram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3136680" y="3201120"/>
                  <a:ext cx="18252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4961880" y="3201120"/>
                <a:ext cx="1873080" cy="362160"/>
                <a:chOff x="4961880" y="3201120"/>
                <a:chExt cx="1873080" cy="36216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5006160" y="3201120"/>
                  <a:ext cx="1783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58.8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961880" y="3201120"/>
                  <a:ext cx="187308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9" name=""/>
              <p:cNvGrpSpPr/>
              <p:nvPr/>
            </p:nvGrpSpPr>
            <p:grpSpPr>
              <a:xfrm>
                <a:off x="6835320" y="3201120"/>
                <a:ext cx="1875960" cy="362160"/>
                <a:chOff x="6835320" y="3201120"/>
                <a:chExt cx="1875960" cy="36216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6879240" y="3201120"/>
                  <a:ext cx="17870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6835320" y="3201120"/>
                  <a:ext cx="1875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2" name=""/>
            <p:cNvSpPr/>
            <p:nvPr/>
          </p:nvSpPr>
          <p:spPr>
            <a:xfrm>
              <a:off x="3133800" y="2475000"/>
              <a:ext cx="5581440" cy="10904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40323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176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58920" y="3746520"/>
            <a:ext cx="13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 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= 50 Hz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19160" y="1224000"/>
            <a:ext cx="347400" cy="2125800"/>
          </a:xfrm>
          <a:custGeom>
            <a:avLst/>
            <a:gdLst>
              <a:gd name="textAreaLeft" fmla="*/ 222120 w 347400"/>
              <a:gd name="textAreaRight" fmla="*/ 347400 w 347400"/>
              <a:gd name="textAreaTop" fmla="*/ 55440 h 2125800"/>
              <a:gd name="textAreaBottom" fmla="*/ 2070360 h 21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819520" y="1209600"/>
            <a:ext cx="3485880" cy="107964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aumento di  h, 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 e 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riduzione di 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 baseline="-25000">
                <a:solidFill>
                  <a:srgbClr val="3366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69880" y="1386000"/>
                <a:ext cx="16747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36680" y="2357280"/>
                <a:ext cx="2368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218880" y="644400"/>
            <a:ext cx="8783640" cy="6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Approssimazione PMC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20372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07664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206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060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49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1720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6021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1240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863800" y="1150920"/>
            <a:ext cx="628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condizione necessaria, ma non sufficiente, poiché non tiene conto dell’influenza dello 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spessore 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sull’efficacia schermant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660840" y="2503440"/>
            <a:ext cx="432252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necessità di un’ulteriore condizion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18280" y="1849320"/>
            <a:ext cx="664920" cy="627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744640" y="4254480"/>
            <a:ext cx="427320" cy="368280"/>
          </a:xfrm>
          <a:prstGeom prst="rightArrow">
            <a:avLst>
              <a:gd name="adj1" fmla="val 50000"/>
              <a:gd name="adj2" fmla="val 29008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369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156120" y="3133800"/>
            <a:ext cx="54273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avendo approssimato i termini esponenziali con i relativi sviluppi in serie del primo ordine (per piccoli valori dell’argomento) e avendo considerato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W</a:t>
            </a:r>
            <a:r>
              <a:rPr b="0" lang="it-IT" sz="1600" spc="-1" strike="noStrike" baseline="-25000">
                <a:solidFill>
                  <a:srgbClr val="336699"/>
                </a:solidFill>
                <a:latin typeface="Arial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&gt;&gt;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74600" y="4208400"/>
            <a:ext cx="12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Siccom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1449360" y="4170240"/>
                <a:ext cx="11732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1" name=""/>
          <p:cNvSpPr/>
          <p:nvPr/>
        </p:nvSpPr>
        <p:spPr>
          <a:xfrm>
            <a:off x="2060640" y="1403280"/>
            <a:ext cx="774720" cy="606600"/>
          </a:xfrm>
          <a:prstGeom prst="rightArrow">
            <a:avLst>
              <a:gd name="adj1" fmla="val 50000"/>
              <a:gd name="adj2" fmla="val 31929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201840" y="4238640"/>
                <a:ext cx="13050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3" name=""/>
          <p:cNvSpPr/>
          <p:nvPr/>
        </p:nvSpPr>
        <p:spPr>
          <a:xfrm>
            <a:off x="4479840" y="4227480"/>
            <a:ext cx="426960" cy="368280"/>
          </a:xfrm>
          <a:prstGeom prst="rightArrow">
            <a:avLst>
              <a:gd name="adj1" fmla="val 50000"/>
              <a:gd name="adj2" fmla="val 28983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076720" y="3997440"/>
            <a:ext cx="1987560" cy="1147680"/>
          </a:xfrm>
          <a:prstGeom prst="rect">
            <a:avLst/>
          </a:prstGeom>
          <a:solidFill>
            <a:srgbClr val="ffffcc"/>
          </a:solidFill>
          <a:ln w="22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H</a:t>
            </a:r>
            <a:r>
              <a:rPr b="0" i="1" lang="it-IT" sz="2400" spc="-1" strike="noStrike" baseline="-30000">
                <a:solidFill>
                  <a:srgbClr val="01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y</a:t>
            </a:r>
            <a:r>
              <a:rPr b="0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=0)=0</a:t>
            </a:r>
            <a:r>
              <a:rPr b="0" lang="it-IT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H</a:t>
            </a:r>
            <a:r>
              <a:rPr b="0" i="1" lang="it-IT" sz="2400" spc="-1" strike="noStrike" baseline="-30000">
                <a:solidFill>
                  <a:srgbClr val="010000"/>
                </a:solidFill>
                <a:latin typeface="Times New Roman"/>
                <a:ea typeface="Times New Roman"/>
              </a:rPr>
              <a:t>y</a:t>
            </a:r>
            <a:r>
              <a:rPr b="0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y</a:t>
            </a:r>
            <a:r>
              <a:rPr b="0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=0)</a:t>
            </a:r>
            <a:r>
              <a:rPr b="0" lang="it-IT" sz="2400" spc="-1" strike="noStrike">
                <a:solidFill>
                  <a:srgbClr val="01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10000"/>
                </a:solidFill>
                <a:latin typeface="Times New Roman"/>
                <a:ea typeface="Times New Roman"/>
              </a:rPr>
              <a:t>0</a:t>
            </a:r>
            <a:r>
              <a:rPr b="0" lang="it-IT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056360" y="4151160"/>
            <a:ext cx="22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condizione valida per l’interfaccia aria-PM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5400000">
            <a:off x="387720" y="5377320"/>
            <a:ext cx="922320" cy="1073160"/>
          </a:xfrm>
          <a:custGeom>
            <a:avLst/>
            <a:gdLst>
              <a:gd name="textAreaLeft" fmla="*/ 307440 w 922320"/>
              <a:gd name="textAreaRight" fmla="*/ 790200 w 922320"/>
              <a:gd name="textAreaTop" fmla="*/ 618120 h 1073160"/>
              <a:gd name="textAreaBottom" fmla="*/ 919440 h 107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6259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98772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019840" y="5751360"/>
            <a:ext cx="744480" cy="587520"/>
          </a:xfrm>
          <a:prstGeom prst="rightArrow">
            <a:avLst>
              <a:gd name="adj1" fmla="val 50000"/>
              <a:gd name="adj2" fmla="val 31679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202440" y="5238720"/>
            <a:ext cx="20494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spessore critico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94344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7040" y="3133800"/>
                <a:ext cx="26355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≃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8840" y="1320840"/>
                <a:ext cx="1674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3586320" y="317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1349280" y="5637240"/>
                <a:ext cx="35751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≃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u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≃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6" name=""/>
          <p:cNvSpPr/>
          <p:nvPr/>
        </p:nvSpPr>
        <p:spPr>
          <a:xfrm>
            <a:off x="406404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6081840" y="5688000"/>
                <a:ext cx="2189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8" name=""/>
          <p:cNvSpPr/>
          <p:nvPr/>
        </p:nvSpPr>
        <p:spPr>
          <a:xfrm>
            <a:off x="6808680" y="5556240"/>
            <a:ext cx="0" cy="407880"/>
          </a:xfrm>
          <a:prstGeom prst="line">
            <a:avLst/>
          </a:prstGeom>
          <a:ln w="66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/>
          </p:nvPr>
        </p:nvSpPr>
        <p:spPr>
          <a:xfrm>
            <a:off x="218880" y="644400"/>
            <a:ext cx="8783640" cy="6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Approssimazione PMC </a:t>
            </a:r>
            <a:r>
              <a:rPr b="1" lang="it-IT" sz="30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 esempi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243320" y="338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206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060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049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1720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1240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9369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6259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98772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3133800" y="2475000"/>
            <a:ext cx="5581440" cy="1090440"/>
            <a:chOff x="3133800" y="2475000"/>
            <a:chExt cx="5581440" cy="1090440"/>
          </a:xfrm>
        </p:grpSpPr>
        <p:grpSp>
          <p:nvGrpSpPr>
            <p:cNvPr id="1212" name=""/>
            <p:cNvGrpSpPr/>
            <p:nvPr/>
          </p:nvGrpSpPr>
          <p:grpSpPr>
            <a:xfrm>
              <a:off x="3136680" y="2476800"/>
              <a:ext cx="5574600" cy="1086480"/>
              <a:chOff x="3136680" y="2476800"/>
              <a:chExt cx="5574600" cy="1086480"/>
            </a:xfrm>
          </p:grpSpPr>
          <p:grpSp>
            <p:nvGrpSpPr>
              <p:cNvPr id="1213" name=""/>
              <p:cNvGrpSpPr/>
              <p:nvPr/>
            </p:nvGrpSpPr>
            <p:grpSpPr>
              <a:xfrm>
                <a:off x="3136680" y="2476800"/>
                <a:ext cx="1825200" cy="362160"/>
                <a:chOff x="3136680" y="2476800"/>
                <a:chExt cx="1825200" cy="36216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3180600" y="2476800"/>
                  <a:ext cx="17366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Material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3136680" y="2476800"/>
                  <a:ext cx="18252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"/>
              <p:cNvGrpSpPr/>
              <p:nvPr/>
            </p:nvGrpSpPr>
            <p:grpSpPr>
              <a:xfrm>
                <a:off x="4961880" y="2476800"/>
                <a:ext cx="1873080" cy="362160"/>
                <a:chOff x="4961880" y="2476800"/>
                <a:chExt cx="1873080" cy="36216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5006160" y="2476800"/>
                  <a:ext cx="1783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Conduttività[</a:t>
                  </a:r>
                  <a:r>
                    <a:rPr b="1" i="1" lang="en-US" sz="13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MS</a:t>
                  </a:r>
                  <a:r>
                    <a:rPr b="1" lang="en-US" sz="13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/</a:t>
                  </a:r>
                  <a:r>
                    <a:rPr b="1" i="1" lang="en-US" sz="13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m</a:t>
                  </a:r>
                  <a:r>
                    <a:rPr b="1" lang="en-US" sz="13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]</a:t>
                  </a:r>
                  <a:endParaRPr b="0" lang="en-US" sz="13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4961880" y="2476800"/>
                  <a:ext cx="187308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"/>
              <p:cNvGrpSpPr/>
              <p:nvPr/>
            </p:nvGrpSpPr>
            <p:grpSpPr>
              <a:xfrm>
                <a:off x="6835320" y="2476800"/>
                <a:ext cx="1875960" cy="362160"/>
                <a:chOff x="6835320" y="2476800"/>
                <a:chExt cx="1875960" cy="36216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6879240" y="2476800"/>
                  <a:ext cx="17870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Permeabilità rel.</a:t>
                  </a:r>
                  <a:endParaRPr b="0" lang="en-US" sz="13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6835320" y="2476800"/>
                  <a:ext cx="1875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3136680" y="2838960"/>
                <a:ext cx="1825200" cy="362160"/>
                <a:chOff x="3136680" y="2838960"/>
                <a:chExt cx="1825200" cy="362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3180600" y="2838960"/>
                  <a:ext cx="17366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Ferro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136680" y="2838960"/>
                  <a:ext cx="18252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4961880" y="2838960"/>
                <a:ext cx="1873080" cy="362160"/>
                <a:chOff x="4961880" y="2838960"/>
                <a:chExt cx="1873080" cy="36216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5006160" y="2838960"/>
                  <a:ext cx="1783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4961880" y="2838960"/>
                  <a:ext cx="187308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6835320" y="2838960"/>
                <a:ext cx="1875960" cy="362160"/>
                <a:chOff x="6835320" y="2838960"/>
                <a:chExt cx="1875960" cy="36216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6879240" y="2838960"/>
                  <a:ext cx="17870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200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6835320" y="2838960"/>
                  <a:ext cx="1875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3136680" y="3201120"/>
                <a:ext cx="1825200" cy="362160"/>
                <a:chOff x="3136680" y="3201120"/>
                <a:chExt cx="1825200" cy="36216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3180600" y="3201120"/>
                  <a:ext cx="17366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Mumetal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3136680" y="3201120"/>
                  <a:ext cx="18252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4961880" y="3201120"/>
                <a:ext cx="1873080" cy="362160"/>
                <a:chOff x="4961880" y="3201120"/>
                <a:chExt cx="1873080" cy="362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5006160" y="3201120"/>
                  <a:ext cx="1783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1.65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4961880" y="3201120"/>
                  <a:ext cx="187308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7" name=""/>
              <p:cNvGrpSpPr/>
              <p:nvPr/>
            </p:nvGrpSpPr>
            <p:grpSpPr>
              <a:xfrm>
                <a:off x="6835320" y="3201120"/>
                <a:ext cx="1875960" cy="362160"/>
                <a:chOff x="6835320" y="3201120"/>
                <a:chExt cx="1875960" cy="36216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6879240" y="3201120"/>
                  <a:ext cx="17870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20000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835320" y="3201120"/>
                  <a:ext cx="1875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0" name=""/>
            <p:cNvSpPr/>
            <p:nvPr/>
          </p:nvSpPr>
          <p:spPr>
            <a:xfrm>
              <a:off x="3133800" y="2475000"/>
              <a:ext cx="5581440" cy="10904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40323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176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58920" y="3746520"/>
            <a:ext cx="13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 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= 50 Hz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19160" y="1224000"/>
            <a:ext cx="347400" cy="2125800"/>
          </a:xfrm>
          <a:custGeom>
            <a:avLst/>
            <a:gdLst>
              <a:gd name="textAreaLeft" fmla="*/ 222120 w 347400"/>
              <a:gd name="textAreaRight" fmla="*/ 347400 w 347400"/>
              <a:gd name="textAreaTop" fmla="*/ 55440 h 2125800"/>
              <a:gd name="textAreaBottom" fmla="*/ 2070360 h 21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157560" y="1200240"/>
            <a:ext cx="3486240" cy="107928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riduzione di  h, 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 e 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aumento di 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 baseline="-25000">
                <a:solidFill>
                  <a:srgbClr val="3366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0323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576360" y="1380960"/>
                <a:ext cx="1674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525600" y="2317680"/>
                <a:ext cx="2189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49" name=""/>
          <p:cNvGrpSpPr/>
          <p:nvPr/>
        </p:nvGrpSpPr>
        <p:grpSpPr>
          <a:xfrm>
            <a:off x="1795320" y="3863880"/>
            <a:ext cx="7034040" cy="2703600"/>
            <a:chOff x="1795320" y="3863880"/>
            <a:chExt cx="7034040" cy="2703600"/>
          </a:xfrm>
        </p:grpSpPr>
        <p:grpSp>
          <p:nvGrpSpPr>
            <p:cNvPr id="1250" name=""/>
            <p:cNvGrpSpPr/>
            <p:nvPr/>
          </p:nvGrpSpPr>
          <p:grpSpPr>
            <a:xfrm>
              <a:off x="1798560" y="3865680"/>
              <a:ext cx="7026840" cy="2699640"/>
              <a:chOff x="1798560" y="3865680"/>
              <a:chExt cx="7026840" cy="2699640"/>
            </a:xfrm>
          </p:grpSpPr>
          <p:grpSp>
            <p:nvGrpSpPr>
              <p:cNvPr id="1251" name=""/>
              <p:cNvGrpSpPr/>
              <p:nvPr/>
            </p:nvGrpSpPr>
            <p:grpSpPr>
              <a:xfrm>
                <a:off x="1798560" y="3865680"/>
                <a:ext cx="3011400" cy="385560"/>
                <a:chOff x="1798560" y="3865680"/>
                <a:chExt cx="3011400" cy="38556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1845000" y="3865680"/>
                  <a:ext cx="291816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FERRO</a:t>
                  </a:r>
                  <a:r>
                    <a:rPr b="1" lang="en-US" sz="16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- </a:t>
                  </a:r>
                  <a:r>
                    <a:rPr b="1" lang="de-DE" sz="1600" spc="-1" strike="noStrike">
                      <a:solidFill>
                        <a:srgbClr val="009999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16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=1.5 mm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1798560" y="3865680"/>
                  <a:ext cx="301140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4810320" y="3865680"/>
                <a:ext cx="1003320" cy="385560"/>
                <a:chOff x="4810320" y="3865680"/>
                <a:chExt cx="1003320" cy="38556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4856760" y="386568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4810320" y="386568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5814000" y="3865680"/>
                <a:ext cx="3011400" cy="385560"/>
                <a:chOff x="5814000" y="3865680"/>
                <a:chExt cx="3011400" cy="38556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5860440" y="3865680"/>
                  <a:ext cx="291816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9999"/>
                      </a:solidFill>
                      <a:latin typeface="Arial"/>
                      <a:ea typeface="Times New Roman"/>
                    </a:rPr>
                    <a:t>MUMETAL</a:t>
                  </a:r>
                  <a:r>
                    <a:rPr b="1" lang="en-US" sz="16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- </a:t>
                  </a:r>
                  <a:r>
                    <a:rPr b="1" lang="en-US" sz="1600" spc="-1" strike="noStrike">
                      <a:solidFill>
                        <a:srgbClr val="009999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16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=0.39 mm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5814000" y="3865680"/>
                  <a:ext cx="301140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1798560" y="4251240"/>
                <a:ext cx="1003320" cy="385560"/>
                <a:chOff x="1798560" y="4251240"/>
                <a:chExt cx="1003320" cy="38556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1845000" y="425124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 [</a:t>
                  </a:r>
                  <a:r>
                    <a:rPr b="1" i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m ]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1798560" y="425124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2802240" y="4251240"/>
                <a:ext cx="1003320" cy="385560"/>
                <a:chOff x="2802240" y="4251240"/>
                <a:chExt cx="1003320" cy="38556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2849040" y="425124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W</a:t>
                  </a:r>
                  <a:r>
                    <a:rPr b="1" i="1" lang="en-US" sz="1400" spc="-1" strike="noStrike" baseline="-30000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sup </a:t>
                  </a:r>
                  <a:r>
                    <a:rPr b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[ m</a:t>
                  </a:r>
                  <a:r>
                    <a:rPr b="1" i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]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802240" y="425124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3805920" y="4251240"/>
                <a:ext cx="1003680" cy="385560"/>
                <a:chOff x="3805920" y="4251240"/>
                <a:chExt cx="1003680" cy="38556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3852720" y="425124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t</a:t>
                  </a:r>
                  <a:r>
                    <a:rPr b="1" i="1" lang="en-US" sz="1400" spc="-1" strike="noStrike" baseline="-30000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cr</a:t>
                  </a:r>
                  <a:r>
                    <a:rPr b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[ mm ]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3805920" y="4251240"/>
                  <a:ext cx="100368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4810320" y="4251240"/>
                <a:ext cx="1003320" cy="385560"/>
                <a:chOff x="4810320" y="4251240"/>
                <a:chExt cx="1003320" cy="38556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4856760" y="425124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810320" y="425124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5814000" y="4251240"/>
                <a:ext cx="1003320" cy="385560"/>
                <a:chOff x="5814000" y="4251240"/>
                <a:chExt cx="1003320" cy="38556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5860440" y="425124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 [ m ]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814000" y="425124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6818040" y="4251240"/>
                <a:ext cx="1003320" cy="385560"/>
                <a:chOff x="6818040" y="4251240"/>
                <a:chExt cx="1003320" cy="3855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6864840" y="425124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W</a:t>
                  </a:r>
                  <a:r>
                    <a:rPr b="1" i="1" lang="en-US" sz="1400" spc="-1" strike="noStrike" baseline="-30000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up </a:t>
                  </a:r>
                  <a:r>
                    <a:rPr b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[ m ]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6818040" y="425124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7821720" y="4251240"/>
                <a:ext cx="1003680" cy="385560"/>
                <a:chOff x="7821720" y="4251240"/>
                <a:chExt cx="1003680" cy="38556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7868520" y="425124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t</a:t>
                  </a:r>
                  <a:r>
                    <a:rPr b="1" i="1" lang="en-US" sz="1400" spc="-1" strike="noStrike" baseline="-30000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cr</a:t>
                  </a:r>
                  <a:r>
                    <a:rPr b="1" lang="en-US" sz="1400" spc="-1" strike="noStrike" baseline="-30000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 [ mm ]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7821720" y="4251240"/>
                  <a:ext cx="100368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1798560" y="4636800"/>
                <a:ext cx="1003320" cy="385560"/>
                <a:chOff x="1798560" y="4636800"/>
                <a:chExt cx="1003320" cy="3855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1845000" y="463680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1.2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1798560" y="463680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2802240" y="4636800"/>
                <a:ext cx="1003320" cy="385560"/>
                <a:chOff x="2802240" y="4636800"/>
                <a:chExt cx="1003320" cy="38556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2849040" y="463680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76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802240" y="463680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3805920" y="4636800"/>
                <a:ext cx="1003680" cy="385560"/>
                <a:chOff x="3805920" y="4636800"/>
                <a:chExt cx="1003680" cy="3855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3852720" y="463680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58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3805920" y="4636800"/>
                  <a:ext cx="100368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4810320" y="4636800"/>
                <a:ext cx="1003320" cy="385560"/>
                <a:chOff x="4810320" y="4636800"/>
                <a:chExt cx="1003320" cy="38556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4856760" y="463680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4810320" y="463680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5814000" y="4636800"/>
                <a:ext cx="1003320" cy="385560"/>
                <a:chOff x="5814000" y="4636800"/>
                <a:chExt cx="1003320" cy="3855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5860440" y="463680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1.2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814000" y="463680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6818040" y="4636800"/>
                <a:ext cx="1003320" cy="385560"/>
                <a:chOff x="6818040" y="4636800"/>
                <a:chExt cx="1003320" cy="38556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6864840" y="463680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19.59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818040" y="463680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7821720" y="4636800"/>
                <a:ext cx="1003680" cy="385560"/>
                <a:chOff x="7821720" y="4636800"/>
                <a:chExt cx="1003680" cy="38556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7868520" y="463680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04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7821720" y="4636800"/>
                  <a:ext cx="100368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1798560" y="5022360"/>
                <a:ext cx="1003320" cy="385560"/>
                <a:chOff x="1798560" y="5022360"/>
                <a:chExt cx="1003320" cy="38556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1845000" y="502236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6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1798560" y="502236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2802240" y="5022360"/>
                <a:ext cx="1003320" cy="385560"/>
                <a:chOff x="2802240" y="5022360"/>
                <a:chExt cx="1003320" cy="385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2849040" y="502236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1.52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2802240" y="502236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3805920" y="5022360"/>
                <a:ext cx="1003680" cy="385560"/>
                <a:chOff x="3805920" y="5022360"/>
                <a:chExt cx="1003680" cy="385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3852720" y="502236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3805920" y="5022360"/>
                  <a:ext cx="100368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4810320" y="5022360"/>
                <a:ext cx="1003320" cy="385560"/>
                <a:chOff x="4810320" y="5022360"/>
                <a:chExt cx="1003320" cy="38556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4856760" y="502236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4810320" y="502236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5814000" y="5022360"/>
                <a:ext cx="1003320" cy="385560"/>
                <a:chOff x="5814000" y="5022360"/>
                <a:chExt cx="1003320" cy="38556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5860440" y="502236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6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5814000" y="502236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7" name=""/>
              <p:cNvGrpSpPr/>
              <p:nvPr/>
            </p:nvGrpSpPr>
            <p:grpSpPr>
              <a:xfrm>
                <a:off x="6818040" y="5022360"/>
                <a:ext cx="1003320" cy="385560"/>
                <a:chOff x="6818040" y="5022360"/>
                <a:chExt cx="1003320" cy="38556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6864840" y="502236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39.18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6818040" y="502236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7821720" y="5022360"/>
                <a:ext cx="1003680" cy="385560"/>
                <a:chOff x="7821720" y="5022360"/>
                <a:chExt cx="1003680" cy="38556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7868520" y="502236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02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7821720" y="5022360"/>
                  <a:ext cx="100368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3" name=""/>
              <p:cNvGrpSpPr/>
              <p:nvPr/>
            </p:nvGrpSpPr>
            <p:grpSpPr>
              <a:xfrm>
                <a:off x="1798560" y="5408280"/>
                <a:ext cx="1003320" cy="385560"/>
                <a:chOff x="1798560" y="5408280"/>
                <a:chExt cx="1003320" cy="38556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1845000" y="540828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3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1798560" y="540828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2802240" y="5408280"/>
                <a:ext cx="1003320" cy="385560"/>
                <a:chOff x="2802240" y="5408280"/>
                <a:chExt cx="1003320" cy="385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2849040" y="540828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3.03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802240" y="540828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3805920" y="5408280"/>
                <a:ext cx="1003680" cy="385560"/>
                <a:chOff x="3805920" y="5408280"/>
                <a:chExt cx="1003680" cy="3855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3852720" y="540828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3805920" y="5408280"/>
                  <a:ext cx="100368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2" name=""/>
              <p:cNvGrpSpPr/>
              <p:nvPr/>
            </p:nvGrpSpPr>
            <p:grpSpPr>
              <a:xfrm>
                <a:off x="4810320" y="5408280"/>
                <a:ext cx="1003320" cy="385560"/>
                <a:chOff x="4810320" y="5408280"/>
                <a:chExt cx="1003320" cy="385560"/>
              </a:xfrm>
            </p:grpSpPr>
            <p:sp>
              <p:nvSpPr>
                <p:cNvPr id="1333" name=""/>
                <p:cNvSpPr/>
                <p:nvPr/>
              </p:nvSpPr>
              <p:spPr>
                <a:xfrm>
                  <a:off x="4856760" y="540828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4810320" y="540828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5814000" y="5408280"/>
                <a:ext cx="1003320" cy="385560"/>
                <a:chOff x="5814000" y="5408280"/>
                <a:chExt cx="1003320" cy="3855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5860440" y="540828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3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5814000" y="540828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6818040" y="5408280"/>
                <a:ext cx="1003320" cy="385560"/>
                <a:chOff x="6818040" y="5408280"/>
                <a:chExt cx="1003320" cy="3855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6864840" y="540828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78.35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6818040" y="540828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7821720" y="5408280"/>
                <a:ext cx="1003680" cy="385560"/>
                <a:chOff x="7821720" y="5408280"/>
                <a:chExt cx="1003680" cy="38556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7868520" y="540828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01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7821720" y="5408280"/>
                  <a:ext cx="100368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1798560" y="5793840"/>
                <a:ext cx="1003320" cy="385560"/>
                <a:chOff x="1798560" y="5793840"/>
                <a:chExt cx="1003320" cy="38556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1845000" y="579384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15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1798560" y="579384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2802240" y="5793840"/>
                <a:ext cx="1003320" cy="385560"/>
                <a:chOff x="2802240" y="5793840"/>
                <a:chExt cx="1003320" cy="38556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2849040" y="579384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6.07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2802240" y="579384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3805920" y="5793840"/>
                <a:ext cx="1003680" cy="385560"/>
                <a:chOff x="3805920" y="5793840"/>
                <a:chExt cx="1003680" cy="38556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3852720" y="579384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5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3805920" y="5793840"/>
                  <a:ext cx="100368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810320" y="5793840"/>
                <a:ext cx="1003320" cy="385560"/>
                <a:chOff x="4810320" y="5793840"/>
                <a:chExt cx="1003320" cy="385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856760" y="579384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810320" y="579384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5814000" y="5793840"/>
                <a:ext cx="1003320" cy="385560"/>
                <a:chOff x="5814000" y="5793840"/>
                <a:chExt cx="1003320" cy="385560"/>
              </a:xfrm>
            </p:grpSpPr>
            <p:sp>
              <p:nvSpPr>
                <p:cNvPr id="1357" name=""/>
                <p:cNvSpPr/>
                <p:nvPr/>
              </p:nvSpPr>
              <p:spPr>
                <a:xfrm>
                  <a:off x="5860440" y="579384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15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814000" y="579384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9" name=""/>
              <p:cNvGrpSpPr/>
              <p:nvPr/>
            </p:nvGrpSpPr>
            <p:grpSpPr>
              <a:xfrm>
                <a:off x="6818040" y="5793840"/>
                <a:ext cx="1003320" cy="385560"/>
                <a:chOff x="6818040" y="5793840"/>
                <a:chExt cx="1003320" cy="38556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6864840" y="579384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156.7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6818040" y="579384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2" name=""/>
              <p:cNvGrpSpPr/>
              <p:nvPr/>
            </p:nvGrpSpPr>
            <p:grpSpPr>
              <a:xfrm>
                <a:off x="7821720" y="5793840"/>
                <a:ext cx="1003680" cy="385560"/>
                <a:chOff x="7821720" y="5793840"/>
                <a:chExt cx="1003680" cy="38556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7868520" y="579384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005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7821720" y="5793840"/>
                  <a:ext cx="100368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5" name=""/>
              <p:cNvGrpSpPr/>
              <p:nvPr/>
            </p:nvGrpSpPr>
            <p:grpSpPr>
              <a:xfrm>
                <a:off x="1798560" y="6179760"/>
                <a:ext cx="1003320" cy="385560"/>
                <a:chOff x="1798560" y="6179760"/>
                <a:chExt cx="1003320" cy="38556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1845000" y="617976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1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1798560" y="617976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2802240" y="6179760"/>
                <a:ext cx="1003320" cy="385560"/>
                <a:chOff x="2802240" y="6179760"/>
                <a:chExt cx="1003320" cy="38556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2849040" y="617976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9.1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802240" y="617976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3805920" y="6179760"/>
                <a:ext cx="1003680" cy="385560"/>
                <a:chOff x="3805920" y="6179760"/>
                <a:chExt cx="1003680" cy="38556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3852720" y="617976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33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3805920" y="6179760"/>
                  <a:ext cx="100368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4810320" y="6179760"/>
                <a:ext cx="1003320" cy="385560"/>
                <a:chOff x="4810320" y="6179760"/>
                <a:chExt cx="1003320" cy="38556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4856760" y="617976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4810320" y="617976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5814000" y="6179760"/>
                <a:ext cx="1003320" cy="385560"/>
                <a:chOff x="5814000" y="6179760"/>
                <a:chExt cx="1003320" cy="38556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5860440" y="6179760"/>
                  <a:ext cx="91044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1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5814000" y="617976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6818040" y="6179760"/>
                <a:ext cx="1003320" cy="385560"/>
                <a:chOff x="6818040" y="6179760"/>
                <a:chExt cx="1003320" cy="38556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6864840" y="617976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235.05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6818040" y="6179760"/>
                  <a:ext cx="100332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7821720" y="6179760"/>
                <a:ext cx="1003680" cy="385560"/>
                <a:chOff x="7821720" y="6179760"/>
                <a:chExt cx="1003680" cy="38556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7868520" y="6179760"/>
                  <a:ext cx="91008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Times New Roman"/>
                      <a:ea typeface="Times New Roman"/>
                    </a:rPr>
                    <a:t>0.0033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7821720" y="6179760"/>
                  <a:ext cx="1003680" cy="38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6" name=""/>
            <p:cNvSpPr/>
            <p:nvPr/>
          </p:nvSpPr>
          <p:spPr>
            <a:xfrm>
              <a:off x="1795320" y="3863880"/>
              <a:ext cx="7034040" cy="27036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/>
          </p:nvPr>
        </p:nvSpPr>
        <p:spPr>
          <a:xfrm>
            <a:off x="1155600" y="771480"/>
            <a:ext cx="6973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Arial"/>
              </a:rPr>
              <a:t>Confronto con un metodo numerico ibrido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2893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-158760" y="1987560"/>
            <a:ext cx="437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a lastra in materiale reale viene studiata con una tecnica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FEM-BEM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20372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07664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9098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9606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2703600" y="3371760"/>
            <a:ext cx="3538440" cy="2442960"/>
            <a:chOff x="2703600" y="3371760"/>
            <a:chExt cx="3538440" cy="2442960"/>
          </a:xfrm>
        </p:grpSpPr>
        <p:sp>
          <p:nvSpPr>
            <p:cNvPr id="1409" name=""/>
            <p:cNvSpPr/>
            <p:nvPr/>
          </p:nvSpPr>
          <p:spPr>
            <a:xfrm flipV="1">
              <a:off x="4309920" y="35128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703600" y="4706640"/>
              <a:ext cx="33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389400" y="4592520"/>
              <a:ext cx="1828800" cy="11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46600" y="50497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646520" y="5049720"/>
              <a:ext cx="1144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160800" y="424944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875120" y="4249440"/>
              <a:ext cx="0" cy="34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46600" y="5392440"/>
              <a:ext cx="914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989600" y="4706640"/>
              <a:ext cx="0" cy="45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989600" y="4706640"/>
              <a:ext cx="342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780160" y="469728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03800" y="5392440"/>
              <a:ext cx="4125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954240" y="3371760"/>
              <a:ext cx="3430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84480" y="413064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290840" y="4851360"/>
              <a:ext cx="5716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10000"/>
                  </a:solidFill>
                  <a:latin typeface="Times New Roman"/>
                </a:rPr>
                <a:t>+</a:t>
              </a: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539880" y="4840200"/>
              <a:ext cx="8668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10000"/>
                  </a:solidFill>
                  <a:latin typeface="Times New Roman"/>
                </a:rPr>
                <a:t>-</a:t>
              </a: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257800" y="4257360"/>
              <a:ext cx="9842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10000"/>
                  </a:solidFill>
                  <a:latin typeface="Times New Roman"/>
                </a:rPr>
                <a:t>+</a:t>
              </a: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L</a:t>
              </a:r>
              <a:r>
                <a:rPr b="0" lang="it-IT" sz="2400" spc="-1" strike="noStrike">
                  <a:solidFill>
                    <a:srgbClr val="010000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913120" y="4176360"/>
              <a:ext cx="998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10000"/>
                  </a:solidFill>
                  <a:latin typeface="Times New Roman"/>
                </a:rPr>
                <a:t>-</a:t>
              </a: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L</a:t>
              </a:r>
              <a:r>
                <a:rPr b="0" lang="it-IT" sz="2400" spc="-1" strike="noStrike">
                  <a:solidFill>
                    <a:srgbClr val="010000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427" name=""/>
          <p:cNvSpPr/>
          <p:nvPr/>
        </p:nvSpPr>
        <p:spPr>
          <a:xfrm>
            <a:off x="4822920" y="2852640"/>
            <a:ext cx="46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BEM </a:t>
            </a:r>
            <a:r>
              <a:rPr b="0" i="1" lang="it-IT" sz="20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dominio esterno in aria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592520" y="1562040"/>
            <a:ext cx="421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FEM </a:t>
            </a:r>
            <a:r>
              <a:rPr b="0" i="1" lang="it-IT" sz="20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regione rettangolare che include conduttori e scherm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178160" y="2674800"/>
            <a:ext cx="633600" cy="40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4059360" y="1816200"/>
            <a:ext cx="672840" cy="371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3257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810480" y="3706920"/>
            <a:ext cx="13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 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= 50 Hz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512720" y="804960"/>
            <a:ext cx="652320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Confronto PEC - rame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34" name=""/>
          <p:cNvSpPr/>
          <p:nvPr/>
        </p:nvSpPr>
        <p:spPr>
          <a:xfrm>
            <a:off x="5869080" y="1592280"/>
            <a:ext cx="2847960" cy="668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336699"/>
                </a:solidFill>
                <a:latin typeface="Arial"/>
              </a:rPr>
              <a:t>Effetto al bord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35" name=""/>
          <p:cNvGraphicFramePr/>
          <p:nvPr/>
        </p:nvGraphicFramePr>
        <p:xfrm>
          <a:off x="4708440" y="2170080"/>
          <a:ext cx="419760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8440" y="2170080"/>
                    <a:ext cx="419760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7" name=""/>
          <p:cNvGraphicFramePr/>
          <p:nvPr/>
        </p:nvGraphicFramePr>
        <p:xfrm>
          <a:off x="262080" y="2217600"/>
          <a:ext cx="407808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080" y="2217600"/>
                    <a:ext cx="407808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9" name=""/>
          <p:cNvSpPr/>
          <p:nvPr/>
        </p:nvSpPr>
        <p:spPr>
          <a:xfrm>
            <a:off x="1420920" y="5165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336699"/>
                </a:solidFill>
                <a:latin typeface="Times New Roman"/>
              </a:rPr>
              <a:t>h </a:t>
            </a:r>
            <a:r>
              <a:rPr b="0" lang="it-IT" sz="3600" spc="-1" strike="noStrike">
                <a:solidFill>
                  <a:srgbClr val="336699"/>
                </a:solidFill>
                <a:latin typeface="Times New Roman"/>
              </a:rPr>
              <a:t>= 0.15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865840" y="515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336699"/>
                </a:solidFill>
                <a:latin typeface="Times New Roman"/>
              </a:rPr>
              <a:t>h </a:t>
            </a:r>
            <a:r>
              <a:rPr b="0" lang="it-IT" sz="3600" spc="-1" strike="noStrike">
                <a:solidFill>
                  <a:srgbClr val="336699"/>
                </a:solidFill>
                <a:latin typeface="Times New Roman"/>
              </a:rPr>
              <a:t>= 0.6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6340320" y="2057400"/>
            <a:ext cx="417600" cy="144144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512720" y="804960"/>
            <a:ext cx="652320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Confronto PMC - rame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3" name=""/>
          <p:cNvSpPr/>
          <p:nvPr/>
        </p:nvSpPr>
        <p:spPr>
          <a:xfrm>
            <a:off x="1420920" y="5165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336699"/>
                </a:solidFill>
                <a:latin typeface="Times New Roman"/>
              </a:rPr>
              <a:t>h </a:t>
            </a:r>
            <a:r>
              <a:rPr b="0" lang="it-IT" sz="3600" spc="-1" strike="noStrike">
                <a:solidFill>
                  <a:srgbClr val="336699"/>
                </a:solidFill>
                <a:latin typeface="Times New Roman"/>
              </a:rPr>
              <a:t>= 0.6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865840" y="515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336699"/>
                </a:solidFill>
                <a:latin typeface="Times New Roman"/>
              </a:rPr>
              <a:t>h </a:t>
            </a:r>
            <a:r>
              <a:rPr b="0" lang="it-IT" sz="3600" spc="-1" strike="noStrike">
                <a:solidFill>
                  <a:srgbClr val="336699"/>
                </a:solidFill>
                <a:latin typeface="Times New Roman"/>
              </a:rPr>
              <a:t>= 0.15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45" name=""/>
          <p:cNvGraphicFramePr/>
          <p:nvPr/>
        </p:nvGraphicFramePr>
        <p:xfrm>
          <a:off x="291960" y="2039760"/>
          <a:ext cx="4087800" cy="314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039760"/>
                    <a:ext cx="4087800" cy="31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7" name=""/>
          <p:cNvGraphicFramePr/>
          <p:nvPr/>
        </p:nvGraphicFramePr>
        <p:xfrm>
          <a:off x="4565520" y="2027160"/>
          <a:ext cx="4307040" cy="31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5520" y="2027160"/>
                    <a:ext cx="430704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512720" y="804960"/>
            <a:ext cx="652320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Confronto PMC - ferro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50" name=""/>
          <p:cNvSpPr/>
          <p:nvPr/>
        </p:nvSpPr>
        <p:spPr>
          <a:xfrm>
            <a:off x="1420920" y="5165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336699"/>
                </a:solidFill>
                <a:latin typeface="Times New Roman"/>
              </a:rPr>
              <a:t>h </a:t>
            </a:r>
            <a:r>
              <a:rPr b="0" lang="it-IT" sz="3600" spc="-1" strike="noStrike">
                <a:solidFill>
                  <a:srgbClr val="336699"/>
                </a:solidFill>
                <a:latin typeface="Times New Roman"/>
              </a:rPr>
              <a:t>= 0.6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865840" y="515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336699"/>
                </a:solidFill>
                <a:latin typeface="Times New Roman"/>
              </a:rPr>
              <a:t>h </a:t>
            </a:r>
            <a:r>
              <a:rPr b="0" lang="it-IT" sz="3600" spc="-1" strike="noStrike">
                <a:solidFill>
                  <a:srgbClr val="336699"/>
                </a:solidFill>
                <a:latin typeface="Times New Roman"/>
              </a:rPr>
              <a:t>= 0.15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52" name="" descr=""/>
          <p:cNvPicPr/>
          <p:nvPr/>
        </p:nvPicPr>
        <p:blipFill>
          <a:blip r:embed="rId1"/>
          <a:srcRect l="0" t="4432" r="0" b="0"/>
          <a:stretch/>
        </p:blipFill>
        <p:spPr>
          <a:xfrm>
            <a:off x="210960" y="2039760"/>
            <a:ext cx="4308480" cy="3009960"/>
          </a:xfrm>
          <a:prstGeom prst="rect">
            <a:avLst/>
          </a:prstGeom>
          <a:ln w="0">
            <a:noFill/>
          </a:ln>
        </p:spPr>
      </p:pic>
      <p:pic>
        <p:nvPicPr>
          <p:cNvPr id="1453" name="" descr=""/>
          <p:cNvPicPr/>
          <p:nvPr/>
        </p:nvPicPr>
        <p:blipFill>
          <a:blip r:embed="rId2"/>
          <a:srcRect l="0" t="4810" r="0" b="0"/>
          <a:stretch/>
        </p:blipFill>
        <p:spPr>
          <a:xfrm>
            <a:off x="4675320" y="2013120"/>
            <a:ext cx="42447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/>
          </p:nvPr>
        </p:nvSpPr>
        <p:spPr>
          <a:xfrm>
            <a:off x="1025280" y="655560"/>
            <a:ext cx="91342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Schermo formato da due strati PEC/PMC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2893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20372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07664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46248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6404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9751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3448080" y="3925800"/>
                <a:ext cx="17175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6" name=""/>
          <p:cNvSpPr/>
          <p:nvPr/>
        </p:nvSpPr>
        <p:spPr>
          <a:xfrm>
            <a:off x="3828960" y="2897280"/>
            <a:ext cx="1086120" cy="842760"/>
          </a:xfrm>
          <a:prstGeom prst="rightArrow">
            <a:avLst>
              <a:gd name="adj1" fmla="val 50000"/>
              <a:gd name="adj2" fmla="val 32219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81240" y="5153040"/>
            <a:ext cx="7108560" cy="1472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strato superiore dello schermo </a:t>
            </a:r>
            <a:r>
              <a:rPr b="0" lang="it-IT" sz="20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porzione del piano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t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corrispondente al terzo quadrante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strato inferiore dello schermo </a:t>
            </a:r>
            <a:r>
              <a:rPr b="0" lang="it-IT" sz="20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porzione del piano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t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corrispondente al quarto quadrante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231840" y="1830240"/>
            <a:ext cx="3592080" cy="2813040"/>
            <a:chOff x="231840" y="1830240"/>
            <a:chExt cx="3592080" cy="2813040"/>
          </a:xfrm>
        </p:grpSpPr>
        <p:sp>
          <p:nvSpPr>
            <p:cNvPr id="1479" name=""/>
            <p:cNvSpPr/>
            <p:nvPr/>
          </p:nvSpPr>
          <p:spPr>
            <a:xfrm>
              <a:off x="463320" y="2292120"/>
              <a:ext cx="2612880" cy="2241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089160" y="3376440"/>
              <a:ext cx="7347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253880" y="1830240"/>
              <a:ext cx="6649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j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155680" y="1931760"/>
              <a:ext cx="1257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piano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 z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08040" y="3417480"/>
              <a:ext cx="7344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 l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31840" y="3428640"/>
              <a:ext cx="320652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62120" y="3365280"/>
              <a:ext cx="7347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l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69680" y="3314520"/>
              <a:ext cx="2054160" cy="108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447640" y="2669760"/>
              <a:ext cx="8856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784160" y="2706480"/>
              <a:ext cx="73476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336760" y="2333520"/>
              <a:ext cx="7344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355840" y="3365280"/>
              <a:ext cx="7344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307880" y="2503080"/>
              <a:ext cx="80604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j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y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69680" y="3198600"/>
              <a:ext cx="2054160" cy="108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1779480" y="1971360"/>
              <a:ext cx="0" cy="26719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492280" y="2706480"/>
              <a:ext cx="0" cy="73476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760400" y="3401640"/>
              <a:ext cx="55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10000"/>
                  </a:solidFill>
                  <a:latin typeface="Arial"/>
                </a:rPr>
                <a:t>PEC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768320" y="297936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10000"/>
                  </a:solidFill>
                  <a:latin typeface="Arial"/>
                </a:rPr>
                <a:t>PMC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208480" y="1793880"/>
            <a:ext cx="3383280" cy="2812680"/>
            <a:chOff x="5208480" y="1793880"/>
            <a:chExt cx="3383280" cy="2812680"/>
          </a:xfrm>
        </p:grpSpPr>
        <p:sp>
          <p:nvSpPr>
            <p:cNvPr id="1498" name=""/>
            <p:cNvSpPr/>
            <p:nvPr/>
          </p:nvSpPr>
          <p:spPr>
            <a:xfrm>
              <a:off x="7787880" y="375300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39960" y="2255760"/>
              <a:ext cx="2613240" cy="2241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230520" y="1793880"/>
              <a:ext cx="6652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jv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132320" y="1895400"/>
              <a:ext cx="1257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piano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 t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416200" y="2217960"/>
              <a:ext cx="2630520" cy="1164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705360" y="278784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162560" y="3324240"/>
              <a:ext cx="4935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221160" y="2309760"/>
              <a:ext cx="73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j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v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7378560" y="2490480"/>
              <a:ext cx="0" cy="878040"/>
            </a:xfrm>
            <a:prstGeom prst="line">
              <a:avLst/>
            </a:prstGeom>
            <a:ln w="1584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741720" y="2517840"/>
              <a:ext cx="646200" cy="0"/>
            </a:xfrm>
            <a:prstGeom prst="line">
              <a:avLst/>
            </a:prstGeom>
            <a:ln w="1908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324560" y="247320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335720" y="2284560"/>
              <a:ext cx="5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883120" y="2724120"/>
              <a:ext cx="94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 I </a:t>
              </a: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(0,j)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424120" y="3379680"/>
              <a:ext cx="1327320" cy="1119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208480" y="3392640"/>
              <a:ext cx="320652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6756120" y="1935000"/>
              <a:ext cx="0" cy="267156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478120" y="3944880"/>
              <a:ext cx="107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10000"/>
                  </a:solidFill>
                  <a:latin typeface="Arial"/>
                </a:rPr>
                <a:t>PMC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840360" y="3946680"/>
              <a:ext cx="107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10000"/>
                  </a:solidFill>
                  <a:latin typeface="Arial"/>
                </a:rPr>
                <a:t>PEC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282880" y="3436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/>
          </p:nvPr>
        </p:nvSpPr>
        <p:spPr>
          <a:xfrm>
            <a:off x="1025280" y="655560"/>
            <a:ext cx="91342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Schermo formato da due strati PEC/PMC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2893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20372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07664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46248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06404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9751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838680" y="2314440"/>
            <a:ext cx="1085760" cy="843120"/>
          </a:xfrm>
          <a:prstGeom prst="rightArrow">
            <a:avLst>
              <a:gd name="adj1" fmla="val 50000"/>
              <a:gd name="adj2" fmla="val 32195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60320" y="4227480"/>
            <a:ext cx="79977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semipiano superiore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v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&gt;0 </a:t>
            </a:r>
            <a:r>
              <a:rPr b="0" lang="it-IT" sz="20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primo quadrante del piano complesso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152280" y="1336680"/>
            <a:ext cx="3383280" cy="2812680"/>
            <a:chOff x="152280" y="1336680"/>
            <a:chExt cx="3383280" cy="2812680"/>
          </a:xfrm>
        </p:grpSpPr>
        <p:sp>
          <p:nvSpPr>
            <p:cNvPr id="1541" name=""/>
            <p:cNvSpPr/>
            <p:nvPr/>
          </p:nvSpPr>
          <p:spPr>
            <a:xfrm>
              <a:off x="2731680" y="329580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83760" y="1798560"/>
              <a:ext cx="2613240" cy="2241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174320" y="1336680"/>
              <a:ext cx="6652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jv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076120" y="1438200"/>
              <a:ext cx="1257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piano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 t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60000" y="1760760"/>
              <a:ext cx="2630520" cy="1164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649160" y="233064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106360" y="2867040"/>
              <a:ext cx="4935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164960" y="1852560"/>
              <a:ext cx="73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j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v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2322360" y="2033280"/>
              <a:ext cx="0" cy="878040"/>
            </a:xfrm>
            <a:prstGeom prst="line">
              <a:avLst/>
            </a:prstGeom>
            <a:ln w="1584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685520" y="2060640"/>
              <a:ext cx="646200" cy="0"/>
            </a:xfrm>
            <a:prstGeom prst="line">
              <a:avLst/>
            </a:prstGeom>
            <a:ln w="1908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268360" y="201600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279520" y="1827360"/>
              <a:ext cx="5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26920" y="2266920"/>
              <a:ext cx="94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 I </a:t>
              </a: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(0,j)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67920" y="2922480"/>
              <a:ext cx="1327320" cy="1119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52280" y="2935440"/>
              <a:ext cx="320652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1699920" y="1477800"/>
              <a:ext cx="0" cy="267156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21920" y="3487680"/>
              <a:ext cx="107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10000"/>
                  </a:solidFill>
                  <a:latin typeface="Arial"/>
                </a:rPr>
                <a:t>PMC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784160" y="3489480"/>
              <a:ext cx="107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10000"/>
                  </a:solidFill>
                  <a:latin typeface="Arial"/>
                </a:rPr>
                <a:t>PEC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226680" y="297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5208480" y="1268280"/>
            <a:ext cx="3380400" cy="2863800"/>
            <a:chOff x="5208480" y="1268280"/>
            <a:chExt cx="3380400" cy="2863800"/>
          </a:xfrm>
        </p:grpSpPr>
        <p:sp>
          <p:nvSpPr>
            <p:cNvPr id="1561" name=""/>
            <p:cNvSpPr/>
            <p:nvPr/>
          </p:nvSpPr>
          <p:spPr>
            <a:xfrm>
              <a:off x="7788240" y="327816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440320" y="1780920"/>
              <a:ext cx="2613240" cy="2241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132680" y="1420560"/>
              <a:ext cx="1257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piano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 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416560" y="1742760"/>
              <a:ext cx="2630520" cy="1165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172280" y="246528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221520" y="1834920"/>
              <a:ext cx="73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j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v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386480" y="198900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399440" y="1809720"/>
              <a:ext cx="5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416560" y="1739880"/>
              <a:ext cx="1335240" cy="2284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208480" y="2917800"/>
              <a:ext cx="320688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6756480" y="1460160"/>
              <a:ext cx="0" cy="26719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478480" y="3470040"/>
              <a:ext cx="107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10000"/>
                  </a:solidFill>
                  <a:latin typeface="Arial"/>
                </a:rPr>
                <a:t>PMC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840360" y="3471840"/>
              <a:ext cx="107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10000"/>
                  </a:solidFill>
                  <a:latin typeface="Arial"/>
                </a:rPr>
                <a:t>PEC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251200" y="2844720"/>
              <a:ext cx="33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s</a:t>
              </a:r>
              <a:r>
                <a:rPr b="0" i="1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149880" y="1268280"/>
              <a:ext cx="830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js</a:t>
              </a:r>
              <a:r>
                <a:rPr b="0" i="1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149960" y="2339640"/>
              <a:ext cx="5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 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577" name=""/>
          <p:cNvSpPr/>
          <p:nvPr/>
        </p:nvSpPr>
        <p:spPr>
          <a:xfrm>
            <a:off x="43830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3830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830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3830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637080" y="5827680"/>
                <a:ext cx="19317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2" name=""/>
          <p:cNvSpPr/>
          <p:nvPr/>
        </p:nvSpPr>
        <p:spPr>
          <a:xfrm>
            <a:off x="43830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3830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787320" y="4821120"/>
            <a:ext cx="799776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6699"/>
                </a:solidFill>
                <a:uFillTx/>
                <a:latin typeface="Arial"/>
                <a:ea typeface="Times New Roman"/>
              </a:rPr>
              <a:t>frontiera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= unione dei semiassi positivi dei due assi cartesiani </a:t>
            </a:r>
            <a:r>
              <a:rPr b="0" lang="it-IT" sz="20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connessione con l’asse reale del piano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t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tramite la trasformazione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222800" y="4589640"/>
            <a:ext cx="447480" cy="314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60200" y="791640"/>
            <a:ext cx="913464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Funzioni coniugate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7360" y="1457280"/>
            <a:ext cx="803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Si può dimostrare che la funzione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(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z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) e le sue funzioni coniugate sono soluzioni dell'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equazione di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aplace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.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893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3186720" y="2449800"/>
            <a:ext cx="312840" cy="3346560"/>
          </a:xfrm>
          <a:custGeom>
            <a:avLst/>
            <a:gdLst>
              <a:gd name="textAreaLeft" fmla="*/ 199800 w 312840"/>
              <a:gd name="textAreaRight" fmla="*/ 313200 w 312840"/>
              <a:gd name="textAreaTop" fmla="*/ 87120 h 3346560"/>
              <a:gd name="textAreaBottom" fmla="*/ 3259440 h 334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14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4652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77920" y="2260440"/>
            <a:ext cx="3009960" cy="1587240"/>
            <a:chOff x="277920" y="2260440"/>
            <a:chExt cx="3009960" cy="1587240"/>
          </a:xfrm>
        </p:grpSpPr>
        <p:sp>
          <p:nvSpPr>
            <p:cNvPr id="126" name=""/>
            <p:cNvSpPr/>
            <p:nvPr/>
          </p:nvSpPr>
          <p:spPr>
            <a:xfrm>
              <a:off x="277920" y="2260440"/>
              <a:ext cx="281160" cy="1587240"/>
            </a:xfrm>
            <a:custGeom>
              <a:avLst/>
              <a:gdLst>
                <a:gd name="textAreaLeft" fmla="*/ 179640 w 281160"/>
                <a:gd name="textAreaRight" fmla="*/ 281520 w 281160"/>
                <a:gd name="textAreaTop" fmla="*/ 41400 h 1587240"/>
                <a:gd name="textAreaBottom" fmla="*/ 1545840 h 158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3360" y="2300040"/>
                  <a:ext cx="2597400" cy="67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'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13080" y="3106440"/>
                  <a:ext cx="267480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F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rPr>
                          <m:lit/>
                          <m:nor/>
                        </m:rPr>
                        <m:t xml:space="preserve"> \( z \) } {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9" name=""/>
          <p:cNvSpPr/>
          <p:nvPr/>
        </p:nvSpPr>
        <p:spPr>
          <a:xfrm>
            <a:off x="380376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97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282760" y="4530600"/>
                <a:ext cx="23256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10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26240" y="4176720"/>
                <a:ext cx="23335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114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862600" y="5389560"/>
                <a:ext cx="23414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" name=""/>
          <p:cNvGrpSpPr/>
          <p:nvPr/>
        </p:nvGrpSpPr>
        <p:grpSpPr>
          <a:xfrm>
            <a:off x="3635280" y="2262240"/>
            <a:ext cx="3219480" cy="1598400"/>
            <a:chOff x="3635280" y="2262240"/>
            <a:chExt cx="3219480" cy="1598400"/>
          </a:xfrm>
        </p:grpSpPr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3894120" y="2303280"/>
                  <a:ext cx="271296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'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jF</m:t>
                      </m:r>
                      <m:r>
                        <m:t xml:space="preserve">'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3870000" y="3081240"/>
                  <a:ext cx="298476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jF</m:t>
                      </m:r>
                      <m:r>
                        <m:rPr>
                          <m:lit/>
                          <m:nor/>
                        </m:rPr>
                        <m:t xml:space="preserve"> \( z \)  cdot  {  { partial z}  over  { partial y} } = - F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3635280" y="2262240"/>
              <a:ext cx="280800" cy="1587240"/>
            </a:xfrm>
            <a:custGeom>
              <a:avLst/>
              <a:gdLst>
                <a:gd name="textAreaLeft" fmla="*/ 179280 w 280800"/>
                <a:gd name="textAreaRight" fmla="*/ 281160 w 280800"/>
                <a:gd name="textAreaTop" fmla="*/ 41400 h 1587240"/>
                <a:gd name="textAreaBottom" fmla="*/ 1545840 h 158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224320" y="3968640"/>
            <a:ext cx="723960" cy="2764080"/>
          </a:xfrm>
          <a:custGeom>
            <a:avLst/>
            <a:gdLst>
              <a:gd name="textAreaLeft" fmla="*/ 462600 w 723960"/>
              <a:gd name="textAreaRight" fmla="*/ 724320 w 723960"/>
              <a:gd name="textAreaTop" fmla="*/ 72000 h 2764080"/>
              <a:gd name="textAreaBottom" fmla="*/ 2692080 h 276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/>
          </p:nvPr>
        </p:nvSpPr>
        <p:spPr>
          <a:xfrm>
            <a:off x="1964880" y="673200"/>
            <a:ext cx="4714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Determinazione di  </a:t>
            </a:r>
            <a:r>
              <a:rPr b="1" i="1" lang="it-IT" sz="3200" spc="-1" strike="noStrike">
                <a:solidFill>
                  <a:srgbClr val="336699"/>
                </a:solidFill>
                <a:latin typeface="Times New Roman"/>
              </a:rPr>
              <a:t>t</a:t>
            </a:r>
            <a:r>
              <a:rPr b="1" lang="it-IT" sz="3200" spc="-1" strike="noStrike">
                <a:solidFill>
                  <a:srgbClr val="336699"/>
                </a:solidFill>
                <a:latin typeface="Times New Roman"/>
              </a:rPr>
              <a:t> = </a:t>
            </a:r>
            <a:r>
              <a:rPr b="1" i="1" lang="it-IT" sz="3200" spc="-1" strike="noStrike">
                <a:solidFill>
                  <a:srgbClr val="336699"/>
                </a:solidFill>
                <a:latin typeface="Times New Roman"/>
              </a:rPr>
              <a:t>s</a:t>
            </a:r>
            <a:r>
              <a:rPr b="1" lang="it-IT" sz="3200" spc="-1" strike="noStrike" baseline="30000">
                <a:solidFill>
                  <a:srgbClr val="3366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2893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20372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07664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46248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06404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9751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89120" y="1368360"/>
            <a:ext cx="79977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Integrazione dell’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equazione differenziale di Schwarz-Christoffel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3830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3830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3830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3830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3830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3830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822240" y="3019320"/>
            <a:ext cx="5935680" cy="63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a </a:t>
            </a:r>
            <a:r>
              <a:rPr b="0" lang="it-IT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= 0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i="1" lang="it-IT" sz="1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0" i="1" lang="it-IT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= </a:t>
            </a:r>
            <a:r>
              <a:rPr b="0" lang="it-IT" sz="1400" spc="-1" strike="noStrike">
                <a:solidFill>
                  <a:srgbClr val="336699"/>
                </a:solidFill>
                <a:latin typeface="Symbol"/>
                <a:ea typeface="Symbol"/>
              </a:rPr>
              <a:t></a:t>
            </a:r>
            <a:r>
              <a:rPr b="0" lang="it-IT" sz="1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/ 2 (angolo interno della regione individuata dal primo quadrante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79400" y="3648240"/>
            <a:ext cx="447840" cy="314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849240" y="2075040"/>
                <a:ext cx="26449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7" name=""/>
          <p:cNvSpPr/>
          <p:nvPr/>
        </p:nvSpPr>
        <p:spPr>
          <a:xfrm>
            <a:off x="374652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841320" y="4054320"/>
                <a:ext cx="34322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'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771480" y="5187960"/>
            <a:ext cx="12384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siccom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225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2222640" y="5203800"/>
                <a:ext cx="61308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  <m:r>
                      <m:t xml:space="preserve">⇒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30225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230560" y="5708520"/>
            <a:ext cx="1014120" cy="707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S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Arial"/>
              </a:rPr>
              <a:t>'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= 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k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= </a:t>
            </a:r>
            <a:r>
              <a:rPr b="0" lang="it-IT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/>
          </p:nvPr>
        </p:nvSpPr>
        <p:spPr>
          <a:xfrm>
            <a:off x="-360" y="774360"/>
            <a:ext cx="8783640" cy="11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Metodo delle immagini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20372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076640" y="32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0528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222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898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892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46248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206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836880" y="2822400"/>
            <a:ext cx="1030320" cy="698760"/>
          </a:xfrm>
          <a:prstGeom prst="rightArrow">
            <a:avLst>
              <a:gd name="adj1" fmla="val 50000"/>
              <a:gd name="adj2" fmla="val 36862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176880" y="4815000"/>
            <a:ext cx="736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10000"/>
                </a:solidFill>
                <a:latin typeface="Times New Roman"/>
              </a:rPr>
              <a:t>-j</a:t>
            </a:r>
            <a:r>
              <a:rPr b="0" i="1" lang="it-IT" sz="2000" spc="-1" strike="noStrike">
                <a:solidFill>
                  <a:srgbClr val="010000"/>
                </a:solidFill>
                <a:latin typeface="Times New Roman"/>
              </a:rPr>
              <a:t>v</a:t>
            </a:r>
            <a:r>
              <a:rPr b="0" lang="it-IT" sz="20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4909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395280" y="1359000"/>
            <a:ext cx="3380400" cy="2863800"/>
            <a:chOff x="395280" y="1359000"/>
            <a:chExt cx="3380400" cy="2863800"/>
          </a:xfrm>
        </p:grpSpPr>
        <p:sp>
          <p:nvSpPr>
            <p:cNvPr id="1647" name=""/>
            <p:cNvSpPr/>
            <p:nvPr/>
          </p:nvSpPr>
          <p:spPr>
            <a:xfrm>
              <a:off x="2975040" y="336888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27120" y="1871640"/>
              <a:ext cx="2613240" cy="2241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319480" y="1511280"/>
              <a:ext cx="1257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piano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 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3360" y="1833480"/>
              <a:ext cx="2630520" cy="1165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359080" y="255600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408320" y="1925640"/>
              <a:ext cx="73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j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v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573280" y="207972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586240" y="1900440"/>
              <a:ext cx="5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03360" y="1830600"/>
              <a:ext cx="1335240" cy="2284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95280" y="3008520"/>
              <a:ext cx="320688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1943280" y="1550880"/>
              <a:ext cx="0" cy="26719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65280" y="3560760"/>
              <a:ext cx="107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10000"/>
                  </a:solidFill>
                  <a:latin typeface="Arial"/>
                </a:rPr>
                <a:t>PMC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027160" y="3562560"/>
              <a:ext cx="107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10000"/>
                  </a:solidFill>
                  <a:latin typeface="Arial"/>
                </a:rPr>
                <a:t>PEC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38000" y="2935440"/>
              <a:ext cx="33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s</a:t>
              </a:r>
              <a:r>
                <a:rPr b="0" i="1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336680" y="1359000"/>
              <a:ext cx="830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j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s</a:t>
              </a:r>
              <a:r>
                <a:rPr b="0" i="1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336760" y="2430360"/>
              <a:ext cx="5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 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333360" y="4338720"/>
                <a:ext cx="847404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4</m:t>
                                        </m:r>
                                      </m: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og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s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664" name=""/>
          <p:cNvGrpSpPr/>
          <p:nvPr/>
        </p:nvGrpSpPr>
        <p:grpSpPr>
          <a:xfrm>
            <a:off x="5173560" y="1465200"/>
            <a:ext cx="3602160" cy="3083040"/>
            <a:chOff x="5173560" y="1465200"/>
            <a:chExt cx="3602160" cy="3083040"/>
          </a:xfrm>
        </p:grpSpPr>
        <p:sp>
          <p:nvSpPr>
            <p:cNvPr id="1665" name=""/>
            <p:cNvSpPr/>
            <p:nvPr/>
          </p:nvSpPr>
          <p:spPr>
            <a:xfrm>
              <a:off x="8040600" y="302112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s</a:t>
              </a:r>
              <a:r>
                <a:rPr b="0" i="1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05400" y="1927080"/>
              <a:ext cx="2613240" cy="2241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294600" y="1465200"/>
              <a:ext cx="6649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j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s</a:t>
              </a:r>
              <a:r>
                <a:rPr b="0" i="1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097760" y="1566720"/>
              <a:ext cx="1257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piano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 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V="1">
              <a:off x="6721560" y="1606320"/>
              <a:ext cx="0" cy="267156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173560" y="3063960"/>
              <a:ext cx="320688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289640" y="256536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297560" y="348948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315200" y="2259000"/>
              <a:ext cx="50328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r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84920" y="230652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39000" y="2054160"/>
              <a:ext cx="5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051600" y="350820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32520" y="255600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524560" y="3773520"/>
              <a:ext cx="5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 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078600" y="2590920"/>
              <a:ext cx="1272960" cy="950760"/>
            </a:xfrm>
            <a:prstGeom prst="rect">
              <a:avLst/>
            </a:prstGeom>
            <a:noFill/>
            <a:ln w="1908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692680" y="2338560"/>
              <a:ext cx="2044800" cy="1454040"/>
            </a:xfrm>
            <a:prstGeom prst="rect">
              <a:avLst/>
            </a:prstGeom>
            <a:noFill/>
            <a:ln w="1908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668920" y="229716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664320" y="301464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632560" y="376704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683480" y="373212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737320" y="2306520"/>
              <a:ext cx="50328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r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756400" y="3252960"/>
              <a:ext cx="50328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r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350120" y="3271680"/>
              <a:ext cx="50328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r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656480" y="2006640"/>
              <a:ext cx="50328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s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361120" y="3567240"/>
              <a:ext cx="50328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s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682040" y="3602160"/>
              <a:ext cx="50328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s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397480" y="1960560"/>
              <a:ext cx="50328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s</a:t>
              </a:r>
              <a:r>
                <a:rPr b="0" lang="it-IT" sz="2000" spc="-1" strike="noStrike" baseline="-25000">
                  <a:solidFill>
                    <a:srgbClr val="01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65920" y="3228840"/>
              <a:ext cx="5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934320" y="3174840"/>
              <a:ext cx="5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543640" y="2017800"/>
              <a:ext cx="5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+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000840" y="2519280"/>
              <a:ext cx="5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 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905520" y="2536920"/>
              <a:ext cx="5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 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326360" y="3736800"/>
              <a:ext cx="5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- I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698" name=""/>
          <p:cNvSpPr/>
          <p:nvPr/>
        </p:nvSpPr>
        <p:spPr>
          <a:xfrm>
            <a:off x="3468600" y="330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9" name=""/>
              <p:cNvSpPr txBox="1"/>
              <p:nvPr/>
            </p:nvSpPr>
            <p:spPr>
              <a:xfrm>
                <a:off x="728640" y="5487840"/>
                <a:ext cx="44355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00" name=""/>
          <p:cNvSpPr/>
          <p:nvPr/>
        </p:nvSpPr>
        <p:spPr>
          <a:xfrm>
            <a:off x="332280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728640" y="6099120"/>
                <a:ext cx="4245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426960" y="5446800"/>
            <a:ext cx="249480" cy="1411200"/>
          </a:xfrm>
          <a:custGeom>
            <a:avLst/>
            <a:gdLst>
              <a:gd name="textAreaLeft" fmla="*/ 159480 w 249480"/>
              <a:gd name="textAreaRight" fmla="*/ 249840 w 249480"/>
              <a:gd name="textAreaTop" fmla="*/ 36720 h 1411200"/>
              <a:gd name="textAreaBottom" fmla="*/ 1374480 h 14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60200" y="791640"/>
            <a:ext cx="913464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  <a:ea typeface="Times New Roman"/>
              </a:rPr>
              <a:t>Ortogonalità delle funzioni coniugate</a:t>
            </a: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893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514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236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732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6400" y="1996920"/>
            <a:ext cx="1968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t</a:t>
            </a:r>
            <a:r>
              <a:rPr b="0" lang="it-IT" sz="24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0</a:t>
            </a:r>
            <a:r>
              <a:rPr b="0" i="1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=u</a:t>
            </a:r>
            <a:r>
              <a:rPr b="0" lang="it-IT" sz="24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0</a:t>
            </a:r>
            <a:r>
              <a:rPr b="0" i="1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+jv</a:t>
            </a:r>
            <a:r>
              <a:rPr b="0" lang="it-IT" sz="24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0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98920" y="1569960"/>
            <a:ext cx="1938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u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x,y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=</a:t>
            </a:r>
            <a:r>
              <a:rPr b="0" i="1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u</a:t>
            </a:r>
            <a:r>
              <a:rPr b="0" lang="it-IT" sz="24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0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59320" y="2419200"/>
            <a:ext cx="1938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v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x,y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=</a:t>
            </a:r>
            <a:r>
              <a:rPr b="0" i="1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v</a:t>
            </a:r>
            <a:r>
              <a:rPr b="0" lang="it-IT" sz="24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0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68520" y="1481040"/>
            <a:ext cx="676440" cy="1630440"/>
          </a:xfrm>
          <a:custGeom>
            <a:avLst/>
            <a:gdLst>
              <a:gd name="textAreaLeft" fmla="*/ 432360 w 676440"/>
              <a:gd name="textAreaRight" fmla="*/ 676800 w 676440"/>
              <a:gd name="textAreaTop" fmla="*/ 42480 h 1630440"/>
              <a:gd name="textAreaBottom" fmla="*/ 1587960 h 163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3160" y="1967040"/>
            <a:ext cx="755640" cy="676080"/>
          </a:xfrm>
          <a:prstGeom prst="rightArrow">
            <a:avLst>
              <a:gd name="adj1" fmla="val 50000"/>
              <a:gd name="adj2" fmla="val 27942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37280" y="2073240"/>
            <a:ext cx="37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curve nel piano complesso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z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-200160" y="2813040"/>
            <a:ext cx="4240440" cy="3857400"/>
            <a:chOff x="-200160" y="2813040"/>
            <a:chExt cx="4240440" cy="3857400"/>
          </a:xfrm>
        </p:grpSpPr>
        <p:sp>
          <p:nvSpPr>
            <p:cNvPr id="164" name=""/>
            <p:cNvSpPr/>
            <p:nvPr/>
          </p:nvSpPr>
          <p:spPr>
            <a:xfrm>
              <a:off x="0" y="4411800"/>
              <a:ext cx="320688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547640" y="2954160"/>
              <a:ext cx="0" cy="267156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57320" y="435924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2400" y="2813040"/>
              <a:ext cx="6652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j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24200" y="2914560"/>
              <a:ext cx="125712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piano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 z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-200160" y="3727440"/>
              <a:ext cx="2844720" cy="294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2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849320" y="3748320"/>
              <a:ext cx="1568160" cy="238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849320" y="3708360"/>
              <a:ext cx="487440" cy="67464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89280" y="3867120"/>
              <a:ext cx="446040" cy="34776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73080" y="5052960"/>
              <a:ext cx="1938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u</a:t>
              </a:r>
              <a:r>
                <a:rPr b="0" lang="it-IT" sz="24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=</a:t>
              </a:r>
              <a:r>
                <a:rPr b="0" i="1" lang="it-IT" sz="24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u</a:t>
              </a:r>
              <a:r>
                <a:rPr b="0" lang="it-IT" sz="2400" spc="-1" strike="noStrike" baseline="-30000">
                  <a:solidFill>
                    <a:srgbClr val="009999"/>
                  </a:solidFill>
                  <a:latin typeface="Times New Roman"/>
                  <a:ea typeface="Times New Roman"/>
                </a:rPr>
                <a:t>0</a:t>
              </a:r>
              <a:r>
                <a:rPr b="0" lang="it-IT" sz="24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01680" y="3427560"/>
              <a:ext cx="1938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v</a:t>
              </a:r>
              <a:r>
                <a:rPr b="0" lang="it-IT" sz="24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=</a:t>
              </a:r>
              <a:r>
                <a:rPr b="0" i="1" lang="it-IT" sz="24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v</a:t>
              </a:r>
              <a:r>
                <a:rPr b="0" lang="it-IT" sz="2400" spc="-1" strike="noStrike" baseline="-30000">
                  <a:solidFill>
                    <a:srgbClr val="009999"/>
                  </a:solidFill>
                  <a:latin typeface="Times New Roman"/>
                  <a:ea typeface="Times New Roman"/>
                </a:rPr>
                <a:t>0</a:t>
              </a:r>
              <a:r>
                <a:rPr b="0" lang="it-IT" sz="24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789360" y="3198960"/>
            <a:ext cx="3724200" cy="111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'intersezione di due generiche curve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u=u</a:t>
            </a:r>
            <a:r>
              <a:rPr b="0" lang="it-IT" sz="2000" spc="-1" strike="noStrike" baseline="-30000">
                <a:solidFill>
                  <a:srgbClr val="336699"/>
                </a:solidFill>
                <a:latin typeface="Arial"/>
                <a:ea typeface="Times New Roman"/>
              </a:rPr>
              <a:t>0 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e v=v</a:t>
            </a:r>
            <a:r>
              <a:rPr b="0" lang="it-IT" sz="2000" spc="-1" strike="noStrike" baseline="-30000">
                <a:solidFill>
                  <a:srgbClr val="336699"/>
                </a:solidFill>
                <a:latin typeface="Arial"/>
                <a:ea typeface="Times New Roman"/>
              </a:rPr>
              <a:t>0  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nel punto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z=z</a:t>
            </a:r>
            <a:r>
              <a:rPr b="0" lang="it-IT" sz="2000" spc="-1" strike="noStrike" baseline="-30000">
                <a:solidFill>
                  <a:srgbClr val="336699"/>
                </a:solidFill>
                <a:latin typeface="Arial"/>
                <a:ea typeface="Times New Roman"/>
              </a:rPr>
              <a:t>0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dà origine ad angoli retti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68560" y="31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67200" y="5102280"/>
                <a:ext cx="20826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∂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</m:den>
                                </m:f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3875040" y="31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995640" y="4297320"/>
                <a:ext cx="21402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∂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</m:den>
                                </m:f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875040" y="31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8720" y="5915160"/>
            <a:ext cx="810720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Poiché devono essere soddisfatte le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equazioni di Cauchy-Riemann 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il prodotto dei due coefficienti angolari è pari a –1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4386240"/>
            <a:ext cx="1938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per</a:t>
            </a:r>
            <a:r>
              <a:rPr b="0" i="1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u</a:t>
            </a:r>
            <a:r>
              <a:rPr b="0" lang="it-IT" sz="24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0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38880" y="5106960"/>
            <a:ext cx="1938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per</a:t>
            </a:r>
            <a:r>
              <a:rPr b="0" i="1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v</a:t>
            </a:r>
            <a:r>
              <a:rPr b="0" lang="it-IT" sz="24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0</a:t>
            </a:r>
            <a:r>
              <a:rPr b="0" lang="it-IT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30440" y="4246560"/>
            <a:ext cx="676440" cy="1630440"/>
          </a:xfrm>
          <a:custGeom>
            <a:avLst/>
            <a:gdLst>
              <a:gd name="textAreaLeft" fmla="*/ 432360 w 676440"/>
              <a:gd name="textAreaRight" fmla="*/ 676800 w 676440"/>
              <a:gd name="textAreaTop" fmla="*/ 42480 h 1630440"/>
              <a:gd name="textAreaBottom" fmla="*/ 1587960 h 163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60200" y="791640"/>
            <a:ext cx="913464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  <a:ea typeface="Times New Roman"/>
              </a:rPr>
              <a:t>Definizione della funzione potenziale complesso</a:t>
            </a:r>
            <a:r>
              <a:rPr b="1" lang="it-IT" sz="3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36720" y="1438200"/>
            <a:ext cx="758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Siccome le 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funzioni coniugate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sono soluzioni dell'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equazione di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aplace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e soddisfano la 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proprietà di ortogonalità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, possono essere adottate per rappresentare le funzioni 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flusso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e 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potenziale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, che descrivono il campo magnetico nel piano (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x,y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893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35592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99"/>
                </a:solidFill>
                <a:latin typeface="Symbol"/>
                <a:ea typeface="Symbol"/>
              </a:rPr>
              <a:t></a:t>
            </a:r>
            <a:r>
              <a:rPr b="0" i="1" lang="it-IT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= </a:t>
            </a:r>
            <a:r>
              <a:rPr b="0" i="1" lang="it-IT" sz="2000" spc="-1" strike="noStrike">
                <a:solidFill>
                  <a:srgbClr val="336699"/>
                </a:solidFill>
                <a:latin typeface="Symbol"/>
                <a:ea typeface="Symbol"/>
              </a:rPr>
              <a:t></a:t>
            </a:r>
            <a:r>
              <a:rPr b="0" i="1" lang="it-IT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(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x,y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) </a:t>
            </a:r>
            <a:r>
              <a:rPr b="0" lang="it-IT" sz="20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funzione potenziale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514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236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41640" y="4703760"/>
            <a:ext cx="993960" cy="673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80960" y="2879640"/>
            <a:ext cx="40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99"/>
                </a:solidFill>
                <a:latin typeface="Symbol"/>
                <a:ea typeface="Symbol"/>
              </a:rPr>
              <a:t></a:t>
            </a:r>
            <a:r>
              <a:rPr b="0" i="1" lang="it-IT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= </a:t>
            </a:r>
            <a:r>
              <a:rPr b="0" i="1" lang="it-IT" sz="2000" spc="-1" strike="noStrike">
                <a:solidFill>
                  <a:srgbClr val="336699"/>
                </a:solidFill>
                <a:latin typeface="Symbol"/>
                <a:ea typeface="Symbol"/>
              </a:rPr>
              <a:t></a:t>
            </a:r>
            <a:r>
              <a:rPr b="0" i="1" lang="it-IT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(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x,y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)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funzione flusso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2480" y="3894120"/>
            <a:ext cx="754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e  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funzioni coniugate </a:t>
            </a:r>
            <a:r>
              <a:rPr b="0" i="1" lang="it-IT" sz="2000" spc="-1" strike="noStrike">
                <a:solidFill>
                  <a:srgbClr val="336699"/>
                </a:solidFill>
                <a:latin typeface="Symbol"/>
                <a:ea typeface="Symbol"/>
              </a:rPr>
              <a:t>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(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x,y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) e </a:t>
            </a:r>
            <a:r>
              <a:rPr b="0" i="1" lang="it-IT" sz="2000" spc="-1" strike="noStrike">
                <a:solidFill>
                  <a:srgbClr val="336699"/>
                </a:solidFill>
                <a:latin typeface="Symbol"/>
                <a:ea typeface="Symbol"/>
              </a:rPr>
              <a:t>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(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x,y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) vengono combinate in una singola funzione complessa di variabile complessa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w</a:t>
            </a:r>
            <a:r>
              <a:rPr b="0" lang="it-IT" sz="2000" spc="-1" strike="noStrike" u="sng">
                <a:solidFill>
                  <a:srgbClr val="336699"/>
                </a:solidFill>
                <a:uFillTx/>
                <a:latin typeface="Arial"/>
                <a:ea typeface="Times New Roman"/>
              </a:rPr>
              <a:t>(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z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020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871560" y="5610240"/>
                <a:ext cx="74628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44560" y="750960"/>
            <a:ext cx="774864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Arial"/>
                <a:ea typeface="Times New Roman"/>
              </a:rPr>
              <a:t>Componenti del campo magnetico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893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514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236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74680" y="1954080"/>
            <a:ext cx="752400" cy="573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06840" y="263844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potenziale magnetico scalare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89120" y="1371600"/>
            <a:ext cx="44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nelle regioni del dominio che non sono sede di correnti elettrich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54480" y="32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71840" y="3094200"/>
            <a:ext cx="361800" cy="1798560"/>
          </a:xfrm>
          <a:custGeom>
            <a:avLst/>
            <a:gdLst>
              <a:gd name="textAreaLeft" fmla="*/ 231120 w 361800"/>
              <a:gd name="textAreaRight" fmla="*/ 362160 w 361800"/>
              <a:gd name="textAreaTop" fmla="*/ 46800 h 1798560"/>
              <a:gd name="textAreaBottom" fmla="*/ 1751760 h 17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925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69880" y="1395360"/>
                <a:ext cx="19321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∇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24332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95160" y="2523960"/>
                <a:ext cx="17496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4572000" y="436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979720" y="3067200"/>
                <a:ext cx="14763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396396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930400" y="3855960"/>
                <a:ext cx="2449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2782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73040" y="5410080"/>
                <a:ext cx="56563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0593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772320" y="4680000"/>
                <a:ext cx="22320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0528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834240" y="5727600"/>
                <a:ext cx="21304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rot="5400000">
            <a:off x="1306800" y="3093120"/>
            <a:ext cx="1065240" cy="1035000"/>
          </a:xfrm>
          <a:custGeom>
            <a:avLst/>
            <a:gdLst>
              <a:gd name="textAreaLeft" fmla="*/ 354960 w 1065240"/>
              <a:gd name="textAreaRight" fmla="*/ 912600 w 1065240"/>
              <a:gd name="textAreaTop" fmla="*/ 596160 h 1035000"/>
              <a:gd name="textAreaBottom" fmla="*/ 886680 h 1035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95760" y="3935520"/>
            <a:ext cx="342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dalla prima uguaglianza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Cauchy–Riemann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50040" y="4643280"/>
            <a:ext cx="361800" cy="1978200"/>
          </a:xfrm>
          <a:custGeom>
            <a:avLst/>
            <a:gdLst>
              <a:gd name="textAreaLeft" fmla="*/ 231120 w 361800"/>
              <a:gd name="textAreaRight" fmla="*/ 362160 w 361800"/>
              <a:gd name="textAreaTop" fmla="*/ 51480 h 1978200"/>
              <a:gd name="textAreaBottom" fmla="*/ 1926720 h 197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27440" y="4770360"/>
            <a:ext cx="752400" cy="573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893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514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3236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25680" y="32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54480" y="32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836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050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25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17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13560" y="5853240"/>
            <a:ext cx="1501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10000"/>
                </a:solidFill>
                <a:latin typeface="Arial"/>
                <a:ea typeface="Times New Roman"/>
              </a:rPr>
              <a:t>con t=re</a:t>
            </a:r>
            <a:r>
              <a:rPr b="0" i="1" lang="fr-FR" sz="2400" spc="-1" strike="noStrike" baseline="30000">
                <a:solidFill>
                  <a:srgbClr val="010000"/>
                </a:solidFill>
                <a:latin typeface="Arial"/>
                <a:ea typeface="Times New Roman"/>
              </a:rPr>
              <a:t>j</a:t>
            </a:r>
            <a:r>
              <a:rPr b="0" i="1" lang="it-IT" sz="2400" spc="-1" strike="noStrike" baseline="30000">
                <a:solidFill>
                  <a:srgbClr val="01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9360" y="741240"/>
            <a:ext cx="88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i="1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Potenziale complesso in campo generato da corrente filiform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81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857160" y="3465360"/>
                <a:ext cx="126684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1720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710160" y="1333440"/>
                <a:ext cx="17874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657600" y="2463840"/>
                <a:ext cx="16081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691080" y="3614760"/>
                <a:ext cx="39304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δφ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φ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990720" y="5430960"/>
                <a:ext cx="53593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φ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5" name=""/>
          <p:cNvGrpSpPr/>
          <p:nvPr/>
        </p:nvGrpSpPr>
        <p:grpSpPr>
          <a:xfrm>
            <a:off x="493560" y="1346040"/>
            <a:ext cx="2581200" cy="1871640"/>
            <a:chOff x="493560" y="1346040"/>
            <a:chExt cx="2581200" cy="1871640"/>
          </a:xfrm>
        </p:grpSpPr>
        <p:sp>
          <p:nvSpPr>
            <p:cNvPr id="276" name=""/>
            <p:cNvSpPr/>
            <p:nvPr/>
          </p:nvSpPr>
          <p:spPr>
            <a:xfrm>
              <a:off x="1276200" y="2128680"/>
              <a:ext cx="291960" cy="303480"/>
            </a:xfrm>
            <a:prstGeom prst="ellipse">
              <a:avLst/>
            </a:prstGeom>
            <a:solidFill>
              <a:srgbClr val="96969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38120" y="2160360"/>
              <a:ext cx="160200" cy="241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336680" y="2169720"/>
              <a:ext cx="180720" cy="220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4240" y="1566720"/>
              <a:ext cx="1395360" cy="143676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34920" y="1787400"/>
              <a:ext cx="974880" cy="100332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3560" y="1346040"/>
              <a:ext cx="1817640" cy="18716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87200" y="1949400"/>
              <a:ext cx="679680" cy="70020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77920" y="1357200"/>
              <a:ext cx="54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79360" y="1566720"/>
              <a:ext cx="54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98440" y="1789200"/>
              <a:ext cx="54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07800" y="1960560"/>
              <a:ext cx="54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27040" y="2300400"/>
              <a:ext cx="164772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60600" y="1487520"/>
              <a:ext cx="88920" cy="88920"/>
            </a:xfrm>
            <a:prstGeom prst="ellipse">
              <a:avLst/>
            </a:prstGeom>
            <a:solidFill>
              <a:srgbClr val="01000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1436400" y="1536480"/>
              <a:ext cx="1074960" cy="763920"/>
            </a:xfrm>
            <a:prstGeom prst="line">
              <a:avLst/>
            </a:prstGeom>
            <a:ln w="1584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20920" y="1466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51040" y="18493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46080" y="20415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1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5580000" y="1420920"/>
            <a:ext cx="339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funzione flusso normalizzata rispetto alla permeabilità del mezzo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02320" y="2548080"/>
            <a:ext cx="30463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equazione di Cauchy-Riemann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 in coordinate cilindrich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9440" y="3306600"/>
            <a:ext cx="552240" cy="573120"/>
          </a:xfrm>
          <a:prstGeom prst="downArrow">
            <a:avLst>
              <a:gd name="adj1" fmla="val 50000"/>
              <a:gd name="adj2" fmla="val 25945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25960" y="4518000"/>
            <a:ext cx="3218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6699"/>
                </a:solidFill>
                <a:latin typeface="Symbol"/>
                <a:ea typeface="Symbol"/>
              </a:rPr>
              <a:t>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non dipende da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r </a:t>
            </a:r>
            <a:r>
              <a:rPr b="0" lang="it-IT" sz="16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 f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(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r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)=0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05280" y="1285920"/>
            <a:ext cx="450720" cy="3557520"/>
          </a:xfrm>
          <a:custGeom>
            <a:avLst/>
            <a:gdLst>
              <a:gd name="textAreaLeft" fmla="*/ 288000 w 450720"/>
              <a:gd name="textAreaRight" fmla="*/ 451080 w 450720"/>
              <a:gd name="textAreaTop" fmla="*/ 92520 h 3557520"/>
              <a:gd name="textAreaBottom" fmla="*/ 3465000 h 35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67080" y="4711680"/>
            <a:ext cx="782640" cy="1065240"/>
          </a:xfrm>
          <a:prstGeom prst="downArrow">
            <a:avLst>
              <a:gd name="adj1" fmla="val 50000"/>
              <a:gd name="adj2" fmla="val 3402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893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514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3236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54480" y="32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836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925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4332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436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396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82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593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528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4560" y="1035000"/>
            <a:ext cx="74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812880" y="709560"/>
            <a:ext cx="80820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Arial"/>
                <a:ea typeface="Times New Roman"/>
              </a:rPr>
              <a:t>Trasformazione del semipiano superiore nella regione interna di un poligono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5320" y="1463760"/>
            <a:ext cx="82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utile quando si vuole analizzare il campo all’interno di una data regione, che può avere estensione finita, ma può anche chiudersi all’infinito (poligono degenere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95360" y="1949400"/>
            <a:ext cx="3592440" cy="2812680"/>
            <a:chOff x="495360" y="1949400"/>
            <a:chExt cx="3592440" cy="2812680"/>
          </a:xfrm>
        </p:grpSpPr>
        <p:sp>
          <p:nvSpPr>
            <p:cNvPr id="326" name=""/>
            <p:cNvSpPr/>
            <p:nvPr/>
          </p:nvSpPr>
          <p:spPr>
            <a:xfrm>
              <a:off x="727200" y="2411640"/>
              <a:ext cx="2612880" cy="2241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52680" y="349560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17760" y="1949400"/>
              <a:ext cx="6649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jv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19200" y="2051280"/>
              <a:ext cx="1257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piano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 t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76280" y="356868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1560" y="353700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3440" y="2373480"/>
              <a:ext cx="2630160" cy="1164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043000" y="2090520"/>
              <a:ext cx="0" cy="267156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5360" y="3548160"/>
              <a:ext cx="320652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046160" y="3444840"/>
              <a:ext cx="9360" cy="204840"/>
            </a:xfrm>
            <a:prstGeom prst="line">
              <a:avLst/>
            </a:prstGeom>
            <a:ln w="2232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490760" y="3435480"/>
              <a:ext cx="9360" cy="204840"/>
            </a:xfrm>
            <a:prstGeom prst="line">
              <a:avLst/>
            </a:prstGeom>
            <a:ln w="2232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433240" y="3446640"/>
              <a:ext cx="9720" cy="204840"/>
            </a:xfrm>
            <a:prstGeom prst="line">
              <a:avLst/>
            </a:prstGeom>
            <a:ln w="2232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887200" y="3438720"/>
              <a:ext cx="9720" cy="204840"/>
            </a:xfrm>
            <a:prstGeom prst="line">
              <a:avLst/>
            </a:prstGeom>
            <a:ln w="2232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52520" y="3600360"/>
              <a:ext cx="73512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5280" y="359244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909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987800" y="1978200"/>
            <a:ext cx="3592440" cy="2941200"/>
            <a:chOff x="4987800" y="1978200"/>
            <a:chExt cx="3592440" cy="2941200"/>
          </a:xfrm>
        </p:grpSpPr>
        <p:grpSp>
          <p:nvGrpSpPr>
            <p:cNvPr id="343" name=""/>
            <p:cNvGrpSpPr/>
            <p:nvPr/>
          </p:nvGrpSpPr>
          <p:grpSpPr>
            <a:xfrm>
              <a:off x="4987800" y="1978200"/>
              <a:ext cx="3592440" cy="2941200"/>
              <a:chOff x="4987800" y="1978200"/>
              <a:chExt cx="3592440" cy="2941200"/>
            </a:xfrm>
          </p:grpSpPr>
          <p:sp>
            <p:nvSpPr>
              <p:cNvPr id="344" name=""/>
              <p:cNvSpPr/>
              <p:nvPr/>
            </p:nvSpPr>
            <p:spPr>
              <a:xfrm>
                <a:off x="5219640" y="2440080"/>
                <a:ext cx="2612880" cy="2241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800000">
                <a:off x="5520960" y="3061800"/>
                <a:ext cx="1989000" cy="953640"/>
              </a:xfrm>
              <a:prstGeom prst="parallelogram">
                <a:avLst>
                  <a:gd name="adj" fmla="val 52142"/>
                </a:avLst>
              </a:prstGeom>
              <a:solidFill>
                <a:srgbClr val="ccec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87800" y="3576600"/>
                <a:ext cx="3206880" cy="0"/>
              </a:xfrm>
              <a:prstGeom prst="line">
                <a:avLst/>
              </a:prstGeom>
              <a:ln w="19080">
                <a:solidFill>
                  <a:srgbClr val="01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6535440" y="2119320"/>
                <a:ext cx="0" cy="2671200"/>
              </a:xfrm>
              <a:prstGeom prst="line">
                <a:avLst/>
              </a:prstGeom>
              <a:ln w="19080">
                <a:solidFill>
                  <a:srgbClr val="01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845120" y="3524040"/>
                <a:ext cx="73512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0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10200" y="1978200"/>
                <a:ext cx="66528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000" spc="-1" strike="noStrike">
                    <a:solidFill>
                      <a:srgbClr val="010000"/>
                    </a:solidFill>
                    <a:latin typeface="Times New Roman"/>
                  </a:rPr>
                  <a:t>jy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912000" y="2079720"/>
                <a:ext cx="125712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10000"/>
                    </a:solidFill>
                    <a:latin typeface="Times New Roman"/>
                  </a:rPr>
                  <a:t>piano</a:t>
                </a:r>
                <a:r>
                  <a:rPr b="0" i="1" lang="it-IT" sz="2000" spc="-1" strike="noStrike">
                    <a:solidFill>
                      <a:srgbClr val="010000"/>
                    </a:solidFill>
                    <a:latin typeface="Times New Roman"/>
                  </a:rPr>
                  <a:t> z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495920" y="3585960"/>
                <a:ext cx="73512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000" spc="-1" strike="noStrike">
                    <a:solidFill>
                      <a:srgbClr val="01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02280" y="2523960"/>
                <a:ext cx="73476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000" spc="-1" strike="noStrike">
                    <a:solidFill>
                      <a:srgbClr val="01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99080" y="4129200"/>
                <a:ext cx="73512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000" spc="-1" strike="noStrike">
                    <a:solidFill>
                      <a:srgbClr val="01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24240" y="3054240"/>
                <a:ext cx="735120" cy="79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000" spc="-1" strike="noStrike">
                    <a:solidFill>
                      <a:srgbClr val="01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5516640" y="3314880"/>
              <a:ext cx="177120" cy="5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798880" y="2823480"/>
              <a:ext cx="66024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50320" y="4098960"/>
              <a:ext cx="62136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395840" y="3516480"/>
              <a:ext cx="1771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57640" y="287352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05520" y="348624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62640" y="3719520"/>
              <a:ext cx="72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57600" y="3206880"/>
              <a:ext cx="72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0" y="484812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L’equazione della trasformazione, che converte l’asse reale del piano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t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 nel perimetro di un poligono contenuto in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z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, di modo che al semipiano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v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&gt;0 corrisponda la regione interna del poligono, si ottiene integrando la seguente equazione differenziale: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38680" y="3195720"/>
            <a:ext cx="963360" cy="784080"/>
          </a:xfrm>
          <a:prstGeom prst="rightArrow">
            <a:avLst>
              <a:gd name="adj1" fmla="val 50000"/>
              <a:gd name="adj2" fmla="val 30716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841320" y="5705640"/>
            <a:ext cx="7658280" cy="903240"/>
            <a:chOff x="841320" y="5705640"/>
            <a:chExt cx="7658280" cy="903240"/>
          </a:xfrm>
        </p:grpSpPr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841320" y="5705640"/>
                  <a:ext cx="7658280" cy="90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z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S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a</m:t>
                              </m:r>
                            </m:e>
                          </m:d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π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β</m:t>
                                  </m:r>
                                </m:num>
                                <m:den>
                                  <m:r>
                                    <m:t xml:space="preserve">π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e>
                          </m:d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γ</m:t>
                                  </m:r>
                                </m:num>
                                <m:den>
                                  <m:r>
                                    <m:t xml:space="preserve">π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d</m:t>
                              </m:r>
                            </m:e>
                          </m:d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δ</m:t>
                                  </m:r>
                                </m:num>
                                <m:den>
                                  <m:r>
                                    <m:t xml:space="preserve">π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7" name=""/>
            <p:cNvSpPr/>
            <p:nvPr/>
          </p:nvSpPr>
          <p:spPr>
            <a:xfrm>
              <a:off x="1366920" y="625788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6699"/>
                  </a:solidFill>
                  <a:latin typeface="Arial"/>
                  <a:ea typeface="Times New Roman"/>
                </a:rPr>
                <a:t>costante di scala</a:t>
              </a:r>
              <a:r>
                <a:rPr b="0" lang="it-IT" sz="1600" spc="-1" strike="noStrike">
                  <a:solidFill>
                    <a:srgbClr val="3366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08120" y="5899320"/>
              <a:ext cx="250920" cy="45072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898800" y="6461280"/>
            <a:ext cx="48834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Equazione di </a:t>
            </a:r>
            <a:r>
              <a:rPr b="0" i="1" lang="it-IT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Schwarz-Christoffel</a:t>
            </a: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66408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36960" y="32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434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559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956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956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18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893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514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3236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4332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5760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54480" y="32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148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0836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925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4332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436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6396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8280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593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5288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44560" y="1035000"/>
            <a:ext cx="74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803160" y="667800"/>
            <a:ext cx="808200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Arial"/>
                <a:ea typeface="Times New Roman"/>
              </a:rPr>
              <a:t>Trasformazione del semipiano superiore nella regione esterna ad un poligono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1120" y="1393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utile quando si vuole analizzare il campo all’esterno di una regione finita (schermo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84200" y="1650960"/>
            <a:ext cx="3592440" cy="2812680"/>
            <a:chOff x="484200" y="1650960"/>
            <a:chExt cx="3592440" cy="2812680"/>
          </a:xfrm>
        </p:grpSpPr>
        <p:sp>
          <p:nvSpPr>
            <p:cNvPr id="397" name=""/>
            <p:cNvSpPr/>
            <p:nvPr/>
          </p:nvSpPr>
          <p:spPr>
            <a:xfrm>
              <a:off x="716040" y="2113200"/>
              <a:ext cx="2612880" cy="2241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41520" y="319716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06600" y="1650960"/>
              <a:ext cx="6649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jv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08040" y="1752840"/>
              <a:ext cx="1257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piano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 t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65120" y="327024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60400" y="323856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2075040"/>
              <a:ext cx="2630160" cy="1164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031840" y="1792080"/>
              <a:ext cx="0" cy="267156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4200" y="3249720"/>
              <a:ext cx="320652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1035000" y="3146400"/>
              <a:ext cx="9360" cy="204840"/>
            </a:xfrm>
            <a:prstGeom prst="line">
              <a:avLst/>
            </a:prstGeom>
            <a:ln w="2232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1479600" y="3137040"/>
              <a:ext cx="9360" cy="204840"/>
            </a:xfrm>
            <a:prstGeom prst="line">
              <a:avLst/>
            </a:prstGeom>
            <a:ln w="2232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2422080" y="3148200"/>
              <a:ext cx="9720" cy="204840"/>
            </a:xfrm>
            <a:prstGeom prst="line">
              <a:avLst/>
            </a:prstGeom>
            <a:ln w="2232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876040" y="3140280"/>
              <a:ext cx="9720" cy="204840"/>
            </a:xfrm>
            <a:prstGeom prst="line">
              <a:avLst/>
            </a:prstGeom>
            <a:ln w="2232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41360" y="3301920"/>
              <a:ext cx="73512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24120" y="329400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09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99080" y="3795840"/>
            <a:ext cx="7351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1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987800" y="1644480"/>
            <a:ext cx="3592800" cy="2813400"/>
            <a:chOff x="4987800" y="1644480"/>
            <a:chExt cx="3592800" cy="2813400"/>
          </a:xfrm>
        </p:grpSpPr>
        <p:sp>
          <p:nvSpPr>
            <p:cNvPr id="415" name=""/>
            <p:cNvSpPr/>
            <p:nvPr/>
          </p:nvSpPr>
          <p:spPr>
            <a:xfrm>
              <a:off x="5219640" y="2106720"/>
              <a:ext cx="2613240" cy="2241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800000">
              <a:off x="5521320" y="2728800"/>
              <a:ext cx="1989000" cy="954360"/>
            </a:xfrm>
            <a:prstGeom prst="parallelogram">
              <a:avLst>
                <a:gd name="adj" fmla="val 52103"/>
              </a:avLst>
            </a:prstGeom>
            <a:solidFill>
              <a:srgbClr val="80808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87800" y="3243240"/>
              <a:ext cx="320688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6535800" y="1785960"/>
              <a:ext cx="0" cy="26719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45480" y="319104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10200" y="1644480"/>
              <a:ext cx="66528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j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12000" y="1746360"/>
              <a:ext cx="1257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10000"/>
                  </a:solidFill>
                  <a:latin typeface="Times New Roman"/>
                </a:rPr>
                <a:t>piano</a:t>
              </a: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 z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96280" y="3252960"/>
              <a:ext cx="7347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02280" y="2190600"/>
              <a:ext cx="735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24600" y="2720880"/>
              <a:ext cx="7347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838680" y="3195720"/>
            <a:ext cx="963360" cy="784080"/>
          </a:xfrm>
          <a:prstGeom prst="rightArrow">
            <a:avLst>
              <a:gd name="adj1" fmla="val 50000"/>
              <a:gd name="adj2" fmla="val 30716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71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92200" y="5383080"/>
                <a:ext cx="80931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γ</m:t>
                                    </m:r>
                                  </m:num>
                                  <m:den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…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584280" y="6346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i="1" lang="it-IT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,</a:t>
            </a:r>
            <a:r>
              <a:rPr b="0" i="1" lang="it-IT" sz="1800" spc="-1" strike="noStrike">
                <a:solidFill>
                  <a:srgbClr val="336699"/>
                </a:solidFill>
                <a:latin typeface="Symbol"/>
                <a:ea typeface="Symbol"/>
              </a:rPr>
              <a:t></a:t>
            </a:r>
            <a:r>
              <a:rPr b="0" i="1" lang="it-IT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,</a:t>
            </a:r>
            <a:r>
              <a:rPr b="0" i="1" lang="it-IT" sz="1800" spc="-1" strike="noStrike">
                <a:solidFill>
                  <a:srgbClr val="336699"/>
                </a:solidFill>
                <a:latin typeface="Symbol"/>
                <a:ea typeface="Symbol"/>
              </a:rPr>
              <a:t></a:t>
            </a:r>
            <a:r>
              <a:rPr b="0" i="1" lang="it-IT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,</a:t>
            </a:r>
            <a:r>
              <a:rPr b="0" i="1" lang="it-IT" sz="1800" spc="-1" strike="noStrike">
                <a:solidFill>
                  <a:srgbClr val="336699"/>
                </a:solidFill>
                <a:latin typeface="Symbol"/>
                <a:ea typeface="Symbol"/>
              </a:rPr>
              <a:t></a:t>
            </a:r>
            <a:r>
              <a:rPr b="0" lang="it-IT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,…sono gli angoli esterni del poligon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3560" y="464652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L’equazione della trasformazione conforme si ottiene integrando la seguente equazione differenziale: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10:20:30Z</dcterms:created>
  <dc:creator>diei</dc:creator>
  <dc:description/>
  <dc:language>en-US</dc:language>
  <cp:lastModifiedBy>Elettromeccanica</cp:lastModifiedBy>
  <cp:lastPrinted>2001-04-30T19:01:29Z</cp:lastPrinted>
  <dcterms:modified xsi:type="dcterms:W3CDTF">2003-10-20T10:54:30Z</dcterms:modified>
  <cp:revision>337</cp:revision>
  <dc:subject/>
  <dc:title>I Campi Elettromagnetici: Definizioni Generali</dc:title>
</cp:coreProperties>
</file>