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7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20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13.jpeg" ContentType="image/jpeg"/>
  <Override PartName="/ppt/media/image23.png" ContentType="image/png"/>
  <Override PartName="/ppt/media/image33.png" ContentType="image/png"/>
  <Override PartName="/ppt/media/image14.jpeg" ContentType="image/jpeg"/>
  <Override PartName="/ppt/media/image34.png" ContentType="image/png"/>
  <Override PartName="/ppt/media/image35.png" ContentType="image/png"/>
  <Override PartName="/ppt/media/image11.wmf" ContentType="image/x-wmf"/>
  <Override PartName="/ppt/media/image5.jpeg" ContentType="image/jpeg"/>
  <Override PartName="/ppt/media/image36.png" ContentType="image/png"/>
  <Override PartName="/ppt/media/image37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12.wmf" ContentType="image/x-wmf"/>
  <Override PartName="/ppt/media/image27.png" ContentType="image/png"/>
  <Override PartName="/ppt/media/image8.png" ContentType="image/png"/>
  <Override PartName="/ppt/media/image38.png" ContentType="image/png"/>
  <Override PartName="/ppt/media/image18.png" ContentType="image/png"/>
  <Override PartName="/ppt/media/image6.jpeg" ContentType="image/jpeg"/>
  <Override PartName="/ppt/media/image40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85EF-6A13-4A2D-930E-260F0DF91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F2A1-DAC3-4B4D-848E-29B7E8B0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C94F-5F11-4C20-A49F-349653D82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3800-F76B-479E-9FA4-8436834E5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4BA5-6644-4C43-8856-DEC0EBFB7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F268-9DD9-4DE7-85E9-9ED4510D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7000-ADC7-48E6-90C5-9FEF04EA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64E1-4B28-4D4B-950E-893307F0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9FE0-633E-469C-A10F-33DF057C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D529-CD1D-4534-BE73-63ABA27F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5F3B-267F-4BC0-8398-59760256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F141-0507-4A4C-B302-B435D08D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BA50-9E08-4BA0-A832-D0AF8260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F553-3E15-4129-AA94-496489CF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C4B3-59F7-461A-A183-14FAD541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1AAC-6582-4BEC-A1B4-51FD4ADE9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CB70-7493-4F58-90A6-70499BEF7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3F2A-F390-4AA3-8D66-24ECE3A6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8AE9-59FC-49A3-BD7E-4DC9DD90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7163-C31A-46A2-9138-46173A53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F6ED-3511-4CDD-9081-389798E0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F6AF-4A73-4784-AC0A-E7FE3CD0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001D-D79E-4B1C-B916-93D7E2DA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A673-1E44-4F14-ADF8-D5A39522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A477-9BEF-47D8-A9A8-3E8646AE145D}" type="slidenum">
              <a:rPr b="0" lang="it-IT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6680" y="176040"/>
            <a:ext cx="87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3399"/>
                </a:solidFill>
                <a:latin typeface="Times New Roman"/>
              </a:rPr>
              <a:t>Campi magnetici ambientali in bassa frequenza         </a:t>
            </a:r>
            <a:r>
              <a:rPr b="0" i="1" lang="it-IT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3399"/>
                </a:solidFill>
                <a:latin typeface="Times New Roman"/>
              </a:rPr>
              <a:t>             Napoli, ottobre 2003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708200"/>
            <a:ext cx="914868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627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348F-511B-4780-9557-384F1B38B883}" type="slidenum">
              <a:rPr b="0" lang="it-IT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4320" y="829800"/>
            <a:ext cx="8574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3300"/>
                </a:solidFill>
                <a:latin typeface="Arial Narrow"/>
              </a:rPr>
              <a:t>Tecniche per la riduzione del campo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4200" y="2033640"/>
            <a:ext cx="8686800" cy="384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spcAft>
                <a:spcPts val="1599"/>
              </a:spcAft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6699"/>
                </a:solidFill>
                <a:latin typeface="Arial"/>
              </a:rPr>
              <a:t>Architettura dell’impianto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599"/>
              </a:spcAft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6699"/>
                </a:solidFill>
                <a:latin typeface="Arial"/>
              </a:rPr>
              <a:t>Schermi passivi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6699"/>
                </a:solidFill>
                <a:latin typeface="Arial"/>
              </a:rPr>
              <a:t>Compensazione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599"/>
              </a:spcAft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6699"/>
                </a:solidFill>
                <a:latin typeface="Arial"/>
              </a:rPr>
              <a:t>Esempi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3200400"/>
            <a:ext cx="6782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23400" y="1803240"/>
            <a:ext cx="7396200" cy="422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Sono sistemi di distribuzione o trasporto composti di più conduttori per fas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Il campo magnetico può essere ridotto in misura considerevole con una disposizione razionale delle fasi, evitando, in particolare, di mantenere conduttori della stessa fase in posizioni adiacenti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Questo tipo di intervento può essere adottato sia per i sistemi di trasporto dell’energia elettrica (split-phase lines) sia per i sistemi di distribuzione in bassa tensione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9920" y="738360"/>
            <a:ext cx="88059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Sistemi multiconduttori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63040" y="780840"/>
            <a:ext cx="7983720" cy="102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Effetto della posizione relativa dei conduttori di andata e ritorno di un sistema monofase B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2386080"/>
          <a:ext cx="4721400" cy="24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86080"/>
                    <a:ext cx="4721400" cy="24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39600" y="5105520"/>
            <a:ext cx="23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a-b c-d in parallelo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38560" y="57690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cc00"/>
                </a:solidFill>
                <a:latin typeface="Times New Roman"/>
              </a:rPr>
              <a:t>a-c b-d in parallelo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993600" y="4495680"/>
            <a:ext cx="22860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992320" y="4495320"/>
            <a:ext cx="204840" cy="1273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772160" y="2046240"/>
          <a:ext cx="4371840" cy="415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72160" y="2046240"/>
                    <a:ext cx="437184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84200" y="112212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Effetto della sequenza delle fasi nel caso di due linee di alta tensione affiancat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39960" y="21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74880" y="1949400"/>
            <a:ext cx="6930720" cy="4786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648480" y="1538280"/>
            <a:ext cx="135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9999"/>
                </a:solidFill>
                <a:latin typeface="Times New Roman"/>
              </a:rPr>
              <a:t>Fonte: EN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545920" y="715680"/>
            <a:ext cx="4132440" cy="4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 Narrow"/>
              </a:rPr>
              <a:t>Sistemi di trasporto AT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05920" y="707760"/>
            <a:ext cx="8726760" cy="12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Nei sistemi AT i conduttori di fase possono essere suddivisi in due o più sottoconduttori (“spit-phase lines”) per ottenere una riduzione del campo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1992240"/>
            <a:ext cx="9144000" cy="4651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550280" y="6080040"/>
            <a:ext cx="135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9999"/>
                </a:solidFill>
                <a:latin typeface="Times New Roman"/>
              </a:rPr>
              <a:t>Fonte: EN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6680" y="933120"/>
            <a:ext cx="8574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3300"/>
                </a:solidFill>
                <a:latin typeface="Arial Narrow"/>
              </a:rPr>
              <a:t>Schermature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31520" y="2480760"/>
            <a:ext cx="7945560" cy="30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spcAft>
                <a:spcPts val="1599"/>
              </a:spcAft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6699"/>
                </a:solidFill>
                <a:latin typeface="Arial"/>
              </a:rPr>
              <a:t>Schermi ferromagnetici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599"/>
              </a:spcAft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6699"/>
                </a:solidFill>
                <a:latin typeface="Arial"/>
              </a:rPr>
              <a:t>Schermi conduttori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6699"/>
                </a:solidFill>
                <a:latin typeface="Arial"/>
              </a:rPr>
              <a:t>Schermi multistrato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6699"/>
                </a:solidFill>
                <a:latin typeface="Arial"/>
              </a:rPr>
              <a:t>Compensazione passiva e attiva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3200400"/>
            <a:ext cx="6782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26800" y="1658880"/>
            <a:ext cx="8699400" cy="42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Le schermature passive possono essere disposte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intorno alle sorgenti di campo con lo scopo di ridurre i livelli di emissioni globali emessi dalle sorgenti stesse nell’intero ambiente che le circonda (</a:t>
            </a:r>
            <a:r>
              <a:rPr b="0" lang="it-IT" sz="2800" spc="-1" strike="noStrike">
                <a:solidFill>
                  <a:srgbClr val="ff3300"/>
                </a:solidFill>
                <a:latin typeface="Arial"/>
              </a:rPr>
              <a:t>schermatura lato sorgente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intorno ad un solo ambiente, in genere di dimensioni relativamente ridotte, da proteggere (</a:t>
            </a:r>
            <a:r>
              <a:rPr b="0" lang="it-IT" sz="2800" spc="-1" strike="noStrike">
                <a:solidFill>
                  <a:srgbClr val="ff3300"/>
                </a:solidFill>
                <a:latin typeface="Arial"/>
              </a:rPr>
              <a:t>schermatura lato vittima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73320" y="779400"/>
            <a:ext cx="650232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 Narrow"/>
              </a:rPr>
              <a:t>“</a:t>
            </a:r>
            <a:r>
              <a:rPr b="1" lang="it-IT" sz="3200" spc="-1" strike="noStrike">
                <a:solidFill>
                  <a:srgbClr val="336699"/>
                </a:solidFill>
                <a:latin typeface="Arial Narrow"/>
              </a:rPr>
              <a:t>Sorgente e vittima”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9560" y="738360"/>
            <a:ext cx="88059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Schermi conduttori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14200" y="1590840"/>
            <a:ext cx="3903840" cy="507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Il campo magnetico variabile prodotto dalle sorgenti induce nello schermo conduttore correnti parassite che vengono a costituire una sorgente addizionale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L’effetto globale è una compressione delle linee di flusso dal lato delle sorgenti e una riduzione del campo dietro lo scherm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51" name="condutt" descr=""/>
          <p:cNvPicPr/>
          <p:nvPr/>
        </p:nvPicPr>
        <p:blipFill>
          <a:blip r:embed="rId1"/>
          <a:srcRect l="0" t="0" r="67911" b="55649"/>
          <a:stretch/>
        </p:blipFill>
        <p:spPr>
          <a:xfrm>
            <a:off x="4125960" y="1614600"/>
            <a:ext cx="48942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26800" y="1658880"/>
            <a:ext cx="869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Il comportamento di uno schermo conduttore è fortemente influenzato dalla frequenza del campo da schermare e la sua efficienza cresce al crescere della frequenza stess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Uno schermo conduttore non ha, ovviamente, alcun effetto sui campi stazionari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L’efficienza della schermatura dipende dalla conducibilità elettrica del materiale, dallo spessore e dalla forma dello schermo, dalla disposizione dello schermo stesso rispetto alle sorgenti e all’ambiente da proteggere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73320" y="779400"/>
            <a:ext cx="650232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 Narrow"/>
              </a:rPr>
              <a:t>Schermi conduttori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8320" y="738000"/>
            <a:ext cx="8343720" cy="40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 Narrow"/>
              </a:rPr>
              <a:t>Caratteristiche della schermatura conduttrice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9760" y="1588680"/>
            <a:ext cx="8510760" cy="460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La riduzione del campo dovuto a una schermatura conduttrice non è particolarmente elevato in prossimità dello scherm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L’effetto schermante rimane però sensibile anche allontanandosi dallo schermo in direzione normale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Lo schermo conduttore è preferibile quando l’ambiente da proteggere è relativamente vast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I più elevati fattori di schermatura sono in corrispondenza della zona centrale dello scherm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9440" y="698040"/>
            <a:ext cx="7281720" cy="4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 Narrow"/>
              </a:rPr>
              <a:t>Materiali conduttori per schermi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63240" y="1417320"/>
            <a:ext cx="8459640" cy="49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Si utilizzano materiali con conducibilità elettrica superiore a 10 MS/m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I materiali più comuni sono il rame e l’alluminio e le loro leghe impiegati in forma di lamiere con spessori dell’ordine di qualche millimetr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Spesso sono preferiti i materiali a base alluminio, a causa del minor peso a parità di prestazione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Anche il ferro ha notevoli proprietà di conducibilità, ma nel suo impiego per schermature prevalgono le proprietà ferromagnetiche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I materiali superconduttori presentano interessanti proprietà schermanti (effetto Meissner), ma le temperature di esercizio ne limitano fortemente l’impieg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-360" y="1533600"/>
            <a:ext cx="8907480" cy="43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Il campo magnetico generato da linee o condutture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diminuisce allontanandosi dalle sorgenti;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è all’incirca proporzionale alla distanza tra i conduttori della linea (multifilare);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dipende dalla configurazione dei conduttori (conduttori paralleli, conduttori intrecciati a elica);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dipende dalla posizione relativa dei conduttori (conduttori allineati, conduttori ai vertici di un triangolo)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746280"/>
            <a:ext cx="8790120" cy="531720"/>
          </a:xfrm>
          <a:prstGeom prst="rect">
            <a:avLst/>
          </a:prstGeom>
          <a:solidFill>
            <a:srgbClr val="ffffff"/>
          </a:solidFill>
          <a:ln w="1584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 Narrow"/>
              </a:rPr>
              <a:t>Caratteristiche generali dei campi ambientali</a:t>
            </a:r>
            <a:r>
              <a:rPr b="0" lang="it-IT" sz="3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9560" y="738360"/>
            <a:ext cx="88059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Schermi ferromagnetici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1549440"/>
            <a:ext cx="4071960" cy="502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Gli schermi ferromagnetici costituiscono un percorso preferenziale a bassa riluttanza per il flusso magnetic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In tal modo il flusso generato dalle sorgenti tende a passare nello schermo riducendo il contributo di induzione al di là dello schermo stess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64" name="ferromagn" descr=""/>
          <p:cNvPicPr/>
          <p:nvPr/>
        </p:nvPicPr>
        <p:blipFill>
          <a:blip r:embed="rId1"/>
          <a:srcRect l="0" t="0" r="71398" b="58352"/>
          <a:stretch/>
        </p:blipFill>
        <p:spPr>
          <a:xfrm>
            <a:off x="4199040" y="1508040"/>
            <a:ext cx="494496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45960" y="755640"/>
            <a:ext cx="834408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 Narrow"/>
              </a:rPr>
              <a:t>Caratteristiche della schermatura ferromagnetica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9760" y="1330200"/>
            <a:ext cx="8510760" cy="515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Gli schermi ferromagnetici danno luogo ad una drastica riduzione del campo nella regione adiacente allo schermo stess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Gli effetti schermanti si attenuano rapidamente allontanandosi dallo schermo; talvolta, il valore dell’induzione può aumentare con la distanza dallo scherm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L’introduzione di schermi ferromagnetici dà luogo ad una concentrazione di flusso in prossimità dei suoi estremi e può produrre incrementi del valore di induzione rispetto all’assenza dello scherm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Gli schermi ferromagnetici sono più adatti a proteggere zone di limitate dimensioni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39440" y="698040"/>
            <a:ext cx="7281720" cy="4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 Narrow"/>
              </a:rPr>
              <a:t>Materiali ferromagnetici per schermi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63240" y="1417320"/>
            <a:ext cx="8459640" cy="460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Le proprietà schermanti dei materiali ferromagnetici dipendono principalmente dalla pendenza della parte iniziale della curva di magnetizzazione (regione di Rayleigh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Tra essi si possono distinguere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Materiali di alto pregio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 costituiti principalmente da leghe a base nichel, quali mumetal e permalloy. Questi materiali sono caratterizzati da valori molto elevati della permeabilità relativa (fino all’ordine di 10</a:t>
            </a:r>
            <a:r>
              <a:rPr b="0" lang="it-IT" sz="2400" spc="-1" strike="noStrike" baseline="30000">
                <a:solidFill>
                  <a:srgbClr val="336699"/>
                </a:solidFill>
                <a:latin typeface="Arial"/>
              </a:rPr>
              <a:t>6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) e da alti costi. Il loro uso è perciò limitato alla schermatura di piccoli volumi o ad applicazioni particolari nel settore della ricerca o delle misure di precisione che richiedano bassi livelli di campo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45960" y="1693440"/>
            <a:ext cx="8460000" cy="460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Materiali a basso costo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 costituiti essenzialmente da leghe a base ferro. Si possono segnalare in particolare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Ferro e leghe a basso tenore di carbonio (low carbon steel) con permeabilità relative iniziali comprese tra 100 e 1000;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Leghe ferro-silicio non orientate con valori di permeabilità analoghi ai precedenti;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Leghe ferro-silicio orientate in cui il valore della permeabilità relativa è dell’ordine di 10</a:t>
            </a:r>
            <a:r>
              <a:rPr b="0" lang="it-IT" sz="2400" spc="-1" strike="noStrike" baseline="30000">
                <a:solidFill>
                  <a:srgbClr val="336699"/>
                </a:solidFill>
                <a:latin typeface="Arial"/>
              </a:rPr>
              <a:t>4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Leghe amorfe e nanocristalline in forma di nastri con permeabilità relative iniziali comprese tra 10000 e 100000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71560" y="844560"/>
            <a:ext cx="7281720" cy="44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 Narrow"/>
              </a:rPr>
              <a:t>Materiali ferromagnetici per schermi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738360"/>
            <a:ext cx="6831000" cy="46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 Narrow"/>
              </a:rPr>
              <a:t>Lamierini magnetici industriali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31800" y="1964880"/>
            <a:ext cx="7940880" cy="456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3300"/>
                </a:solidFill>
                <a:latin typeface="Arial"/>
              </a:rPr>
              <a:t>Low</a:t>
            </a:r>
            <a:r>
              <a:rPr b="0" lang="it-IT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-Carbon Steel (tenore Si &lt; 1% in peso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Spessore lamierino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: 0.80 mm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Resistività elettrica: 13.9</a:t>
            </a:r>
            <a:r>
              <a:rPr b="0" lang="it-IT" sz="2400" spc="-1" strike="noStrike">
                <a:solidFill>
                  <a:srgbClr val="336699"/>
                </a:solidFill>
                <a:latin typeface="Symbol"/>
                <a:ea typeface="Symbol"/>
              </a:rPr>
              <a:t>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10</a:t>
            </a:r>
            <a:r>
              <a:rPr b="0" lang="it-IT" sz="2400" spc="-1" strike="noStrike" baseline="30000">
                <a:solidFill>
                  <a:srgbClr val="336699"/>
                </a:solidFill>
                <a:latin typeface="Arial"/>
                <a:ea typeface="Times New Roman"/>
              </a:rPr>
              <a:t>-8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336699"/>
                </a:solidFill>
                <a:latin typeface="Symbol"/>
                <a:ea typeface="Symbol"/>
              </a:rPr>
              <a:t>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m 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3300"/>
                </a:solidFill>
                <a:latin typeface="Arial"/>
              </a:rPr>
              <a:t>Lega  Si – Fe  1.5% non orientato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Spessore lamierino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 : 0.50 mm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Resistività elettrica : 27.9</a:t>
            </a:r>
            <a:r>
              <a:rPr b="0" lang="it-IT" sz="2400" spc="-1" strike="noStrike">
                <a:solidFill>
                  <a:srgbClr val="336699"/>
                </a:solidFill>
                <a:latin typeface="Symbol"/>
                <a:ea typeface="Symbol"/>
              </a:rPr>
              <a:t>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10</a:t>
            </a:r>
            <a:r>
              <a:rPr b="0" lang="it-IT" sz="2400" spc="-1" strike="noStrike" baseline="30000">
                <a:solidFill>
                  <a:srgbClr val="336699"/>
                </a:solidFill>
                <a:latin typeface="Arial"/>
                <a:ea typeface="Times New Roman"/>
              </a:rPr>
              <a:t>-8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336699"/>
                </a:solidFill>
                <a:latin typeface="Symbol"/>
                <a:ea typeface="Symbol"/>
              </a:rPr>
              <a:t>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m 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3300"/>
                </a:solidFill>
                <a:latin typeface="Arial"/>
              </a:rPr>
              <a:t>Lega  Si – Fe  3.0% a grani orientati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Spessore lamierino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 : 0.30 mm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Resistività elettrica : 48.0</a:t>
            </a:r>
            <a:r>
              <a:rPr b="0" lang="it-IT" sz="2400" spc="-1" strike="noStrike">
                <a:solidFill>
                  <a:srgbClr val="336699"/>
                </a:solidFill>
                <a:latin typeface="Symbol"/>
                <a:ea typeface="Symbol"/>
              </a:rPr>
              <a:t>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10</a:t>
            </a:r>
            <a:r>
              <a:rPr b="0" lang="it-IT" sz="2400" spc="-1" strike="noStrike" baseline="30000">
                <a:solidFill>
                  <a:srgbClr val="336699"/>
                </a:solidFill>
                <a:latin typeface="Arial"/>
                <a:ea typeface="Times New Roman"/>
              </a:rPr>
              <a:t>-8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336699"/>
                </a:solidFill>
                <a:latin typeface="Symbol"/>
                <a:ea typeface="Symbol"/>
              </a:rPr>
              <a:t>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m</a:t>
            </a:r>
            <a:r>
              <a:rPr b="0" lang="it-IT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55920" y="696960"/>
            <a:ext cx="637056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 Narrow"/>
              </a:rPr>
              <a:t>Caratteristiche magnetiche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263600" y="1206360"/>
          <a:ext cx="6221520" cy="565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1206360"/>
                    <a:ext cx="6221520" cy="56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000240" y="1265400"/>
          <a:ext cx="5958000" cy="40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0240" y="1265400"/>
                    <a:ext cx="5958000" cy="4079880"/>
                  </a:xfrm>
                  <a:prstGeom prst="rect">
                    <a:avLst/>
                  </a:prstGeom>
                  <a:ln cap="sq" w="3168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84" name=""/>
          <p:cNvGrpSpPr/>
          <p:nvPr/>
        </p:nvGrpSpPr>
        <p:grpSpPr>
          <a:xfrm>
            <a:off x="236520" y="1636560"/>
            <a:ext cx="2503440" cy="3420720"/>
            <a:chOff x="236520" y="1636560"/>
            <a:chExt cx="2503440" cy="3420720"/>
          </a:xfrm>
        </p:grpSpPr>
        <p:grpSp>
          <p:nvGrpSpPr>
            <p:cNvPr id="185" name=""/>
            <p:cNvGrpSpPr/>
            <p:nvPr/>
          </p:nvGrpSpPr>
          <p:grpSpPr>
            <a:xfrm>
              <a:off x="236520" y="4000680"/>
              <a:ext cx="2300400" cy="1056600"/>
              <a:chOff x="236520" y="4000680"/>
              <a:chExt cx="2300400" cy="105660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666720" y="4000680"/>
                <a:ext cx="1870200" cy="685800"/>
                <a:chOff x="666720" y="4000680"/>
                <a:chExt cx="1870200" cy="6858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1352520" y="4240440"/>
                  <a:ext cx="92160" cy="446040"/>
                </a:xfrm>
                <a:prstGeom prst="rect">
                  <a:avLst/>
                </a:prstGeom>
                <a:solidFill>
                  <a:srgbClr val="ccecff"/>
                </a:solidFill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722600" y="4240440"/>
                  <a:ext cx="92160" cy="446040"/>
                </a:xfrm>
                <a:prstGeom prst="rect">
                  <a:avLst/>
                </a:prstGeom>
                <a:solidFill>
                  <a:srgbClr val="ccecff"/>
                </a:solidFill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66720" y="4000680"/>
                  <a:ext cx="1870200" cy="8892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236520" y="4597560"/>
                <a:ext cx="118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0000"/>
                    </a:solidFill>
                    <a:latin typeface="Times New Roman"/>
                  </a:rPr>
                  <a:t>Shield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825480" y="4230720"/>
                <a:ext cx="266760" cy="434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477720" y="1636560"/>
              <a:ext cx="2262240" cy="2302560"/>
              <a:chOff x="477720" y="1636560"/>
              <a:chExt cx="2262240" cy="230256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914400" y="2093400"/>
                <a:ext cx="1386000" cy="1391040"/>
                <a:chOff x="914400" y="2093400"/>
                <a:chExt cx="1386000" cy="139104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916200" y="2099880"/>
                  <a:ext cx="1384200" cy="1384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914400" y="2796840"/>
                  <a:ext cx="1386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V="1">
                  <a:off x="1613160" y="2093400"/>
                  <a:ext cx="0" cy="1385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2127240" y="3479400"/>
                <a:ext cx="42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52320" y="3443040"/>
                <a:ext cx="42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436760" y="3447720"/>
                <a:ext cx="42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314440" y="2619000"/>
                <a:ext cx="42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77720" y="2757240"/>
                <a:ext cx="42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139760" y="2869920"/>
                <a:ext cx="42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346040" y="1636560"/>
                <a:ext cx="42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306520" y="1830240"/>
                <a:ext cx="42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03360" y="1795320"/>
                <a:ext cx="425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546200" y="3389040"/>
                <a:ext cx="135000" cy="135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236680" y="3408120"/>
                <a:ext cx="135000" cy="135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30160" y="2727000"/>
                <a:ext cx="135000" cy="135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531800" y="2744640"/>
                <a:ext cx="135000" cy="135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236680" y="2722320"/>
                <a:ext cx="135000" cy="135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214720" y="2041200"/>
                <a:ext cx="134640" cy="135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546200" y="2031840"/>
                <a:ext cx="135000" cy="135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52480" y="2022120"/>
                <a:ext cx="135000" cy="135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19000" y="3403440"/>
                <a:ext cx="135000" cy="135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5" name=""/>
          <p:cNvGrpSpPr/>
          <p:nvPr/>
        </p:nvGrpSpPr>
        <p:grpSpPr>
          <a:xfrm>
            <a:off x="355680" y="5452920"/>
            <a:ext cx="5679720" cy="1218960"/>
            <a:chOff x="355680" y="5452920"/>
            <a:chExt cx="5679720" cy="1218960"/>
          </a:xfrm>
        </p:grpSpPr>
        <p:sp>
          <p:nvSpPr>
            <p:cNvPr id="216" name=""/>
            <p:cNvSpPr/>
            <p:nvPr/>
          </p:nvSpPr>
          <p:spPr>
            <a:xfrm>
              <a:off x="355680" y="5452920"/>
              <a:ext cx="5679720" cy="1218960"/>
            </a:xfrm>
            <a:prstGeom prst="foldedCorner">
              <a:avLst>
                <a:gd name="adj" fmla="val 12500"/>
              </a:avLst>
            </a:prstGeom>
            <a:solidFill>
              <a:srgbClr val="ccecff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10000"/>
                  </a:solidFill>
                  <a:latin typeface="Times New Roman"/>
                </a:rPr>
                <a:t>Shielding factor</a:t>
              </a:r>
              <a:r>
                <a:rPr b="0" lang="it-IT" sz="2400" spc="-1" strike="noStrike">
                  <a:solidFill>
                    <a:srgbClr val="0099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2581560" y="5585040"/>
                  <a:ext cx="3183480" cy="96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B</m:t>
                          </m:r>
                          <m:r>
                            <m:rPr>
                              <m:lit/>
                              <m:nor/>
                            </m:rPr>
                            <m:t xml:space="preserve"> without shield</m:t>
                          </m:r>
                        </m:num>
                        <m:den>
                          <m:r>
                            <m:t xml:space="preserve">B</m:t>
                          </m:r>
                          <m:r>
                            <m:rPr>
                              <m:lit/>
                              <m:nor/>
                            </m:rPr>
                            <m:t xml:space="preserve"> with shiel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63040" y="674640"/>
            <a:ext cx="79837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Confronto dei materiali con schermi piani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245120" y="1523880"/>
          <a:ext cx="489888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5120" y="1523880"/>
                    <a:ext cx="489888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166680" y="3143160"/>
            <a:ext cx="3981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Valori efficaci dell’induzione magnetica all’interno dei lamierini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Linee: valori calcolati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Punti: valori misurati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26880" y="1828800"/>
            <a:ext cx="3327480" cy="821880"/>
            <a:chOff x="326880" y="1828800"/>
            <a:chExt cx="3327480" cy="821880"/>
          </a:xfrm>
        </p:grpSpPr>
        <p:sp>
          <p:nvSpPr>
            <p:cNvPr id="224" name=""/>
            <p:cNvSpPr/>
            <p:nvPr/>
          </p:nvSpPr>
          <p:spPr>
            <a:xfrm>
              <a:off x="326880" y="1828800"/>
              <a:ext cx="3327480" cy="745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25760" y="2261880"/>
              <a:ext cx="149040" cy="3837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87640" y="2266560"/>
              <a:ext cx="149040" cy="3841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21040" y="2001600"/>
              <a:ext cx="155880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62160" y="1925280"/>
              <a:ext cx="34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0" y="735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Distribuzione dell’induzione in uno schermo ferromagnetico pian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695760" y="1457280"/>
          <a:ext cx="5448240" cy="51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5760" y="1457280"/>
                    <a:ext cx="5448240" cy="51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3" name=""/>
          <p:cNvGrpSpPr/>
          <p:nvPr/>
        </p:nvGrpSpPr>
        <p:grpSpPr>
          <a:xfrm>
            <a:off x="185760" y="2200320"/>
            <a:ext cx="3327480" cy="821880"/>
            <a:chOff x="185760" y="2200320"/>
            <a:chExt cx="3327480" cy="821880"/>
          </a:xfrm>
        </p:grpSpPr>
        <p:sp>
          <p:nvSpPr>
            <p:cNvPr id="234" name=""/>
            <p:cNvSpPr/>
            <p:nvPr/>
          </p:nvSpPr>
          <p:spPr>
            <a:xfrm>
              <a:off x="185760" y="2200320"/>
              <a:ext cx="3327480" cy="745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84640" y="2633400"/>
              <a:ext cx="149040" cy="3837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46520" y="2638080"/>
              <a:ext cx="149040" cy="3841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879920" y="2373120"/>
              <a:ext cx="155880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21040" y="2296800"/>
              <a:ext cx="34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0" y="3700440"/>
            <a:ext cx="36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Valori efficaci del flusso magnetico all’interno dei lamierini calcolati con un modello ibrido FEM/BEM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674640"/>
            <a:ext cx="8910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Distribuzione del flusso in uno schermo ferromagnetico pian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55680" y="5638680"/>
            <a:ext cx="5679720" cy="1218960"/>
            <a:chOff x="355680" y="5638680"/>
            <a:chExt cx="5679720" cy="1218960"/>
          </a:xfrm>
        </p:grpSpPr>
        <p:sp>
          <p:nvSpPr>
            <p:cNvPr id="243" name=""/>
            <p:cNvSpPr/>
            <p:nvPr/>
          </p:nvSpPr>
          <p:spPr>
            <a:xfrm>
              <a:off x="355680" y="5638680"/>
              <a:ext cx="5679720" cy="1218960"/>
            </a:xfrm>
            <a:prstGeom prst="foldedCorner">
              <a:avLst>
                <a:gd name="adj" fmla="val 12500"/>
              </a:avLst>
            </a:prstGeom>
            <a:solidFill>
              <a:srgbClr val="ccecff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10000"/>
                  </a:solidFill>
                  <a:latin typeface="Times New Roman"/>
                </a:rPr>
                <a:t>Shielding factor</a:t>
              </a:r>
              <a:r>
                <a:rPr b="0" lang="it-IT" sz="2400" spc="-1" strike="noStrike">
                  <a:solidFill>
                    <a:srgbClr val="0099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2581560" y="5770800"/>
                  <a:ext cx="3183480" cy="96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B</m:t>
                          </m:r>
                          <m:r>
                            <m:rPr>
                              <m:lit/>
                              <m:nor/>
                            </m:rPr>
                            <m:t xml:space="preserve"> without shield</m:t>
                          </m:r>
                        </m:num>
                        <m:den>
                          <m:r>
                            <m:t xml:space="preserve">B</m:t>
                          </m:r>
                          <m:r>
                            <m:rPr>
                              <m:lit/>
                              <m:nor/>
                            </m:rPr>
                            <m:t xml:space="preserve"> with shiel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45" name=""/>
          <p:cNvGraphicFramePr/>
          <p:nvPr/>
        </p:nvGraphicFramePr>
        <p:xfrm>
          <a:off x="3191040" y="1407960"/>
          <a:ext cx="5779800" cy="409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91040" y="1407960"/>
                    <a:ext cx="5779800" cy="4092840"/>
                  </a:xfrm>
                  <a:prstGeom prst="rect">
                    <a:avLst/>
                  </a:prstGeom>
                  <a:ln cap="sq" w="3168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47" name=""/>
          <p:cNvGrpSpPr/>
          <p:nvPr/>
        </p:nvGrpSpPr>
        <p:grpSpPr>
          <a:xfrm>
            <a:off x="452520" y="1800360"/>
            <a:ext cx="2269800" cy="3415680"/>
            <a:chOff x="452520" y="1800360"/>
            <a:chExt cx="2269800" cy="3415680"/>
          </a:xfrm>
        </p:grpSpPr>
        <p:sp>
          <p:nvSpPr>
            <p:cNvPr id="248" name=""/>
            <p:cNvSpPr/>
            <p:nvPr/>
          </p:nvSpPr>
          <p:spPr>
            <a:xfrm>
              <a:off x="500040" y="4756320"/>
              <a:ext cx="109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0000"/>
                  </a:solidFill>
                  <a:latin typeface="Times New Roman"/>
                </a:rPr>
                <a:t>Shield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1273320" y="4238640"/>
              <a:ext cx="616680" cy="549000"/>
              <a:chOff x="1273320" y="4238640"/>
              <a:chExt cx="616680" cy="549000"/>
            </a:xfrm>
          </p:grpSpPr>
          <p:sp>
            <p:nvSpPr>
              <p:cNvPr id="250" name=""/>
              <p:cNvSpPr/>
              <p:nvPr/>
            </p:nvSpPr>
            <p:spPr>
              <a:xfrm>
                <a:off x="1273320" y="4238640"/>
                <a:ext cx="123120" cy="549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766880" y="4238640"/>
                <a:ext cx="123120" cy="549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 flipV="1">
              <a:off x="801720" y="4041360"/>
              <a:ext cx="274680" cy="738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476280" y="1879200"/>
              <a:ext cx="2246040" cy="2151000"/>
              <a:chOff x="476280" y="1879200"/>
              <a:chExt cx="2246040" cy="2151000"/>
            </a:xfrm>
          </p:grpSpPr>
          <p:sp>
            <p:nvSpPr>
              <p:cNvPr id="254" name=""/>
              <p:cNvSpPr/>
              <p:nvPr/>
            </p:nvSpPr>
            <p:spPr>
              <a:xfrm>
                <a:off x="476280" y="3928680"/>
                <a:ext cx="2246040" cy="1015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16200000">
                <a:off x="-535680" y="2900520"/>
                <a:ext cx="2138400" cy="1065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16200000">
                <a:off x="1582920" y="2894760"/>
                <a:ext cx="2138040" cy="10656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452520" y="1800360"/>
              <a:ext cx="2262240" cy="2302560"/>
              <a:chOff x="452520" y="1800360"/>
              <a:chExt cx="2262240" cy="230256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889200" y="2257200"/>
                <a:ext cx="1386000" cy="1391040"/>
                <a:chOff x="889200" y="2257200"/>
                <a:chExt cx="1386000" cy="13910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891000" y="2263680"/>
                  <a:ext cx="1384200" cy="1384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889200" y="2960640"/>
                  <a:ext cx="1386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V="1">
                  <a:off x="1587960" y="2257200"/>
                  <a:ext cx="0" cy="1385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>
                <a:off x="2102040" y="3643200"/>
                <a:ext cx="42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27120" y="3606840"/>
                <a:ext cx="42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411560" y="3611520"/>
                <a:ext cx="42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89240" y="2782800"/>
                <a:ext cx="42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52520" y="2921040"/>
                <a:ext cx="42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114560" y="3033720"/>
                <a:ext cx="42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320840" y="1800360"/>
                <a:ext cx="42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281320" y="1994040"/>
                <a:ext cx="42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8160" y="1959120"/>
                <a:ext cx="425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1000" y="3552840"/>
                <a:ext cx="135000" cy="135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11480" y="3571920"/>
                <a:ext cx="135000" cy="135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04960" y="2890800"/>
                <a:ext cx="135000" cy="135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506600" y="2908440"/>
                <a:ext cx="135000" cy="135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211480" y="2886120"/>
                <a:ext cx="135000" cy="135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189520" y="2205000"/>
                <a:ext cx="134640" cy="135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1000" y="2195640"/>
                <a:ext cx="135000" cy="135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27280" y="2185920"/>
                <a:ext cx="135000" cy="135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93800" y="3567240"/>
                <a:ext cx="135000" cy="135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563040" y="674640"/>
            <a:ext cx="79837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Confronto dei materiali ferromagnetici con schermi a U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9560" y="671040"/>
            <a:ext cx="8805960" cy="52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Distanza distanza dalle sorgenti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4200" y="1331640"/>
            <a:ext cx="834696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Il campo magnetico H prodotto da conduttore filiforme indefinito percorso da una corrente </a:t>
            </a:r>
            <a:r>
              <a:rPr b="1" lang="it-IT" sz="2400" spc="-1" strike="noStrike">
                <a:solidFill>
                  <a:srgbClr val="336699"/>
                </a:solidFill>
                <a:latin typeface="Arial"/>
              </a:rPr>
              <a:t>I 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ha linee di forza circolari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4640" y="2760840"/>
            <a:ext cx="283392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Il valore di H in un punto P a distanza R dal conduttore</a:t>
            </a:r>
            <a:r>
              <a:rPr b="1" lang="it-IT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è dato da: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098720" y="4848120"/>
                <a:ext cx="14191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6" name="Q1" descr=""/>
          <p:cNvPicPr/>
          <p:nvPr/>
        </p:nvPicPr>
        <p:blipFill>
          <a:blip r:embed="rId1"/>
          <a:srcRect l="0" t="0" r="62949" b="55507"/>
          <a:stretch/>
        </p:blipFill>
        <p:spPr>
          <a:xfrm>
            <a:off x="3733920" y="2260440"/>
            <a:ext cx="541008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98360" y="2639880"/>
          <a:ext cx="3706920" cy="28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360" y="2639880"/>
                    <a:ext cx="3706920" cy="2824200"/>
                  </a:xfrm>
                  <a:prstGeom prst="rect">
                    <a:avLst/>
                  </a:prstGeom>
                  <a:ln w="9360">
                    <a:solidFill>
                      <a:srgbClr val="0099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4308480" y="1509840"/>
          <a:ext cx="2101680" cy="204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8480" y="1509840"/>
                    <a:ext cx="2101680" cy="2046240"/>
                  </a:xfrm>
                  <a:prstGeom prst="rect">
                    <a:avLst/>
                  </a:prstGeom>
                  <a:ln w="9360">
                    <a:solidFill>
                      <a:srgbClr val="0099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86" name="" descr=""/>
          <p:cNvPicPr/>
          <p:nvPr/>
        </p:nvPicPr>
        <p:blipFill>
          <a:blip r:embed="rId5"/>
          <a:stretch/>
        </p:blipFill>
        <p:spPr>
          <a:xfrm>
            <a:off x="6827760" y="1542960"/>
            <a:ext cx="2059200" cy="19861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graphicFrame>
        <p:nvGraphicFramePr>
          <p:cNvPr id="287" name=""/>
          <p:cNvGraphicFramePr/>
          <p:nvPr/>
        </p:nvGraphicFramePr>
        <p:xfrm>
          <a:off x="4251240" y="4122720"/>
          <a:ext cx="2181240" cy="2049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51240" y="4122720"/>
                    <a:ext cx="2181240" cy="2049480"/>
                  </a:xfrm>
                  <a:prstGeom prst="rect">
                    <a:avLst/>
                  </a:prstGeom>
                  <a:ln w="9360">
                    <a:solidFill>
                      <a:srgbClr val="0099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6757920" y="4122720"/>
          <a:ext cx="2136960" cy="2052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757920" y="4122720"/>
                    <a:ext cx="2136960" cy="2052720"/>
                  </a:xfrm>
                  <a:prstGeom prst="rect">
                    <a:avLst/>
                  </a:prstGeom>
                  <a:ln w="9360">
                    <a:solidFill>
                      <a:srgbClr val="0099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563040" y="674640"/>
            <a:ext cx="7983720" cy="4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Traferri d’angolo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934920" y="1298520"/>
          <a:ext cx="7134480" cy="53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4920" y="1298520"/>
                    <a:ext cx="7134480" cy="53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290520" y="735120"/>
            <a:ext cx="83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Effetti del traferro d’angolo valutati con un modello numeric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449280" y="1917720"/>
          <a:ext cx="1927080" cy="34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280" y="1917720"/>
                    <a:ext cx="192708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272088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763720" y="1206360"/>
          <a:ext cx="5996160" cy="552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63720" y="1206360"/>
                    <a:ext cx="599616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1257480" y="709560"/>
            <a:ext cx="56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Confronto di materiali in schermi piani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404640" y="1517760"/>
            <a:ext cx="273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4600" y="3475080"/>
            <a:ext cx="15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99"/>
                </a:solidFill>
                <a:latin typeface="Arial"/>
              </a:rPr>
              <a:t>Involucr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890640" y="3000240"/>
            <a:ext cx="164880" cy="51912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693800" y="1492200"/>
          <a:ext cx="727560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3800" y="1492200"/>
                    <a:ext cx="7275600" cy="4959360"/>
                  </a:xfrm>
                  <a:prstGeom prst="rect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233280" y="5468760"/>
            <a:ext cx="18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0" lang="it-IT" sz="2400" spc="-1" strike="noStrike">
                <a:solidFill>
                  <a:srgbClr val="009999"/>
                </a:solidFill>
                <a:latin typeface="Arial"/>
              </a:rPr>
              <a:t> = 0.2 m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49400" y="1521000"/>
            <a:ext cx="1606320" cy="1349280"/>
            <a:chOff x="149400" y="1521000"/>
            <a:chExt cx="1606320" cy="1349280"/>
          </a:xfrm>
        </p:grpSpPr>
        <p:grpSp>
          <p:nvGrpSpPr>
            <p:cNvPr id="309" name=""/>
            <p:cNvGrpSpPr/>
            <p:nvPr/>
          </p:nvGrpSpPr>
          <p:grpSpPr>
            <a:xfrm>
              <a:off x="149400" y="1955880"/>
              <a:ext cx="1081080" cy="914400"/>
              <a:chOff x="149400" y="1955880"/>
              <a:chExt cx="1081080" cy="914400"/>
            </a:xfrm>
          </p:grpSpPr>
          <p:sp>
            <p:nvSpPr>
              <p:cNvPr id="310" name=""/>
              <p:cNvSpPr/>
              <p:nvPr/>
            </p:nvSpPr>
            <p:spPr>
              <a:xfrm>
                <a:off x="149400" y="1955880"/>
                <a:ext cx="1081080" cy="914400"/>
              </a:xfrm>
              <a:prstGeom prst="rect">
                <a:avLst/>
              </a:prstGeom>
              <a:solidFill>
                <a:srgbClr val="ffff99"/>
              </a:solidFill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316080" y="2149560"/>
                <a:ext cx="758880" cy="539640"/>
                <a:chOff x="316080" y="2149560"/>
                <a:chExt cx="758880" cy="53964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316080" y="2149560"/>
                  <a:ext cx="93600" cy="5396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30280" y="2149560"/>
                  <a:ext cx="93600" cy="53964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66800" y="2149560"/>
                  <a:ext cx="93960" cy="539640"/>
                </a:xfrm>
                <a:prstGeom prst="rect">
                  <a:avLst/>
                </a:prstGeom>
                <a:solidFill>
                  <a:srgbClr val="00ccff"/>
                </a:solidFill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981360" y="2149560"/>
                  <a:ext cx="93600" cy="5396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6" name=""/>
            <p:cNvSpPr/>
            <p:nvPr/>
          </p:nvSpPr>
          <p:spPr>
            <a:xfrm flipV="1">
              <a:off x="690840" y="1695240"/>
              <a:ext cx="0" cy="71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81120" y="2403360"/>
              <a:ext cx="717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62240" y="2013120"/>
              <a:ext cx="3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0000" y="1521000"/>
              <a:ext cx="3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 flipV="1" rot="16200000">
            <a:off x="946800" y="4776480"/>
            <a:ext cx="623880" cy="603360"/>
          </a:xfrm>
          <a:custGeom>
            <a:avLst/>
            <a:gdLst>
              <a:gd name="textAreaLeft" fmla="*/ 208080 w 623880"/>
              <a:gd name="textAreaRight" fmla="*/ 534600 w 623880"/>
              <a:gd name="textAreaTop" fmla="*/ 444240 h 603360"/>
              <a:gd name="textAreaBottom" fmla="*/ 516960 h 603360"/>
            </a:gdLst>
            <a:ahLst/>
            <a:rect l="textAreaLeft" t="textAreaTop" r="textAreaRight" b="textAreaBottom"/>
            <a:pathLst>
              <a:path w="21600" h="21600">
                <a:moveTo>
                  <a:pt x="0" y="19006"/>
                </a:moveTo>
                <a:lnTo>
                  <a:pt x="15906" y="19006"/>
                </a:lnTo>
                <a:lnTo>
                  <a:pt x="15906" y="7200"/>
                </a:lnTo>
                <a:lnTo>
                  <a:pt x="12806" y="7200"/>
                </a:lnTo>
                <a:lnTo>
                  <a:pt x="17203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2520" y="830160"/>
            <a:ext cx="57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Sistemi di distribuzione BT a sbarr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208080" y="2219400"/>
          <a:ext cx="4311360" cy="370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080" y="2219400"/>
                    <a:ext cx="4311360" cy="37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4842000" y="2189160"/>
          <a:ext cx="4024080" cy="369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42000" y="2189160"/>
                    <a:ext cx="4024080" cy="36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 flipH="1">
            <a:off x="177840" y="6086520"/>
            <a:ext cx="2698560" cy="609480"/>
          </a:xfrm>
          <a:prstGeom prst="wedgeRectCallout">
            <a:avLst>
              <a:gd name="adj1" fmla="val 12055"/>
              <a:gd name="adj2" fmla="val -258856"/>
            </a:avLst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Riducendo </a:t>
            </a:r>
            <a:r>
              <a:rPr b="0" i="1" lang="en-GB" sz="1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 l’effetto ai bordi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si riduce (Ferromagnetico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013200" y="6055560"/>
            <a:ext cx="2282760" cy="609480"/>
          </a:xfrm>
          <a:prstGeom prst="wedgeRectCallout">
            <a:avLst>
              <a:gd name="adj1" fmla="val -63282"/>
              <a:gd name="adj2" fmla="val 263541"/>
            </a:avLst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 non ha effetto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(Conduttore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5866560" y="5998320"/>
            <a:ext cx="2721240" cy="685800"/>
          </a:xfrm>
          <a:prstGeom prst="wedgeRectCallout">
            <a:avLst>
              <a:gd name="adj1" fmla="val -38856"/>
              <a:gd name="adj2" fmla="val 277083"/>
            </a:avLst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Efficienza decresce quando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 aumenta (Ferromagnetico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289080" y="1306440"/>
          <a:ext cx="6111720" cy="88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080" y="1306440"/>
                    <a:ext cx="61117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1" name=""/>
          <p:cNvGrpSpPr/>
          <p:nvPr/>
        </p:nvGrpSpPr>
        <p:grpSpPr>
          <a:xfrm>
            <a:off x="7304040" y="877680"/>
            <a:ext cx="1525320" cy="1202040"/>
            <a:chOff x="7304040" y="877680"/>
            <a:chExt cx="1525320" cy="1202040"/>
          </a:xfrm>
        </p:grpSpPr>
        <p:sp>
          <p:nvSpPr>
            <p:cNvPr id="332" name=""/>
            <p:cNvSpPr/>
            <p:nvPr/>
          </p:nvSpPr>
          <p:spPr>
            <a:xfrm>
              <a:off x="7948440" y="1515960"/>
              <a:ext cx="70632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7992720" y="877680"/>
              <a:ext cx="1800" cy="680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04040" y="1575000"/>
              <a:ext cx="1412640" cy="6480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7821360" y="1863720"/>
              <a:ext cx="338040" cy="216000"/>
              <a:chOff x="7821360" y="1863720"/>
              <a:chExt cx="338040" cy="216000"/>
            </a:xfrm>
          </p:grpSpPr>
          <p:sp>
            <p:nvSpPr>
              <p:cNvPr id="336" name=""/>
              <p:cNvSpPr/>
              <p:nvPr/>
            </p:nvSpPr>
            <p:spPr>
              <a:xfrm>
                <a:off x="7821360" y="1863720"/>
                <a:ext cx="69840" cy="21168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089560" y="1863720"/>
                <a:ext cx="69840" cy="21168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964280" y="1867680"/>
                <a:ext cx="69840" cy="21204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8829360" y="1617840"/>
              <a:ext cx="0" cy="35388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385120" y="1598760"/>
              <a:ext cx="4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9999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316080" y="736560"/>
            <a:ext cx="70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Influenza della distanza schermo-sorgen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166680" y="2039760"/>
          <a:ext cx="4199040" cy="391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2039760"/>
                    <a:ext cx="4199040" cy="39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4815000" y="2073240"/>
          <a:ext cx="4130640" cy="379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15000" y="2073240"/>
                    <a:ext cx="4130640" cy="37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 flipH="1" flipV="1">
            <a:off x="-720" y="6122880"/>
            <a:ext cx="3048120" cy="533520"/>
          </a:xfrm>
          <a:prstGeom prst="wedgeRectCallout">
            <a:avLst>
              <a:gd name="adj1" fmla="val -37449"/>
              <a:gd name="adj2" fmla="val 346722"/>
            </a:avLst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Efficienza aumenta quando </a:t>
            </a:r>
            <a:r>
              <a:rPr b="0" i="1" lang="en-GB" sz="16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aumenta (Conduttore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 flipV="1">
            <a:off x="3452760" y="6072120"/>
            <a:ext cx="2889360" cy="609840"/>
          </a:xfrm>
          <a:prstGeom prst="wedgeRectCallout">
            <a:avLst>
              <a:gd name="adj1" fmla="val 63953"/>
              <a:gd name="adj2" fmla="val 242708"/>
            </a:avLst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Influenza di </a:t>
            </a:r>
            <a:r>
              <a:rPr b="0" i="1" lang="en-GB" sz="1600" spc="-1" strike="noStrike">
                <a:solidFill>
                  <a:srgbClr val="ff0000"/>
                </a:solidFill>
                <a:latin typeface="Arial"/>
              </a:rPr>
              <a:t>s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è meno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significativa (Ferromagnetico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195120" y="1209600"/>
          <a:ext cx="6426360" cy="85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5120" y="1209600"/>
                    <a:ext cx="64263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0" name=""/>
          <p:cNvGrpSpPr/>
          <p:nvPr/>
        </p:nvGrpSpPr>
        <p:grpSpPr>
          <a:xfrm>
            <a:off x="7337520" y="801360"/>
            <a:ext cx="1525320" cy="1202040"/>
            <a:chOff x="7337520" y="801360"/>
            <a:chExt cx="1525320" cy="1202040"/>
          </a:xfrm>
        </p:grpSpPr>
        <p:sp>
          <p:nvSpPr>
            <p:cNvPr id="351" name=""/>
            <p:cNvSpPr/>
            <p:nvPr/>
          </p:nvSpPr>
          <p:spPr>
            <a:xfrm>
              <a:off x="7981920" y="1439640"/>
              <a:ext cx="70632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8026200" y="801360"/>
              <a:ext cx="1800" cy="680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337520" y="1498680"/>
              <a:ext cx="1412640" cy="6480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7854840" y="1787400"/>
              <a:ext cx="338040" cy="216000"/>
              <a:chOff x="7854840" y="1787400"/>
              <a:chExt cx="338040" cy="216000"/>
            </a:xfrm>
          </p:grpSpPr>
          <p:sp>
            <p:nvSpPr>
              <p:cNvPr id="355" name=""/>
              <p:cNvSpPr/>
              <p:nvPr/>
            </p:nvSpPr>
            <p:spPr>
              <a:xfrm>
                <a:off x="7854840" y="1787400"/>
                <a:ext cx="69840" cy="21168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123040" y="1787400"/>
                <a:ext cx="69840" cy="21168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997760" y="1791360"/>
                <a:ext cx="69840" cy="21204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8862840" y="1541520"/>
              <a:ext cx="0" cy="35388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418600" y="1522440"/>
              <a:ext cx="4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9999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316080" y="736560"/>
            <a:ext cx="60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Influenza dello spessore dello scherm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"/>
          <p:cNvGraphicFramePr/>
          <p:nvPr/>
        </p:nvGraphicFramePr>
        <p:xfrm>
          <a:off x="298440" y="2301840"/>
          <a:ext cx="4133880" cy="387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2301840"/>
                    <a:ext cx="413388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5073480" y="2360520"/>
          <a:ext cx="4070520" cy="381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3480" y="2360520"/>
                    <a:ext cx="4070520" cy="38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 flipH="1" flipV="1">
            <a:off x="258480" y="6247800"/>
            <a:ext cx="3124080" cy="609480"/>
          </a:xfrm>
          <a:prstGeom prst="wedgeRectCallout">
            <a:avLst>
              <a:gd name="adj1" fmla="val 4671"/>
              <a:gd name="adj2" fmla="val 203902"/>
            </a:avLst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Vantaggio significativo di schermo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a U e chiuso (Ferromagnetico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3718800" y="6247800"/>
            <a:ext cx="3048120" cy="609480"/>
          </a:xfrm>
          <a:prstGeom prst="wedgeRectCallout">
            <a:avLst>
              <a:gd name="adj1" fmla="val -105055"/>
              <a:gd name="adj2" fmla="val 293486"/>
            </a:avLst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Effetto evidente lontano dallo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schermo (Conduttore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1305000"/>
          <a:ext cx="5081760" cy="99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1305000"/>
                    <a:ext cx="508176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9" name=""/>
          <p:cNvGrpSpPr/>
          <p:nvPr/>
        </p:nvGrpSpPr>
        <p:grpSpPr>
          <a:xfrm>
            <a:off x="5175360" y="1093680"/>
            <a:ext cx="1233360" cy="1075680"/>
            <a:chOff x="5175360" y="1093680"/>
            <a:chExt cx="1233360" cy="1075680"/>
          </a:xfrm>
        </p:grpSpPr>
        <p:sp>
          <p:nvSpPr>
            <p:cNvPr id="370" name=""/>
            <p:cNvSpPr/>
            <p:nvPr/>
          </p:nvSpPr>
          <p:spPr>
            <a:xfrm>
              <a:off x="5696280" y="1640160"/>
              <a:ext cx="57096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5731920" y="1093680"/>
              <a:ext cx="1440" cy="583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75360" y="1690560"/>
              <a:ext cx="1142280" cy="5544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5593680" y="1938240"/>
              <a:ext cx="272880" cy="184680"/>
              <a:chOff x="5593680" y="1938240"/>
              <a:chExt cx="272880" cy="184680"/>
            </a:xfrm>
          </p:grpSpPr>
          <p:sp>
            <p:nvSpPr>
              <p:cNvPr id="374" name=""/>
              <p:cNvSpPr/>
              <p:nvPr/>
            </p:nvSpPr>
            <p:spPr>
              <a:xfrm>
                <a:off x="5593680" y="1938240"/>
                <a:ext cx="56160" cy="18144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810400" y="1938240"/>
                <a:ext cx="56160" cy="18144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708880" y="1941480"/>
                <a:ext cx="56160" cy="18144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6408720" y="1727280"/>
              <a:ext cx="0" cy="30312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049440" y="1709640"/>
              <a:ext cx="34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9999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6535800" y="804960"/>
            <a:ext cx="1204920" cy="979560"/>
            <a:chOff x="6535800" y="804960"/>
            <a:chExt cx="1204920" cy="979560"/>
          </a:xfrm>
        </p:grpSpPr>
        <p:sp>
          <p:nvSpPr>
            <p:cNvPr id="380" name=""/>
            <p:cNvSpPr/>
            <p:nvPr/>
          </p:nvSpPr>
          <p:spPr>
            <a:xfrm>
              <a:off x="7045560" y="1265040"/>
              <a:ext cx="557280" cy="1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080480" y="804960"/>
              <a:ext cx="1080" cy="491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536880" y="1307520"/>
              <a:ext cx="1114920" cy="4680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6945120" y="1515960"/>
              <a:ext cx="266040" cy="155520"/>
              <a:chOff x="6945120" y="1515960"/>
              <a:chExt cx="266040" cy="155520"/>
            </a:xfrm>
          </p:grpSpPr>
          <p:sp>
            <p:nvSpPr>
              <p:cNvPr id="384" name=""/>
              <p:cNvSpPr/>
              <p:nvPr/>
            </p:nvSpPr>
            <p:spPr>
              <a:xfrm>
                <a:off x="6945120" y="1515960"/>
                <a:ext cx="54720" cy="15264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156440" y="1515960"/>
                <a:ext cx="54720" cy="15264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057440" y="1518840"/>
                <a:ext cx="54720" cy="15264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7740720" y="1338120"/>
              <a:ext cx="0" cy="25524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389720" y="13248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9999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6200000">
              <a:off x="7400880" y="1521360"/>
              <a:ext cx="456840" cy="5112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16200000">
              <a:off x="6332760" y="1517760"/>
              <a:ext cx="456840" cy="5112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7837560" y="1203480"/>
            <a:ext cx="1198440" cy="984600"/>
            <a:chOff x="7837560" y="1203480"/>
            <a:chExt cx="1198440" cy="984600"/>
          </a:xfrm>
        </p:grpSpPr>
        <p:sp>
          <p:nvSpPr>
            <p:cNvPr id="392" name=""/>
            <p:cNvSpPr/>
            <p:nvPr/>
          </p:nvSpPr>
          <p:spPr>
            <a:xfrm>
              <a:off x="8345880" y="1668960"/>
              <a:ext cx="552960" cy="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8380800" y="1203480"/>
              <a:ext cx="1080" cy="496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841160" y="1711800"/>
              <a:ext cx="1106280" cy="4752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8246160" y="1877760"/>
              <a:ext cx="264960" cy="157320"/>
              <a:chOff x="8246160" y="1877760"/>
              <a:chExt cx="264960" cy="157320"/>
            </a:xfrm>
          </p:grpSpPr>
          <p:sp>
            <p:nvSpPr>
              <p:cNvPr id="396" name=""/>
              <p:cNvSpPr/>
              <p:nvPr/>
            </p:nvSpPr>
            <p:spPr>
              <a:xfrm>
                <a:off x="8246160" y="1877760"/>
                <a:ext cx="54720" cy="15408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456400" y="1877760"/>
                <a:ext cx="54720" cy="15408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358120" y="1880640"/>
                <a:ext cx="54720" cy="15444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9036000" y="1743120"/>
              <a:ext cx="0" cy="258120"/>
            </a:xfrm>
            <a:prstGeom prst="line">
              <a:avLst/>
            </a:prstGeom>
            <a:ln w="1908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687880" y="1728360"/>
              <a:ext cx="33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9999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16200000">
              <a:off x="8694720" y="1928880"/>
              <a:ext cx="462240" cy="5076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16200000">
              <a:off x="7634160" y="1925280"/>
              <a:ext cx="461880" cy="5076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837560" y="2133720"/>
              <a:ext cx="1106280" cy="4752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169920" y="763560"/>
            <a:ext cx="51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Influenza della forma dello scherm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69560" y="738360"/>
            <a:ext cx="88059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Schermi multistrato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06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26800" y="1417680"/>
            <a:ext cx="8699400" cy="477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Gli schermi multistrato sono formati da più lamiere con differenti proprietà elettriche o magnetiche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L’accoppiamento di uno schermo conduttore con uno ferromagnetico consente di ottenere elevati effetti schermanti grazie alle proprietà complementari dei due materiali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Schermi multistrato sono necessari nei materiali a grani orientati, sovrapponendo due lamierini con direzioni di facile magnetizzazione ortogonali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La posizione relativa dei diversi materiali può influenzare il fattore di schermatura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"/>
          <p:cNvGraphicFramePr/>
          <p:nvPr/>
        </p:nvGraphicFramePr>
        <p:xfrm>
          <a:off x="0" y="1357200"/>
          <a:ext cx="6508800" cy="44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57200"/>
                    <a:ext cx="6508800" cy="44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0" name=""/>
          <p:cNvGrpSpPr/>
          <p:nvPr/>
        </p:nvGrpSpPr>
        <p:grpSpPr>
          <a:xfrm>
            <a:off x="4762440" y="5864400"/>
            <a:ext cx="4024080" cy="828000"/>
            <a:chOff x="4762440" y="5864400"/>
            <a:chExt cx="4024080" cy="828000"/>
          </a:xfrm>
        </p:grpSpPr>
        <p:sp>
          <p:nvSpPr>
            <p:cNvPr id="411" name=""/>
            <p:cNvSpPr/>
            <p:nvPr/>
          </p:nvSpPr>
          <p:spPr>
            <a:xfrm>
              <a:off x="4762440" y="5864400"/>
              <a:ext cx="4024080" cy="828000"/>
            </a:xfrm>
            <a:prstGeom prst="foldedCorner">
              <a:avLst>
                <a:gd name="adj" fmla="val 12500"/>
              </a:avLst>
            </a:prstGeom>
            <a:solidFill>
              <a:srgbClr val="ccecff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10000"/>
                  </a:solidFill>
                  <a:latin typeface="Times New Roman"/>
                </a:rPr>
                <a:t>Fattore di schermatura:</a:t>
              </a:r>
              <a:r>
                <a:rPr b="0" lang="it-IT" sz="2400" spc="-1" strike="noStrike">
                  <a:solidFill>
                    <a:srgbClr val="0099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2" name=""/>
                <p:cNvSpPr txBox="1"/>
                <p:nvPr/>
              </p:nvSpPr>
              <p:spPr>
                <a:xfrm>
                  <a:off x="7315560" y="5981760"/>
                  <a:ext cx="1061640" cy="71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3" name=""/>
          <p:cNvGrpSpPr/>
          <p:nvPr/>
        </p:nvGrpSpPr>
        <p:grpSpPr>
          <a:xfrm>
            <a:off x="6718320" y="1963800"/>
            <a:ext cx="2425680" cy="2902680"/>
            <a:chOff x="6718320" y="1963800"/>
            <a:chExt cx="2425680" cy="2902680"/>
          </a:xfrm>
        </p:grpSpPr>
        <p:sp>
          <p:nvSpPr>
            <p:cNvPr id="414" name=""/>
            <p:cNvSpPr/>
            <p:nvPr/>
          </p:nvSpPr>
          <p:spPr>
            <a:xfrm>
              <a:off x="6718320" y="4406760"/>
              <a:ext cx="109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0000"/>
                  </a:solidFill>
                  <a:latin typeface="Arial"/>
                </a:rPr>
                <a:t>Fe-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7148520" y="2169720"/>
              <a:ext cx="1995480" cy="2540160"/>
              <a:chOff x="7148520" y="2169720"/>
              <a:chExt cx="1995480" cy="254016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7866000" y="4295520"/>
                <a:ext cx="428760" cy="414360"/>
                <a:chOff x="7866000" y="4295520"/>
                <a:chExt cx="428760" cy="41436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7866000" y="4295520"/>
                  <a:ext cx="85680" cy="414360"/>
                </a:xfrm>
                <a:prstGeom prst="rect">
                  <a:avLst/>
                </a:prstGeom>
                <a:solidFill>
                  <a:srgbClr val="ccecff"/>
                </a:solidFill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8209080" y="4295520"/>
                  <a:ext cx="85680" cy="414360"/>
                </a:xfrm>
                <a:prstGeom prst="rect">
                  <a:avLst/>
                </a:prstGeom>
                <a:solidFill>
                  <a:srgbClr val="ccecff"/>
                </a:solidFill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7156440" y="2169720"/>
                <a:ext cx="1735200" cy="1746000"/>
                <a:chOff x="7156440" y="2169720"/>
                <a:chExt cx="1735200" cy="174600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7156440" y="3833280"/>
                  <a:ext cx="1735200" cy="8244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rot="16200000">
                  <a:off x="6332400" y="3000960"/>
                  <a:ext cx="1735920" cy="8244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rot="16200000">
                  <a:off x="7969320" y="2996280"/>
                  <a:ext cx="1735560" cy="8244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3" name=""/>
              <p:cNvSpPr/>
              <p:nvPr/>
            </p:nvSpPr>
            <p:spPr>
              <a:xfrm>
                <a:off x="7148520" y="3933720"/>
                <a:ext cx="1744560" cy="11412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575560" y="4098600"/>
                <a:ext cx="56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0000"/>
                    </a:solidFill>
                    <a:latin typeface="Arial"/>
                  </a:rPr>
                  <a:t>Al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 flipV="1">
                <a:off x="8291520" y="4109400"/>
                <a:ext cx="279360" cy="166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7067520" y="1963800"/>
              <a:ext cx="1877760" cy="1989720"/>
              <a:chOff x="7067520" y="1963800"/>
              <a:chExt cx="1877760" cy="198972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7430040" y="2342880"/>
                <a:ext cx="1150560" cy="1154880"/>
                <a:chOff x="7430040" y="2342880"/>
                <a:chExt cx="1150560" cy="115488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7431480" y="2348280"/>
                  <a:ext cx="1149120" cy="1149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430040" y="2926800"/>
                  <a:ext cx="1150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flipV="1">
                  <a:off x="8010000" y="2342880"/>
                  <a:ext cx="0" cy="115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"/>
              <p:cNvSpPr/>
              <p:nvPr/>
            </p:nvSpPr>
            <p:spPr>
              <a:xfrm>
                <a:off x="8438040" y="3493800"/>
                <a:ext cx="35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212240" y="3464640"/>
                <a:ext cx="35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862040" y="3467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593560" y="2779200"/>
                <a:ext cx="351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067520" y="2894040"/>
                <a:ext cx="35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616880" y="2987640"/>
                <a:ext cx="35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0000"/>
                    </a:solidFill>
                    <a:latin typeface="Arial"/>
                  </a:rPr>
                  <a:t>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788240" y="1963800"/>
                <a:ext cx="35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0000"/>
                    </a:solidFill>
                    <a:latin typeface="Arial"/>
                  </a:rPr>
                  <a:t>H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585640" y="2124360"/>
                <a:ext cx="35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0000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173000" y="2095560"/>
                <a:ext cx="351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0000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954560" y="3418560"/>
                <a:ext cx="111960" cy="111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527680" y="3434400"/>
                <a:ext cx="111960" cy="111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359840" y="2868840"/>
                <a:ext cx="111960" cy="111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942320" y="2883600"/>
                <a:ext cx="111960" cy="111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527680" y="2865240"/>
                <a:ext cx="111960" cy="111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509320" y="2299680"/>
                <a:ext cx="111600" cy="111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954560" y="2291760"/>
                <a:ext cx="111960" cy="111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378560" y="2283840"/>
                <a:ext cx="111960" cy="111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350840" y="3430440"/>
                <a:ext cx="111960" cy="111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 flipV="1">
              <a:off x="7302600" y="3868200"/>
              <a:ext cx="233280" cy="576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169920" y="763560"/>
            <a:ext cx="791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Combinazione di schermi ferromagnetici e conduttori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836640" y="1603440"/>
          <a:ext cx="7574040" cy="52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1603440"/>
                    <a:ext cx="7574040" cy="5262480"/>
                  </a:xfrm>
                  <a:prstGeom prst="rect">
                    <a:avLst/>
                  </a:prstGeom>
                  <a:ln w="9360">
                    <a:solidFill>
                      <a:srgbClr val="0099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4" name=""/>
          <p:cNvSpPr/>
          <p:nvPr/>
        </p:nvSpPr>
        <p:spPr>
          <a:xfrm>
            <a:off x="446040" y="72864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Induzione magnetica dietro uno schermo ferromagnetico sempli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486320" y="2394000"/>
            <a:ext cx="884160" cy="538200"/>
          </a:xfrm>
          <a:prstGeom prst="rightArrow">
            <a:avLst>
              <a:gd name="adj1" fmla="val 50000"/>
              <a:gd name="adj2" fmla="val 41070"/>
            </a:avLst>
          </a:prstGeom>
          <a:solidFill>
            <a:srgbClr val="ff99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0680" y="671400"/>
            <a:ext cx="6097680" cy="41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 Narrow"/>
              </a:rPr>
              <a:t>Distanza distanza dalle sorgenti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79080" y="1246320"/>
            <a:ext cx="8348760" cy="28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Nei sistemi costituiti da due conduttori percorsi dalla stessa corrente in verso opposto, il campo si riduce, all’aumentare della distanza </a:t>
            </a:r>
            <a:r>
              <a:rPr b="0" i="1" lang="it-IT" sz="2400" spc="-1" strike="noStrike">
                <a:solidFill>
                  <a:srgbClr val="336699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 dai conduttori, all’incirca con legge inversamente proporzionale al quadrato della distanza </a:t>
            </a:r>
            <a:r>
              <a:rPr b="0" i="1" lang="it-IT" sz="2400" spc="-1" strike="noStrike">
                <a:solidFill>
                  <a:srgbClr val="336699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0" name="Q2_1" descr=""/>
          <p:cNvPicPr/>
          <p:nvPr/>
        </p:nvPicPr>
        <p:blipFill>
          <a:blip r:embed="rId1"/>
          <a:srcRect l="0" t="0" r="74204" b="72628"/>
          <a:stretch/>
        </p:blipFill>
        <p:spPr>
          <a:xfrm>
            <a:off x="63360" y="3541680"/>
            <a:ext cx="3961080" cy="2973600"/>
          </a:xfrm>
          <a:prstGeom prst="rect">
            <a:avLst/>
          </a:prstGeom>
          <a:ln w="0">
            <a:noFill/>
          </a:ln>
        </p:spPr>
      </p:pic>
      <p:pic>
        <p:nvPicPr>
          <p:cNvPr id="101" name="Q2_2" descr=""/>
          <p:cNvPicPr/>
          <p:nvPr/>
        </p:nvPicPr>
        <p:blipFill>
          <a:blip r:embed="rId2"/>
          <a:srcRect l="0" t="0" r="68012" b="62650"/>
          <a:stretch/>
        </p:blipFill>
        <p:spPr>
          <a:xfrm>
            <a:off x="4038480" y="2800440"/>
            <a:ext cx="49104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836640" y="1603440"/>
          <a:ext cx="7574040" cy="52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1603440"/>
                    <a:ext cx="7574040" cy="5262480"/>
                  </a:xfrm>
                  <a:prstGeom prst="rect">
                    <a:avLst/>
                  </a:prstGeom>
                  <a:ln w="9360">
                    <a:solidFill>
                      <a:srgbClr val="0099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465120" y="746280"/>
            <a:ext cx="833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Induzione generata dalle correnti parassite 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di uno strato 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conduttore posto dietro lo strato ferromagnetico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3622680" y="2567160"/>
            <a:ext cx="884160" cy="537840"/>
          </a:xfrm>
          <a:prstGeom prst="rightArrow">
            <a:avLst>
              <a:gd name="adj1" fmla="val 50000"/>
              <a:gd name="adj2" fmla="val 41098"/>
            </a:avLst>
          </a:prstGeom>
          <a:solidFill>
            <a:srgbClr val="ff99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1069920" y="1974960"/>
          <a:ext cx="7034400" cy="48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9920" y="1974960"/>
                    <a:ext cx="7034400" cy="4883040"/>
                  </a:xfrm>
                  <a:prstGeom prst="rect">
                    <a:avLst/>
                  </a:prstGeom>
                  <a:ln w="9360">
                    <a:solidFill>
                      <a:srgbClr val="0099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169920" y="763560"/>
            <a:ext cx="897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Induzione generata dalle correnti parassite 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</a:rPr>
              <a:t>di uno strato </a:t>
            </a:r>
            <a:r>
              <a:rPr b="0" lang="it-IT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conduttore posto dietro lo strato ferromagnetico, quando viene aggiunto un secondo strato ferromagnetico dietro al conduttor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 rot="16200000">
            <a:off x="3052440" y="3618720"/>
            <a:ext cx="555480" cy="452520"/>
          </a:xfrm>
          <a:prstGeom prst="rightArrow">
            <a:avLst>
              <a:gd name="adj1" fmla="val 50000"/>
              <a:gd name="adj2" fmla="val 30688"/>
            </a:avLst>
          </a:prstGeom>
          <a:solidFill>
            <a:srgbClr val="ff99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9560" y="671040"/>
            <a:ext cx="8805960" cy="52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Distanza tra i conduttori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174760" y="1245960"/>
            <a:ext cx="47246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Sistema di sbarre bifilar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5" name="Distmono" descr=""/>
          <p:cNvPicPr/>
          <p:nvPr/>
        </p:nvPicPr>
        <p:blipFill>
          <a:blip r:embed="rId1"/>
          <a:srcRect l="0" t="0" r="68543" b="72937"/>
          <a:stretch/>
        </p:blipFill>
        <p:spPr>
          <a:xfrm>
            <a:off x="368280" y="1714680"/>
            <a:ext cx="84470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07" name="Monofil" descr=""/>
          <p:cNvPicPr/>
          <p:nvPr/>
        </p:nvPicPr>
        <p:blipFill>
          <a:blip r:embed="rId1"/>
          <a:srcRect l="0" t="0" r="74153" b="77235"/>
          <a:stretch/>
        </p:blipFill>
        <p:spPr>
          <a:xfrm>
            <a:off x="233280" y="1192320"/>
            <a:ext cx="8697960" cy="5421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78040" y="766440"/>
            <a:ext cx="585000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Linea trifase in Alta Tension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711360"/>
            <a:ext cx="88059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6699"/>
                </a:solidFill>
                <a:latin typeface="Arial Narrow"/>
              </a:rPr>
              <a:t>Disposizione dei conduttori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47760" y="1377720"/>
            <a:ext cx="6818400" cy="47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Sistema trifase di conduttori a sbarr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2" name="Disttrif" descr=""/>
          <p:cNvPicPr/>
          <p:nvPr/>
        </p:nvPicPr>
        <p:blipFill>
          <a:blip r:embed="rId1"/>
          <a:srcRect l="0" t="-333" r="70733" b="73199"/>
          <a:stretch/>
        </p:blipFill>
        <p:spPr>
          <a:xfrm>
            <a:off x="619200" y="1754280"/>
            <a:ext cx="777240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90720" y="685800"/>
            <a:ext cx="77724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566360" y="768240"/>
            <a:ext cx="5200920" cy="130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Linea trifase in Alta Tensione (</a:t>
            </a:r>
            <a:r>
              <a:rPr b="0" i="1" lang="it-IT" sz="2800" spc="-1" strike="noStrike">
                <a:solidFill>
                  <a:srgbClr val="336699"/>
                </a:solidFill>
                <a:latin typeface="Arial"/>
              </a:rPr>
              <a:t>fonte ENEL</a:t>
            </a: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5" name="Traliccio" descr=""/>
          <p:cNvPicPr/>
          <p:nvPr/>
        </p:nvPicPr>
        <p:blipFill>
          <a:blip r:embed="rId1"/>
          <a:srcRect l="1887" t="0" r="58096" b="75259"/>
          <a:stretch/>
        </p:blipFill>
        <p:spPr>
          <a:xfrm>
            <a:off x="0" y="2421000"/>
            <a:ext cx="914400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095120"/>
            <a:ext cx="88869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Arial"/>
                <a:ea typeface="Arial"/>
              </a:rPr>
              <a:t>Una significativa riduzione dei livelli di campo magnetico è ottenuta utilizzando conduttori elettrici intrecciati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2908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2908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81240" y="20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41520" y="1927080"/>
          <a:ext cx="6067440" cy="493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1520" y="1927080"/>
                    <a:ext cx="6067440" cy="49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1835280" y="696960"/>
            <a:ext cx="5200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Sistema di distribuzione B:T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10:20:30Z</dcterms:created>
  <dc:creator>diei</dc:creator>
  <dc:description/>
  <dc:language>en-US</dc:language>
  <cp:lastModifiedBy>Elettromeccanica</cp:lastModifiedBy>
  <cp:lastPrinted>2001-04-30T19:01:29Z</cp:lastPrinted>
  <dcterms:modified xsi:type="dcterms:W3CDTF">2003-10-20T09:59:00Z</dcterms:modified>
  <cp:revision>276</cp:revision>
  <dc:subject/>
  <dc:title>I Campi Elettromagnetici: Definizioni Generali</dc:title>
</cp:coreProperties>
</file>